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8015-1E6F-4869-A3B7-9689D417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4CFF-992C-474C-8A75-1FDC90EE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FF8A-9EBA-4BDF-B0DA-14124E4A7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672E-BDFD-43FC-9EE6-DF70DEE3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A908-2C6F-4705-A085-9655CCA7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5E19-DE9B-4C6C-A75C-969D20A1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424D-DD50-4BBE-8F1B-95294314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BD5A-9DCD-48C4-B9AF-36F196D9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6E2C-40CE-4380-8D05-C83DCBAB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052C-AF63-440E-B2A4-65AA0852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A09F-B86F-4654-A905-F59F25B2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8351-8E84-4DB5-B084-454A616A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BD0C-68E8-4361-BBA2-B8ADAC8D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D54B-CC2B-4DEE-91DE-1534B2C1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1C43-8E52-4C6D-B12A-5D259DBD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3E85-1E51-4EEF-B549-5D783F41C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025B-613B-4C80-9E09-AB2C74781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6398-A697-4922-89C5-FD9DF589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E771-77B6-4264-B84B-D356EB5F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4C51-8747-4D5D-A277-4503E16D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86B3-AE0B-42C5-9F61-57DC9DAD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330D-40CC-4705-907F-A9AB8F8F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62AA-B38F-48C5-A480-2E845984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2A89-8B86-4DAC-8E79-DC80236F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4AC1-6BEE-494E-83B1-3D76167AD5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65DC-71F0-4036-BC5F-479D12A94A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ДОБРЫЙ ДЕНЬ 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98600" y="254160"/>
            <a:ext cx="598320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ВИДЫ ПИРАМИ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368360" cy="93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"/>
          <p:cNvGraphicFramePr/>
          <p:nvPr/>
        </p:nvGraphicFramePr>
        <p:xfrm>
          <a:off x="755640" y="1557360"/>
          <a:ext cx="647280" cy="4484520"/>
        </p:xfrm>
        <a:graphic>
          <a:graphicData uri="http://schemas.openxmlformats.org/drawingml/2006/table">
            <a:tbl>
              <a:tblPr/>
              <a:tblGrid>
                <a:gridCol w="647280"/>
              </a:tblGrid>
              <a:tr h="44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ПИРАМИД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35" name=""/>
          <p:cNvSpPr/>
          <p:nvPr/>
        </p:nvSpPr>
        <p:spPr>
          <a:xfrm>
            <a:off x="755640" y="1557360"/>
            <a:ext cx="0" cy="4464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03280" y="1557360"/>
            <a:ext cx="0" cy="4464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55640" y="155736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55640" y="602136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43480" y="2060640"/>
            <a:ext cx="396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Неправильная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ирами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29600" y="4437000"/>
            <a:ext cx="36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равильная пирамид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6299280" y="1411200"/>
          <a:ext cx="2087640" cy="216072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21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99ff"/>
                      </a:solidFill>
                    </a:lnL>
                    <a:lnR w="18720">
                      <a:solidFill>
                        <a:srgbClr val="9999ff"/>
                      </a:solidFill>
                    </a:lnR>
                    <a:lnT w="18720">
                      <a:solidFill>
                        <a:srgbClr val="9999ff"/>
                      </a:solidFill>
                    </a:lnT>
                    <a:lnB w="18720">
                      <a:solidFill>
                        <a:srgbClr val="9999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 flipV="1">
            <a:off x="6442200" y="2492280"/>
            <a:ext cx="722160" cy="790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164360" y="2492280"/>
            <a:ext cx="1006560" cy="2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42200" y="3282840"/>
            <a:ext cx="1224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7666200" y="2708280"/>
            <a:ext cx="504720" cy="57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7164360" y="1627200"/>
            <a:ext cx="287280" cy="865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442200" y="1627200"/>
            <a:ext cx="100944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451640" y="1627200"/>
            <a:ext cx="21456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451640" y="1627200"/>
            <a:ext cx="719280" cy="10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7451640" y="1700280"/>
            <a:ext cx="1800" cy="1295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1403280" y="2492280"/>
            <a:ext cx="1368360" cy="115416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03280" y="3645000"/>
            <a:ext cx="1584360" cy="86364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300720" y="3716280"/>
          <a:ext cx="2087640" cy="216072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21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99ff"/>
                      </a:solidFill>
                    </a:lnL>
                    <a:lnR w="18720">
                      <a:solidFill>
                        <a:srgbClr val="9999ff"/>
                      </a:solidFill>
                    </a:lnR>
                    <a:lnT w="18720">
                      <a:solidFill>
                        <a:srgbClr val="9999ff"/>
                      </a:solidFill>
                    </a:lnT>
                    <a:lnB w="18720">
                      <a:solidFill>
                        <a:srgbClr val="9999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54" name=""/>
          <p:cNvSpPr/>
          <p:nvPr/>
        </p:nvSpPr>
        <p:spPr>
          <a:xfrm flipV="1">
            <a:off x="6515280" y="4869000"/>
            <a:ext cx="504720" cy="57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20000" y="486900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515280" y="5443560"/>
            <a:ext cx="122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7740720" y="4869000"/>
            <a:ext cx="504720" cy="57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7019640" y="3860640"/>
            <a:ext cx="360360" cy="1008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514920" y="3860640"/>
            <a:ext cx="86508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80360" y="3860640"/>
            <a:ext cx="35856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80360" y="3860640"/>
            <a:ext cx="863640" cy="10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6516720" y="4869000"/>
            <a:ext cx="1728720" cy="57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020000" y="4869000"/>
            <a:ext cx="718920" cy="57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7380360" y="386028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77080" y="4941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451640" y="479736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956720" y="508464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236000" y="5373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0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8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9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0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1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2840"/>
                            </p:stCondLst>
                            <p:childTnLst>
                              <p:par>
                                <p:cTn id="10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1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0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3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6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2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4840"/>
                            </p:stCondLst>
                            <p:childTnLst>
                              <p:par>
                                <p:cTn id="10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6840"/>
                            </p:stCondLst>
                            <p:childTnLst>
                              <p:par>
                                <p:cTn id="10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0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1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2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7600"/>
                            </p:stCondLst>
                            <p:childTnLst>
                              <p:par>
                                <p:cTn id="10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2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8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1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4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3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6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9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5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8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04920" y="189000"/>
            <a:ext cx="1314360" cy="1008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1476360" y="260280"/>
            <a:ext cx="712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ПРАВИЛЬНАЯ ПИРАМИ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1341360"/>
            <a:ext cx="837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ирамид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называется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равильной,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если в основа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лежит правильный многоугольник, а отрезок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соединяющий вершину пирамиды с центром её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основания, является высотой пирами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01800" y="465300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76360" y="450864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81080" y="479592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60360" y="508464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948000" y="3573360"/>
            <a:ext cx="360360" cy="100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6443280" y="3573360"/>
            <a:ext cx="86508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08720" y="3573360"/>
            <a:ext cx="35892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08720" y="3573360"/>
            <a:ext cx="86364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53820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42920" y="4581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820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176364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8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888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125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2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844720" y="465300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419640" y="450864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47959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03640" y="508464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2481120" y="4581000"/>
            <a:ext cx="5050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86200" y="4581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8112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370692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34216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0216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06908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6616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484360" y="4581000"/>
            <a:ext cx="1728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87640" y="4581360"/>
            <a:ext cx="7192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89440" y="465300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64000" y="4508640"/>
            <a:ext cx="7164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869080" y="47959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48360" y="508464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425840" y="4581000"/>
            <a:ext cx="5050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930920" y="4581360"/>
            <a:ext cx="1223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2584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565164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86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4688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13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510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429080" y="4581000"/>
            <a:ext cx="1728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32360" y="4581360"/>
            <a:ext cx="7192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292720" y="357300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94520" y="32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21440" y="357336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05440" y="465300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80360" y="450864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885080" y="479592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164360" y="508464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644220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946920" y="4581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44220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766764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302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1852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029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26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445080" y="4581000"/>
            <a:ext cx="17290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948360" y="4581360"/>
            <a:ext cx="7192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7308720" y="357300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0880" y="32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08720" y="357336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07852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3416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09488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7840" y="2800440"/>
            <a:ext cx="585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900000" y="2924280"/>
            <a:ext cx="57088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Боковые ребра рав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Боковые грани – рав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равнобедренные треугольн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0080" y="4724280"/>
            <a:ext cx="598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Апофема </a:t>
            </a:r>
            <a:r>
              <a:rPr b="0" i="1" lang="ru-RU" sz="2400" spc="-1" strike="noStrike">
                <a:solidFill>
                  <a:srgbClr val="9900ff"/>
                </a:solidFill>
                <a:latin typeface="Comic Sans MS"/>
              </a:rPr>
              <a:t>правильной пирамиды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ff"/>
                </a:solidFill>
                <a:latin typeface="Comic Sans MS"/>
              </a:rPr>
              <a:t>высота ее боковой грани, проведен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ff"/>
                </a:solidFill>
                <a:latin typeface="Comic Sans MS"/>
              </a:rPr>
              <a:t>из вершины.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308720" y="3573360"/>
            <a:ext cx="648000" cy="129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010720" y="474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885080" y="4797360"/>
            <a:ext cx="71640" cy="7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956720" y="465300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956720" y="472428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40720" y="487044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740720" y="494172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687040" y="566100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K -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апофе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0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2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3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4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55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00"/>
                            </p:stCondLst>
                            <p:childTnLst>
                              <p:par>
                                <p:cTn id="1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"/>
                            </p:stCondLst>
                            <p:childTnLst>
                              <p:par>
                                <p:cTn id="1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2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0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6500"/>
                            </p:stCondLst>
                            <p:childTnLst>
                              <p:par>
                                <p:cTn id="1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1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2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3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8" dur="8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9" dur="8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0" dur="8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800"/>
                            </p:stCondLst>
                            <p:childTnLst>
                              <p:par>
                                <p:cTn id="14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4" dur="8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5" dur="8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6" dur="8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1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2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3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6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7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8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1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2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3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500"/>
                            </p:stCondLst>
                            <p:childTnLst>
                              <p:par>
                                <p:cTn id="1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9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0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1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ПЛОЩАДЬ БОКОВОЙ ПОВЕРХНОСТИ ПРАВИЛЬНОЙ ПИРАМИ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76360" y="1916280"/>
            <a:ext cx="561816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бок.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*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3213000"/>
            <a:ext cx="74898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где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ru-RU" sz="3600" spc="-1" strike="noStrike">
                <a:solidFill>
                  <a:srgbClr val="9900cc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– периметр основан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 –апофема правильной пирами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0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8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2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2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4" dur="2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8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9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0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40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ПЛОЩАДЬ ПОЛНОЙ ПОВЕРХНОСТИ ПИРАМИ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71640" y="2349360"/>
            <a:ext cx="74167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олн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. = 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бок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. + 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сн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900000" y="4005360"/>
            <a:ext cx="7489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где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ru-RU" sz="3600" spc="-1" strike="noStrike">
                <a:solidFill>
                  <a:srgbClr val="9900cc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– площадь осно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0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7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2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2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3" dur="20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7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8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9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40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ОБЪЁМ ПИРАМИ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71640" y="2349360"/>
            <a:ext cx="74167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= 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сн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00000" y="4005360"/>
            <a:ext cx="7489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где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ru-RU" sz="3600" spc="-1" strike="noStrike">
                <a:solidFill>
                  <a:srgbClr val="9900cc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– площадь основания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,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 – высота пирами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780000" y="1989000"/>
                <a:ext cx="49356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0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6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2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2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2" dur="20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6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7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8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763640" y="260280"/>
            <a:ext cx="682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КЛЮЧЕВЫЕ СЛОВА УРОК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677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Пирами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Осн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Боковые гр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Боковые реб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Верш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Высота пирам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Правильная пирам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Апофе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36836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4" dur="indefinite" restart="never" nodeType="tmRoot">
          <p:childTnLst>
            <p:seq>
              <p:cTn id="1605" dur="indefinite" nodeType="mainSeq">
                <p:childTnLst>
                  <p:par>
                    <p:cTn id="1606" fill="hold">
                      <p:stCondLst>
                        <p:cond delay="0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0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5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6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7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360"/>
                            </p:stCondLst>
                            <p:childTnLst>
                              <p:par>
                                <p:cTn id="16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1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2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3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760"/>
                            </p:stCondLst>
                            <p:childTnLst>
                              <p:par>
                                <p:cTn id="16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7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8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9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280"/>
                            </p:stCondLst>
                            <p:childTnLst>
                              <p:par>
                                <p:cTn id="16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3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4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5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1800"/>
                            </p:stCondLst>
                            <p:childTnLst>
                              <p:par>
                                <p:cTn id="16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9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0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1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2120"/>
                            </p:stCondLst>
                            <p:childTnLst>
                              <p:par>
                                <p:cTn id="16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5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6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7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2720"/>
                            </p:stCondLst>
                            <p:childTnLst>
                              <p:par>
                                <p:cTn id="16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1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2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3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3480"/>
                            </p:stCondLst>
                            <p:childTnLst>
                              <p:par>
                                <p:cTn id="16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7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8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9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250920" y="165240"/>
            <a:ext cx="1441440" cy="9903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763640" y="260280"/>
            <a:ext cx="6824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НА СЛЕДУЮЩЕМ УРОК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00000" y="2060640"/>
            <a:ext cx="7489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Comic Sans MS"/>
              </a:rPr>
              <a:t>Решение простейших задач на вычисление площади поверхности и объема пирамид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0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0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1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2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484000" y="1427040"/>
            <a:ext cx="626436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СПАСИБО ЗА УРО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066680" y="3441240"/>
            <a:ext cx="7250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00cc"/>
              </a:solidFill>
              <a:latin typeface="Comic Sans MS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19447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3" dur="indefinite" restart="never" nodeType="tmRoot">
          <p:childTnLst>
            <p:seq>
              <p:cTn id="1674" dur="indefinite" nodeType="mainSeq">
                <p:childTnLst>
                  <p:par>
                    <p:cTn id="1675" fill="hold">
                      <p:stCondLst>
                        <p:cond delay="0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9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ЭТО МЫ ЗНАЕМ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95280" y="1484280"/>
          <a:ext cx="4508640" cy="2468520"/>
        </p:xfrm>
        <a:graphic>
          <a:graphicData uri="http://schemas.openxmlformats.org/drawingml/2006/table">
            <a:tbl>
              <a:tblPr/>
              <a:tblGrid>
                <a:gridCol w="287280"/>
                <a:gridCol w="285480"/>
                <a:gridCol w="288720"/>
                <a:gridCol w="283680"/>
                <a:gridCol w="287280"/>
                <a:gridCol w="285480"/>
                <a:gridCol w="285480"/>
                <a:gridCol w="288720"/>
                <a:gridCol w="216000"/>
                <a:gridCol w="286920"/>
                <a:gridCol w="285840"/>
                <a:gridCol w="286920"/>
                <a:gridCol w="284040"/>
                <a:gridCol w="288720"/>
                <a:gridCol w="285480"/>
                <a:gridCol w="282600"/>
              </a:tblGrid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gridSpan="5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4140360" y="1341360"/>
            <a:ext cx="454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Многогранник, составленный из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двух равных 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-угольников, лежащи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в параллельных плоскостях и 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    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араллелограмм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28560" y="2421000"/>
            <a:ext cx="353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2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рямая призма, осн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которой правильные много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угольн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3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AA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D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4.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ризма, боковые реб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которой не равны высот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37440" y="580536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6805440" y="5371920"/>
            <a:ext cx="432000" cy="43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805440" y="5229000"/>
            <a:ext cx="1008360" cy="142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813800" y="5229360"/>
            <a:ext cx="431640" cy="576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4653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7164360" y="4219560"/>
            <a:ext cx="43200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7164360" y="4076280"/>
            <a:ext cx="100800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72360" y="4076640"/>
            <a:ext cx="43200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813800" y="4076640"/>
            <a:ext cx="358560" cy="1152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805080" y="4221000"/>
            <a:ext cx="358920" cy="115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245080" y="4653000"/>
            <a:ext cx="36036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7237080" y="4653000"/>
            <a:ext cx="35892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96360" y="4653000"/>
            <a:ext cx="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237080" y="4076640"/>
            <a:ext cx="934920" cy="1728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19960" y="508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13800" y="50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173800" y="38606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05440" y="40035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98000" y="560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99280" y="429264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77440" y="566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6520" y="4292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96360" y="566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40720" y="566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26520" y="5803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4149720"/>
            <a:ext cx="4896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5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ризма, боковые ребра которой перпендикулярны основания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6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ABC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7. DB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8. D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41800" y="148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60720" y="17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308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2616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4980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708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13440" y="32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7174080"/>
            <a:ext cx="28728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2728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364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1964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0836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58920" y="1773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76360" y="1773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63640" y="1773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092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40000" y="17733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17733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3640" y="17733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0836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2060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52720" y="206064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41800" y="20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29080" y="20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18160" y="206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05800" y="2060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2580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41800" y="234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29440" y="23493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18520" y="2349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33440" y="2349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144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1016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97440" y="234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8652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47640" y="270828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6364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0920" y="270828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2728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1636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2997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7636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6364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997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2728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4000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27280" y="3284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32846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364500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4328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8728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7636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6364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092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4000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410920" y="1484280"/>
            <a:ext cx="287640" cy="1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11280" y="1484280"/>
            <a:ext cx="0" cy="244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00360" y="1484280"/>
            <a:ext cx="0" cy="244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410920" y="3933720"/>
            <a:ext cx="287640" cy="1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02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ПИРАМИД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1944360" cy="1440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00000" y="3141720"/>
            <a:ext cx="777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Из истории развития и применения пирам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Определение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Элементы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Виды пирамид, их особен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Площадь поверхности и объем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ПР по вычислению </a:t>
            </a: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1" i="1" lang="ru-RU" sz="1400" spc="-1" strike="noStrike">
                <a:solidFill>
                  <a:srgbClr val="0000ff"/>
                </a:solidFill>
                <a:latin typeface="Comic Sans MS"/>
              </a:rPr>
              <a:t>пов.</a:t>
            </a: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 и </a:t>
            </a: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V</a:t>
            </a: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Решение задач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440"/>
                            </p:stCondLst>
                            <p:childTnLst>
                              <p:par>
                                <p:cTn id="3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240"/>
                            </p:stCondLst>
                            <p:childTnLst>
                              <p:par>
                                <p:cTn id="3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92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960"/>
                            </p:stCondLst>
                            <p:childTnLst>
                              <p:par>
                                <p:cTn id="3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280"/>
                            </p:stCondLst>
                            <p:childTnLst>
                              <p:par>
                                <p:cTn id="3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480"/>
                            </p:stCondLst>
                            <p:childTnLst>
                              <p:par>
                                <p:cTn id="3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3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484360" y="260280"/>
            <a:ext cx="507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ЦЕЛИ УРОКА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656000" cy="1001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39640" y="148428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Познакомиться с историей развития пирамид и их применение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Сформулировать определение пирамиды и её элементов через сравнение и обобщен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Рассмотреть виды пирамид, их особен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Познакомится с формулами площади боковой и полной поверхности пирамиды, объёма пирами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5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112120" y="26028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НЕМНОГО ИСТОР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780000" y="1413000"/>
            <a:ext cx="4392360" cy="22222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68360" y="1341360"/>
            <a:ext cx="3166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«Пирамида» - от греческ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слова «пюрамис», которы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греки называли египет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пирами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06280" y="254160"/>
            <a:ext cx="1295640" cy="7315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3851280" y="3716280"/>
            <a:ext cx="4105440" cy="24494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851280" y="3645000"/>
            <a:ext cx="36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Мексиканская пирамида Солн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76720" y="328464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Египетские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611280" y="3933720"/>
            <a:ext cx="3166920" cy="2087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39640" y="5445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Гора Кайлас на Тибе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120"/>
                            </p:stCondLst>
                            <p:childTnLst>
                              <p:par>
                                <p:cTn id="4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712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9120"/>
                            </p:stCondLst>
                            <p:childTnLst>
                              <p:par>
                                <p:cTn id="4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112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3120"/>
                            </p:stCondLst>
                            <p:childTnLst>
                              <p:par>
                                <p:cTn id="4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12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8055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ПИРАМИДЫ В АРХИТЕКТУ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20640" y="1628640"/>
            <a:ext cx="3675240" cy="19558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427640" y="1484280"/>
            <a:ext cx="3960720" cy="2246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692360" y="3716280"/>
            <a:ext cx="5040360" cy="2449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788000" y="13413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Новый вход в Лувр, Пари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6920" y="134136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Comic Sans MS"/>
              </a:rPr>
              <a:t>Торговый центр в Илинге,                        Лонд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60200" y="364500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Александровский мая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152720" cy="93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40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8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711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ОПРЕДЕЛ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584360" cy="9716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364000" y="1557360"/>
            <a:ext cx="2233800" cy="18651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627280" y="2276640"/>
            <a:ext cx="1008000" cy="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27280" y="2276640"/>
            <a:ext cx="72072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348000" y="2276280"/>
            <a:ext cx="28728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59280" y="1484280"/>
            <a:ext cx="288720" cy="1224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627280" y="1484280"/>
            <a:ext cx="432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59280" y="1484280"/>
            <a:ext cx="576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900000" y="2204640"/>
            <a:ext cx="649440" cy="7164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00000" y="2276640"/>
            <a:ext cx="50508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405080" y="2276280"/>
            <a:ext cx="50292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32000" y="1484280"/>
            <a:ext cx="73080" cy="1224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00000" y="1484280"/>
            <a:ext cx="432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32000" y="1484280"/>
            <a:ext cx="576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20720" y="2205000"/>
            <a:ext cx="287280" cy="7164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32000" y="1555920"/>
            <a:ext cx="217440" cy="64908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60600" y="2637000"/>
            <a:ext cx="1679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3-угольник 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3-уголь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4600" y="2637000"/>
            <a:ext cx="1679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4-угольник 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4 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3-уголь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6000" y="352440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6-угольник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2840" y="407664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10-угольник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1040" y="465300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i="1" lang="ru-RU" sz="1800" spc="-1" strike="noStrike">
                <a:solidFill>
                  <a:srgbClr val="0000ff"/>
                </a:solidFill>
                <a:latin typeface="Comic Sans MS"/>
              </a:rPr>
              <a:t>-угольник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95640" y="2637000"/>
            <a:ext cx="576360" cy="2663640"/>
          </a:xfrm>
          <a:custGeom>
            <a:avLst/>
            <a:gdLst>
              <a:gd name="textAreaLeft" fmla="*/ 0 w 576360"/>
              <a:gd name="textAreaRight" fmla="*/ 208080 w 57636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88000" y="1628640"/>
            <a:ext cx="216000" cy="17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6804000" y="2637000"/>
            <a:ext cx="72072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588000" y="1628640"/>
            <a:ext cx="936720" cy="10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436720" y="1628640"/>
            <a:ext cx="1150920" cy="136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37080" y="2997360"/>
            <a:ext cx="13669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437080" y="2349360"/>
            <a:ext cx="863640" cy="6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300720" y="1628640"/>
            <a:ext cx="287280" cy="7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00720" y="234936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04000" y="2349360"/>
            <a:ext cx="720720" cy="2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88000" y="1628640"/>
            <a:ext cx="216000" cy="7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03640" y="3429000"/>
            <a:ext cx="324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ff"/>
                </a:solidFill>
                <a:latin typeface="Comic Sans MS"/>
              </a:rPr>
              <a:t>Пирамида </a:t>
            </a: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– это   многогранник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составленный и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ff"/>
                </a:solidFill>
                <a:latin typeface="Comic Sans MS"/>
              </a:rPr>
              <a:t>n-</a:t>
            </a: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угольника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ff"/>
                </a:solidFill>
                <a:latin typeface="Comic Sans MS"/>
              </a:rPr>
              <a:t>n</a:t>
            </a: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 треугольников</a:t>
            </a:r>
            <a:r>
              <a:rPr b="0" i="1" lang="en-US" sz="2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25800" y="350028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3-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25800" y="407664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3-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97440" y="465300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3-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1320" y="5373720"/>
            <a:ext cx="296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Comic Sans MS"/>
              </a:rPr>
              <a:t>Название пирами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Comic Sans MS"/>
              </a:rPr>
              <a:t>определяет </a:t>
            </a:r>
            <a:r>
              <a:rPr b="1" i="1" lang="en-US" sz="1800" spc="-1" strike="noStrike">
                <a:solidFill>
                  <a:srgbClr val="008000"/>
                </a:solidFill>
                <a:latin typeface="Comic Sans MS"/>
              </a:rPr>
              <a:t>n</a:t>
            </a:r>
            <a:r>
              <a:rPr b="1" i="1" lang="ru-RU" sz="1800" spc="-1" strike="noStrike">
                <a:solidFill>
                  <a:srgbClr val="008000"/>
                </a:solidFill>
                <a:latin typeface="Comic Sans MS"/>
              </a:rPr>
              <a:t>-угольни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40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5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68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368360" cy="957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774080" y="333360"/>
            <a:ext cx="642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ЭЛЕМЕНТЫ ПИРАМИД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00680" y="1268280"/>
            <a:ext cx="533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Из чего состоит пирамида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42920" y="1773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82000" y="1773360"/>
            <a:ext cx="245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Осн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Боковые гра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Боковые реб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Верш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Высо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5280" y="3573360"/>
            <a:ext cx="90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Можно ли в пирамиде провести диагональ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8360" y="3716280"/>
            <a:ext cx="813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1)Дайте определения всем элементам пирамиды (в случае затрудне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воспользуйтесь учебником стр.65, п.28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2)Начертите треугольную пирамиду </a:t>
            </a: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PABC,</a:t>
            </a: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 выпишите её элемен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513080" cy="9572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955240" y="260280"/>
            <a:ext cx="470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ПРОВЕРЬ СЕБ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58920" y="1555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16040" y="5006880"/>
            <a:ext cx="16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Высот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35640" y="5229360"/>
            <a:ext cx="29527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435640" y="4292640"/>
            <a:ext cx="1800360" cy="936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236000" y="4292640"/>
            <a:ext cx="1152360" cy="10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435280" y="1844640"/>
            <a:ext cx="865080" cy="338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00720" y="1844640"/>
            <a:ext cx="935280" cy="244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0720" y="1844640"/>
            <a:ext cx="2087640" cy="352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00720" y="1844640"/>
            <a:ext cx="0" cy="3240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19640" y="515772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15680" y="429264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100360" y="537372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59040" y="15573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84440" y="4749840"/>
            <a:ext cx="4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00720" y="1844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27640" y="5013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6084720" y="49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84720" y="4941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15040" y="126828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Основание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900ff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40000" y="16938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38160" y="1262160"/>
            <a:ext cx="24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многоугольник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2880" y="2055960"/>
            <a:ext cx="26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Боковые грани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24240" y="206064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треугольники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74920" y="47196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P, BP, 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9720" y="371160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Боковые ребр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20720" y="29908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18920" y="291924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Вершин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4360" y="2924280"/>
            <a:ext cx="466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                 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общая точка все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боковых граней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50680" y="32781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55640" y="371628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                         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отрез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соединяющие вершину 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вершинами основания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87280" y="24861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P, BCP, A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501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             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перпендикуляр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проведенный из вершины к плоскости основания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53960" y="573408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35640" y="5230800"/>
            <a:ext cx="2952720" cy="14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435640" y="4294080"/>
            <a:ext cx="1800360" cy="9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36000" y="4294080"/>
            <a:ext cx="1152360" cy="1081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5651640" y="5086440"/>
            <a:ext cx="71280" cy="14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795640" y="4941720"/>
            <a:ext cx="142920" cy="289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938560" y="4870440"/>
            <a:ext cx="215640" cy="360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6154200" y="4726080"/>
            <a:ext cx="287640" cy="50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372360" y="4581360"/>
            <a:ext cx="358560" cy="6494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514920" y="4438800"/>
            <a:ext cx="502920" cy="863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6730920" y="4365720"/>
            <a:ext cx="503280" cy="936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6946560" y="4438800"/>
            <a:ext cx="431640" cy="863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7164000" y="4581360"/>
            <a:ext cx="358920" cy="720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7380360" y="4726080"/>
            <a:ext cx="285840" cy="576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7523280" y="4870440"/>
            <a:ext cx="287280" cy="503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7738920" y="5014800"/>
            <a:ext cx="216000" cy="358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954560" y="5086440"/>
            <a:ext cx="142920" cy="288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8172360" y="5230800"/>
            <a:ext cx="69840" cy="142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5435640" y="4292640"/>
            <a:ext cx="1800360" cy="9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435280" y="1917720"/>
            <a:ext cx="865080" cy="338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300720" y="1917720"/>
            <a:ext cx="935280" cy="2448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6227640" y="2060640"/>
            <a:ext cx="144720" cy="216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6156360" y="2276640"/>
            <a:ext cx="288720" cy="333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940000" y="2421000"/>
            <a:ext cx="576360" cy="9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652720" y="2610000"/>
            <a:ext cx="933480" cy="1755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5508360" y="2852640"/>
            <a:ext cx="1150920" cy="237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795640" y="3141720"/>
            <a:ext cx="934920" cy="194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6156360" y="3357720"/>
            <a:ext cx="719280" cy="1584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6445080" y="3645000"/>
            <a:ext cx="501840" cy="1081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660720" y="3860640"/>
            <a:ext cx="430200" cy="792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6948360" y="4149720"/>
            <a:ext cx="216000" cy="358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5435280" y="1844640"/>
            <a:ext cx="865080" cy="338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27640" y="1773360"/>
            <a:ext cx="1447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300720" y="1916280"/>
            <a:ext cx="0" cy="3097080"/>
          </a:xfrm>
          <a:prstGeom prst="line">
            <a:avLst/>
          </a:prstGeom>
          <a:ln w="7632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000"/>
                            </p:stCondLst>
                            <p:childTnLst>
                              <p:par>
                                <p:cTn id="7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600"/>
                            </p:stCondLst>
                            <p:childTnLst>
                              <p:par>
                                <p:cTn id="7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560"/>
                            </p:stCondLst>
                            <p:childTnLst>
                              <p:par>
                                <p:cTn id="8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0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1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2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3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8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9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0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160"/>
                            </p:stCondLst>
                            <p:childTnLst>
                              <p:par>
                                <p:cTn id="9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4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5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6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7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8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9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4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5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6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880"/>
                            </p:stCondLst>
                            <p:childTnLst>
                              <p:par>
                                <p:cTn id="9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0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1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2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500"/>
                            </p:stCondLst>
                            <p:childTnLst>
                              <p:par>
                                <p:cTn id="9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2200"/>
                            </p:stCondLst>
                            <p:childTnLst>
                              <p:par>
                                <p:cTn id="9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7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8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9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0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05:06:42Z</dcterms:created>
  <dc:creator>ТЕЛЕЖКА</dc:creator>
  <dc:description/>
  <dc:language>en-US</dc:language>
  <cp:lastModifiedBy>User</cp:lastModifiedBy>
  <dcterms:modified xsi:type="dcterms:W3CDTF">2010-08-26T07:05:29Z</dcterms:modified>
  <cp:revision>18</cp:revision>
  <dc:subject/>
  <dc:title>Презентация PowerPoint</dc:title>
</cp:coreProperties>
</file>