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EAF-F63E-4B50-9B10-A599B9E4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A6D-F13B-474A-91F8-4D6DC26B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148-C68C-4555-A2E7-D3D0F880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B70-0529-4F66-8CAA-5E94633B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0A3-80CF-4647-B3DB-DCC020D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C90D-0CF6-48A9-AB4F-2FCF6D47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860C-6DD1-44B0-BCF4-CAE017A6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493B-43EE-45A9-AFE6-B8B06DDC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51F-CEB8-457E-8409-8B277E0E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452F-29DE-4E73-8903-EB43ECB3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353-9890-4A01-A535-3643274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EA80-A694-4FDC-9A6C-B44EEF6C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4AA3-AB1B-48DE-859F-441D754C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89D-7EC7-47E3-B1B1-27C927B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CAF3-E638-4271-8B7F-4B2B41A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C553-E559-458A-A4BB-74F2088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65D3-22FB-4A5F-985A-A4A64ADA5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89E-1F38-4F10-81AF-956A1598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FC2-0DDB-4213-B7CA-2250978F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A1F-4C4F-4759-AB18-A62FAA9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425-7AC1-48F5-BF30-B31C1ADF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816-06AF-42E3-811C-238DC7CD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FA6-523F-45E9-BC52-46A66CB0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FCC-3757-45C5-B7D8-CAEAB2D8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555A-A26B-4A0F-B9FD-599B6D225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7C9-6694-44D0-959B-B3242FE0C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ДОБРЫЙ ДЕНЬ 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8600" y="254160"/>
            <a:ext cx="598320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ВИДЫ ПИРАМИ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368360" cy="93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755640" y="1557360"/>
          <a:ext cx="647280" cy="4484520"/>
        </p:xfrm>
        <a:graphic>
          <a:graphicData uri="http://schemas.openxmlformats.org/drawingml/2006/table">
            <a:tbl>
              <a:tblPr/>
              <a:tblGrid>
                <a:gridCol w="647280"/>
              </a:tblGrid>
              <a:tr h="44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ПИРАМИД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75564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03280" y="1557360"/>
            <a:ext cx="0" cy="4464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55640" y="1557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602136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43480" y="2060640"/>
            <a:ext cx="396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Неправильна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29600" y="443700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ая 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299280" y="141120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 flipV="1">
            <a:off x="6442200" y="2492280"/>
            <a:ext cx="722160" cy="790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4360" y="2492280"/>
            <a:ext cx="1006560" cy="2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42200" y="3282840"/>
            <a:ext cx="1224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666200" y="270828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164360" y="1627200"/>
            <a:ext cx="287280" cy="865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2200" y="1627200"/>
            <a:ext cx="1009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51640" y="1627200"/>
            <a:ext cx="21456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51640" y="1627200"/>
            <a:ext cx="71928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7451640" y="1700280"/>
            <a:ext cx="1800" cy="1295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403280" y="2492280"/>
            <a:ext cx="1368360" cy="11541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3280" y="3645000"/>
            <a:ext cx="1584360" cy="863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300720" y="3716280"/>
          <a:ext cx="2087640" cy="2160720"/>
        </p:xfrm>
        <a:graphic>
          <a:graphicData uri="http://schemas.openxmlformats.org/drawingml/2006/table">
            <a:tbl>
              <a:tblPr/>
              <a:tblGrid>
                <a:gridCol w="2087640"/>
              </a:tblGrid>
              <a:tr h="21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9999ff"/>
                      </a:solidFill>
                    </a:lnL>
                    <a:lnR w="18720">
                      <a:solidFill>
                        <a:srgbClr val="9999ff"/>
                      </a:solidFill>
                    </a:lnR>
                    <a:lnT w="18720">
                      <a:solidFill>
                        <a:srgbClr val="9999ff"/>
                      </a:solidFill>
                    </a:lnT>
                    <a:lnB w="18720">
                      <a:solidFill>
                        <a:srgbClr val="9999ff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 flipV="1">
            <a:off x="651528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20000" y="486900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5280" y="54435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7740720" y="4869000"/>
            <a:ext cx="504720" cy="57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19640" y="3860640"/>
            <a:ext cx="360360" cy="10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514920" y="386064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80360" y="3860640"/>
            <a:ext cx="35856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80360" y="3860640"/>
            <a:ext cx="86364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516720" y="4869000"/>
            <a:ext cx="17287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20000" y="4869000"/>
            <a:ext cx="718920" cy="574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380360" y="3860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708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51640" y="4797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5672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36000" y="537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9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0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1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840"/>
                            </p:stCondLst>
                            <p:childTnLst>
                              <p:par>
                                <p:cTn id="10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3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484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6840"/>
                            </p:stCondLst>
                            <p:childTnLst>
                              <p:par>
                                <p:cTn id="1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0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7600"/>
                            </p:stCondLst>
                            <p:childTnLst>
                              <p:par>
                                <p:cTn id="108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8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1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9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5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1314360" cy="100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76360" y="260280"/>
            <a:ext cx="712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ПРАВИЛЬНАЯ ПИРАМИ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1341360"/>
            <a:ext cx="837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ирамид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называется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правильной,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если в основан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лежит правильный многоугольник, а отрезо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й вершину пирамиды с центром е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снования, является высотой 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01800" y="465300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1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48000" y="3573360"/>
            <a:ext cx="36036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443280" y="3573360"/>
            <a:ext cx="86508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08720" y="3573360"/>
            <a:ext cx="358920" cy="158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573360"/>
            <a:ext cx="863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38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42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8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763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8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8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25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472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0364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48112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8620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8112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370692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342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0216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0690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6616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48436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89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64000" y="450864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69080" y="47959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48360" y="508464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425840" y="4581000"/>
            <a:ext cx="505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30920" y="4581360"/>
            <a:ext cx="1223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584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651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8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688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13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10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429080" y="4581000"/>
            <a:ext cx="1728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2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92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52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21440" y="357336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05440" y="465300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80360" y="4508640"/>
            <a:ext cx="7128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885080" y="479592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4360" y="508464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4220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46920" y="4581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42200" y="515628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7667640" y="4581000"/>
            <a:ext cx="50472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02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18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2980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6880" y="508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445080" y="4581000"/>
            <a:ext cx="17290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48360" y="4581360"/>
            <a:ext cx="719280" cy="57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7308720" y="357300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088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08720" y="3573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7852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3416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94880" y="47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7840" y="2800440"/>
            <a:ext cx="58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0000" y="2924280"/>
            <a:ext cx="57088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ребра равн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Боковые грани – равны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равнобедренные треуголь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0080" y="4724280"/>
            <a:ext cx="59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Апофема </a:t>
            </a: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правильной пирамиды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высота ее боковой грани, проведен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Comic Sans MS"/>
              </a:rPr>
              <a:t>из вершины.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308720" y="3573360"/>
            <a:ext cx="648000" cy="1295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10720" y="474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4797360"/>
            <a:ext cx="71640" cy="7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465300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956720" y="4724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40720" y="487044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40720" y="494172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87040" y="5661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PK -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апоф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8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3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4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500"/>
                            </p:stCondLst>
                            <p:childTnLst>
                              <p:par>
                                <p:cTn id="1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0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1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2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8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8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0" dur="8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800"/>
                            </p:stCondLst>
                            <p:childTnLst>
                              <p:par>
                                <p:cTn id="1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4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5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6" dur="8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1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2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8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6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7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8" dur="8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2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8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9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0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1" dur="8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ПЛОЩАДЬ БОКОВОЙ ПОВЕРХНОСТИ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561816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бок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=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213000"/>
            <a:ext cx="7489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P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ериметр основани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апофема правильной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0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8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2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0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ЛОЩАДЬ ПОЛНОЙ ПОВЕРХНОСТИ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ол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=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бок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+ 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7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2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7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9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ОБЪЁМ ПИРАМИ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16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=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00000" y="4005360"/>
            <a:ext cx="7489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где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 </a:t>
            </a:r>
            <a:r>
              <a:rPr b="0" lang="en-US" sz="5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ru-RU" sz="3600" spc="-1" strike="noStrike">
                <a:solidFill>
                  <a:srgbClr val="9900cc"/>
                </a:solidFill>
                <a:latin typeface="Comic Sans MS"/>
              </a:rPr>
              <a:t>осн.</a:t>
            </a:r>
            <a:r>
              <a:rPr b="0" lang="ru-RU" sz="5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– площадь основания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,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9900cc"/>
                </a:solidFill>
                <a:latin typeface="Comic Sans MS"/>
              </a:rPr>
              <a:t>h</a:t>
            </a:r>
            <a:r>
              <a:rPr b="0" lang="ru-RU" sz="3200" spc="-1" strike="noStrike">
                <a:solidFill>
                  <a:srgbClr val="9900cc"/>
                </a:solidFill>
                <a:latin typeface="Comic Sans MS"/>
              </a:rPr>
              <a:t> – высота пирами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780000" y="1989000"/>
                <a:ext cx="4935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0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2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20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6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КЛЮЧЕВЫЕ СЛОВА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677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ирам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Осн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гр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Боковые р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ерш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Высота пирами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Правильная пирам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ff"/>
                </a:solidFill>
                <a:latin typeface="Comic Sans MS"/>
              </a:rPr>
              <a:t>Апоф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6836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0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0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6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8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360"/>
                            </p:stCondLst>
                            <p:childTnLst>
                              <p:par>
                                <p:cTn id="16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1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2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3" dur="8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760"/>
                            </p:stCondLst>
                            <p:childTnLst>
                              <p:par>
                                <p:cTn id="16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280"/>
                            </p:stCondLst>
                            <p:childTnLst>
                              <p:par>
                                <p:cTn id="16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3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4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5" dur="8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212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2720"/>
                            </p:stCondLst>
                            <p:childTnLst>
                              <p:par>
                                <p:cTn id="16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1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2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3" dur="80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3480"/>
                            </p:stCondLst>
                            <p:childTnLst>
                              <p:par>
                                <p:cTn id="16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7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8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9" dur="80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65240"/>
            <a:ext cx="1441440" cy="990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63640" y="260280"/>
            <a:ext cx="682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НА СЛЕДУЮЩЕМ УРО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00000" y="2060640"/>
            <a:ext cx="7489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omic Sans MS"/>
              </a:rPr>
              <a:t>Решение простейших задач на вычисление площади поверхности и объема пирамид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0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1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8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484000" y="1427040"/>
            <a:ext cx="62643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СПАСИБО ЗА УРО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066680" y="3441240"/>
            <a:ext cx="7250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9900cc"/>
              </a:solidFill>
              <a:latin typeface="Comic Sans MS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19447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0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ЭТО МЫ ЗНАЕ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84280"/>
          <a:ext cx="4508640" cy="2468520"/>
        </p:xfrm>
        <a:graphic>
          <a:graphicData uri="http://schemas.openxmlformats.org/drawingml/2006/table">
            <a:tbl>
              <a:tblPr/>
              <a:tblGrid>
                <a:gridCol w="287280"/>
                <a:gridCol w="285480"/>
                <a:gridCol w="288720"/>
                <a:gridCol w="283680"/>
                <a:gridCol w="287280"/>
                <a:gridCol w="285480"/>
                <a:gridCol w="285480"/>
                <a:gridCol w="288720"/>
                <a:gridCol w="216000"/>
                <a:gridCol w="286920"/>
                <a:gridCol w="285840"/>
                <a:gridCol w="286920"/>
                <a:gridCol w="284040"/>
                <a:gridCol w="288720"/>
                <a:gridCol w="285480"/>
                <a:gridCol w="282600"/>
              </a:tblGrid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8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8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8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8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8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4140360" y="1341360"/>
            <a:ext cx="454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Многогранник, составленный из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двух равных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-угольников, лежащ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в параллельных плоскостях и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араллелограмм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28560" y="2421000"/>
            <a:ext cx="35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2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ямая призма, осн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правильные много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угольн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A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которой не равны высо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7440" y="5805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6805440" y="5371920"/>
            <a:ext cx="432000" cy="43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05440" y="5229000"/>
            <a:ext cx="100836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13800" y="522936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4653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164360" y="4219560"/>
            <a:ext cx="432000" cy="43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164360" y="4076280"/>
            <a:ext cx="100800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72360" y="407664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813800" y="4076640"/>
            <a:ext cx="358560" cy="1152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5080" y="4221000"/>
            <a:ext cx="358920" cy="115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245080" y="4653000"/>
            <a:ext cx="36036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7237080" y="4653000"/>
            <a:ext cx="35892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96360" y="4653000"/>
            <a:ext cx="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237080" y="4076640"/>
            <a:ext cx="934920" cy="1728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1996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3800" y="50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173800" y="3860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5440" y="40035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9800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99280" y="42926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77440" y="566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6520" y="4292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566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566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6520" y="580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149720"/>
            <a:ext cx="4896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5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Призма, боковые ребра которой перпендикулярны основания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omic Sans MS"/>
              </a:rPr>
              <a:t>6.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 ABC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7. DB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8. D</a:t>
            </a:r>
            <a:r>
              <a:rPr b="1" i="1" lang="en-US" sz="900" spc="-1" strike="noStrike">
                <a:solidFill>
                  <a:srgbClr val="000099"/>
                </a:solidFill>
                <a:latin typeface="Comic Sans MS"/>
              </a:rPr>
              <a:t>1</a:t>
            </a:r>
            <a:r>
              <a:rPr b="1" i="1" lang="en-US" sz="1800" spc="-1" strike="noStrike">
                <a:solidFill>
                  <a:srgbClr val="000099"/>
                </a:solidFill>
                <a:latin typeface="Comic Sans MS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41800" y="148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6072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308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6160" y="242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49800" y="270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44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7174080"/>
            <a:ext cx="287280" cy="37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2728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3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9640" y="1484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48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636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177336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3640" y="177336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08360" y="1773360"/>
            <a:ext cx="3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2720" y="20606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4180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0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8160" y="20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5800" y="206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180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29440" y="23493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852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33440" y="2349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144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1016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9744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652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2708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2708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6364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9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29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40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19640" y="32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364500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43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32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7636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36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000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410920" y="148428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1128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484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10920" y="3933720"/>
            <a:ext cx="287640" cy="1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216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omic Sans MS"/>
              </a:rPr>
              <a:t>ПИРАМИД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944360" cy="1440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00000" y="3141720"/>
            <a:ext cx="7775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Из истории развития и применения пирам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Определен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Элементы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Виды пирамид, их особен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лощадь поверхности и объем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ПР по вычислению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1" i="1" lang="ru-RU" sz="1400" spc="-1" strike="noStrike">
                <a:solidFill>
                  <a:srgbClr val="0000ff"/>
                </a:solidFill>
                <a:latin typeface="Comic Sans MS"/>
              </a:rPr>
              <a:t>пов.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и </a:t>
            </a: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Comic Sans MS"/>
              </a:rPr>
              <a:t>Решение зада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4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24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92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960"/>
                            </p:stCondLst>
                            <p:childTnLst>
                              <p:par>
                                <p:cTn id="3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280"/>
                            </p:stCondLst>
                            <p:childTnLst>
                              <p:par>
                                <p:cTn id="3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48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84360" y="260280"/>
            <a:ext cx="507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ЦЕЛИ УРОКА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656000" cy="1001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39640" y="1484280"/>
            <a:ext cx="79250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ься с историей развития пирамид и их применение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Сформулировать определение пирамиды и её элементов через сравнение и обобщени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Рассмотреть виды пирамид, их особ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Comic Sans MS"/>
              </a:rPr>
              <a:t>Познакомится с формулами площади боковой и полной поверхности пирамиды, объёма пирами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112120" y="260280"/>
            <a:ext cx="60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НЕМНОГО ИСТО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392360" cy="222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68360" y="1341360"/>
            <a:ext cx="316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«Пирамида» - от грече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слова «пюрамис», котор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греки называли египетск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пирами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6280" y="254160"/>
            <a:ext cx="1295640" cy="7315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851280" y="3716280"/>
            <a:ext cx="4105440" cy="2449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851280" y="364500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Мексиканская пирамида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76720" y="328464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Египетские пирами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3166920" cy="2087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445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Гора Кайлас на Тиб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12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1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120"/>
                            </p:stCondLst>
                            <p:childTnLst>
                              <p:par>
                                <p:cTn id="4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12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120"/>
                            </p:stCondLst>
                            <p:childTnLst>
                              <p:par>
                                <p:cTn id="4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12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805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ПИРАМИДЫ В АРХИТЕКТУ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0640" y="1628640"/>
            <a:ext cx="3675240" cy="19558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3960720" cy="2246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3716280"/>
            <a:ext cx="5040360" cy="244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1341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Новый вход в Лувр, Пари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omic Sans MS"/>
              </a:rPr>
              <a:t>Торговый центр в Илинге,                        Лонд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60200" y="364500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Comic Sans MS"/>
              </a:rPr>
              <a:t>Александровский мая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711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ОПРЕДЕЛ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84360" cy="9716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2233800" cy="18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627280" y="2276640"/>
            <a:ext cx="1008000" cy="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27280" y="2276640"/>
            <a:ext cx="7207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48000" y="2276280"/>
            <a:ext cx="2872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1484280"/>
            <a:ext cx="28872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2728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5928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00000" y="2204640"/>
            <a:ext cx="64944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00000" y="2276640"/>
            <a:ext cx="50508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405080" y="2276280"/>
            <a:ext cx="502920" cy="431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2000" y="1484280"/>
            <a:ext cx="73080" cy="1224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900000" y="1484280"/>
            <a:ext cx="432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1484280"/>
            <a:ext cx="576000" cy="792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2205000"/>
            <a:ext cx="287280" cy="716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1555920"/>
            <a:ext cx="217440" cy="649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4600" y="2637000"/>
            <a:ext cx="1679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4-угольник 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3-уголь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6000" y="352440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6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2840" y="4076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10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040" y="46530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n</a:t>
            </a:r>
            <a:r>
              <a:rPr b="0" i="1" lang="ru-RU" sz="1800" spc="-1" strike="noStrike">
                <a:solidFill>
                  <a:srgbClr val="0000ff"/>
                </a:solidFill>
                <a:latin typeface="Comic Sans MS"/>
              </a:rPr>
              <a:t>-угольник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95640" y="2637000"/>
            <a:ext cx="576360" cy="2663640"/>
          </a:xfrm>
          <a:custGeom>
            <a:avLst/>
            <a:gdLst>
              <a:gd name="textAreaLeft" fmla="*/ 0 w 576360"/>
              <a:gd name="textAreaRight" fmla="*/ 208080 w 576360"/>
              <a:gd name="textAreaTop" fmla="*/ 69120 h 2663640"/>
              <a:gd name="textAreaBottom" fmla="*/ 259452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1628640"/>
            <a:ext cx="216000" cy="172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804000" y="2637000"/>
            <a:ext cx="720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88000" y="1628640"/>
            <a:ext cx="936720" cy="10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36720" y="1628640"/>
            <a:ext cx="1150920" cy="13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2997360"/>
            <a:ext cx="136692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37080" y="2349360"/>
            <a:ext cx="863640" cy="64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300720" y="1628640"/>
            <a:ext cx="28728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34936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04000" y="2349360"/>
            <a:ext cx="720720" cy="28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88000" y="1628640"/>
            <a:ext cx="216000" cy="72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429000"/>
            <a:ext cx="32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ff"/>
                </a:solidFill>
                <a:latin typeface="Comic Sans MS"/>
              </a:rPr>
              <a:t>Пирамида 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– это   многогранник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составленный и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-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угольника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n</a:t>
            </a:r>
            <a:r>
              <a:rPr b="0" i="1" lang="ru-RU" sz="2800" spc="-1" strike="noStrike">
                <a:solidFill>
                  <a:srgbClr val="9900ff"/>
                </a:solidFill>
                <a:latin typeface="Comic Sans MS"/>
              </a:rPr>
              <a:t> треугольников</a:t>
            </a:r>
            <a:r>
              <a:rPr b="0" i="1" lang="en-US" sz="2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5800" y="350028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25800" y="407664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97440" y="465300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3-уголь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1320" y="5373720"/>
            <a:ext cx="29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Название пирами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определяет </a:t>
            </a:r>
            <a:r>
              <a:rPr b="1" i="1" lang="en-US" sz="1800" spc="-1" strike="noStrike">
                <a:solidFill>
                  <a:srgbClr val="008000"/>
                </a:solidFill>
                <a:latin typeface="Comic Sans MS"/>
              </a:rPr>
              <a:t>n</a:t>
            </a:r>
            <a:r>
              <a:rPr b="1" i="1" lang="ru-RU" sz="1800" spc="-1" strike="noStrike">
                <a:solidFill>
                  <a:srgbClr val="008000"/>
                </a:solidFill>
                <a:latin typeface="Comic Sans MS"/>
              </a:rPr>
              <a:t>-угольни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68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368360" cy="9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74080" y="333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ЭЛЕМЕНТЫ ПИРАМИ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00680" y="1268280"/>
            <a:ext cx="53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Из чего состоит пирамид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82000" y="1773360"/>
            <a:ext cx="245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Осно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гр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Боковые реб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Высо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3573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Можно ли в пирамиде провести диагональ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3716280"/>
            <a:ext cx="813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1)Дайте определения всем элементам пирамиды (в случае затрудн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воспользуйтесь учебником стр.65, п.28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2)Начертите треугольную пирамиду </a:t>
            </a:r>
            <a:r>
              <a:rPr b="1" i="1" lang="en-US" sz="2800" spc="-1" strike="noStrike">
                <a:solidFill>
                  <a:srgbClr val="0000ff"/>
                </a:solidFill>
                <a:latin typeface="Comic Sans MS"/>
              </a:rPr>
              <a:t>PABC,</a:t>
            </a:r>
            <a:r>
              <a:rPr b="1" i="1" lang="ru-RU" sz="2800" spc="-1" strike="noStrike">
                <a:solidFill>
                  <a:srgbClr val="0000ff"/>
                </a:solidFill>
                <a:latin typeface="Comic Sans MS"/>
              </a:rPr>
              <a:t> выпишите её элем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513080" cy="9572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2955240" y="260280"/>
            <a:ext cx="470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58920" y="1555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040" y="50068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Высот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r>
              <a:rPr b="1" i="1" lang="en-US" sz="2400" spc="-1" strike="noStrike" u="sng">
                <a:solidFill>
                  <a:srgbClr val="9900ff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35640" y="5229360"/>
            <a:ext cx="2952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6000" y="4292640"/>
            <a:ext cx="1152360" cy="1081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1844640"/>
            <a:ext cx="93528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0720" y="1844640"/>
            <a:ext cx="2087640" cy="352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18446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19640" y="51577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5680" y="4292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0360" y="537372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59040" y="1557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84440" y="474984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844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27640" y="5013360"/>
            <a:ext cx="730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08472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84720" y="4941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5040" y="1268280"/>
            <a:ext cx="19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Основание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40000" y="16938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38160" y="126216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многоугольник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2880" y="205596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грани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24240" y="206064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треугольники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4920" y="47196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P, BP,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9720" y="371160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Боковые ребр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0720" y="29908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18920" y="291924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900ff"/>
                </a:solidFill>
                <a:uFillTx/>
                <a:latin typeface="Comic Sans MS"/>
              </a:rPr>
              <a:t>Вершина</a:t>
            </a:r>
            <a:r>
              <a:rPr b="1" i="1" lang="en-US" sz="2400" spc="-1" strike="noStrike">
                <a:solidFill>
                  <a:srgbClr val="9900ff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360" y="2924280"/>
            <a:ext cx="466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бщая точка все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боковых граней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50680" y="32781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371628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отрез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соединяющие вершину 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вершинам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24861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P, BCP, A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501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                 </a:t>
            </a: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ерпендикуля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Comic Sans MS"/>
              </a:rPr>
              <a:t>проведенный из вершины к плоскости основания</a:t>
            </a:r>
            <a:r>
              <a:rPr b="0" i="1" lang="en-US" sz="1800" spc="-1" strike="noStrike">
                <a:solidFill>
                  <a:srgbClr val="9900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3960" y="57340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35640" y="5230800"/>
            <a:ext cx="295272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435640" y="429408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6000" y="4294080"/>
            <a:ext cx="115236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5651640" y="5086440"/>
            <a:ext cx="71280" cy="14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795640" y="4941720"/>
            <a:ext cx="142920" cy="289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938560" y="4870440"/>
            <a:ext cx="215640" cy="360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154200" y="4726080"/>
            <a:ext cx="287640" cy="50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372360" y="4581360"/>
            <a:ext cx="358560" cy="6494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514920" y="4438800"/>
            <a:ext cx="50292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365720"/>
            <a:ext cx="503280" cy="93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946560" y="4438800"/>
            <a:ext cx="431640" cy="86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7164000" y="4581360"/>
            <a:ext cx="358920" cy="72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380360" y="4726080"/>
            <a:ext cx="285840" cy="57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23280" y="4870440"/>
            <a:ext cx="28728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738920" y="501480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7954560" y="5086440"/>
            <a:ext cx="142920" cy="288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172360" y="5230800"/>
            <a:ext cx="69840" cy="142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435640" y="4292640"/>
            <a:ext cx="1800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5435280" y="1917720"/>
            <a:ext cx="86508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300720" y="1917720"/>
            <a:ext cx="935280" cy="2448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6227640" y="2060640"/>
            <a:ext cx="144720" cy="216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6156360" y="2276640"/>
            <a:ext cx="288720" cy="333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940000" y="2421000"/>
            <a:ext cx="576360" cy="9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52720" y="2610000"/>
            <a:ext cx="933480" cy="1755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5508360" y="2852640"/>
            <a:ext cx="1150920" cy="237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795640" y="3141720"/>
            <a:ext cx="934920" cy="194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6156360" y="3357720"/>
            <a:ext cx="719280" cy="1584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45080" y="3645000"/>
            <a:ext cx="501840" cy="10810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660720" y="3860640"/>
            <a:ext cx="430200" cy="792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6948360" y="4149720"/>
            <a:ext cx="216000" cy="3589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435280" y="1844640"/>
            <a:ext cx="865080" cy="3384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773360"/>
            <a:ext cx="14472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00720" y="1916280"/>
            <a:ext cx="0" cy="3097080"/>
          </a:xfrm>
          <a:prstGeom prst="line">
            <a:avLst/>
          </a:prstGeom>
          <a:ln w="7632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7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60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60"/>
                            </p:stCondLst>
                            <p:childTnLst>
                              <p:par>
                                <p:cTn id="8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1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2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16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880"/>
                            </p:stCondLst>
                            <p:childTnLst>
                              <p:par>
                                <p:cTn id="9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3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20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5:06:42Z</dcterms:created>
  <dc:creator>ТЕЛЕЖКА</dc:creator>
  <dc:description/>
  <dc:language>en-US</dc:language>
  <cp:lastModifiedBy>User</cp:lastModifiedBy>
  <dcterms:modified xsi:type="dcterms:W3CDTF">2010-08-26T07:05:29Z</dcterms:modified>
  <cp:revision>18</cp:revision>
  <dc:subject/>
  <dc:title>Презентация PowerPoint</dc:title>
</cp:coreProperties>
</file>