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569-14B7-40BA-8479-F091CB06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31A-2F9C-4A6E-98F6-43775E3F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ADE-5CA5-49F5-997C-1F9FDD57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028D-8063-4ACE-8EE1-BD9E7E0C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D4D-CB02-4BD1-95C6-43A87599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EA3-E2E4-4716-8E67-90E44023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11D-ABC1-45DF-B96F-21CBE97E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8C8-AC19-43CC-A31E-C2138B74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D57-A18D-4770-ABB3-2C1B9C2C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402-57EF-4DC4-BE91-87C47233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40C-01FF-484D-A14F-2575E427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583-8BA7-4A1B-B173-CE931BBD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42D7-C7E9-4163-A4CD-65E052565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6240" y="228600"/>
            <a:ext cx="7391520" cy="9907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 Вторая война Рима  с Карфаген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029200"/>
            <a:ext cx="6172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50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668600" y="4787640"/>
            <a:ext cx="707760" cy="731880"/>
            <a:chOff x="1668600" y="4787640"/>
            <a:chExt cx="707760" cy="731880"/>
          </a:xfrm>
        </p:grpSpPr>
        <p:sp>
          <p:nvSpPr>
            <p:cNvPr id="153" name=""/>
            <p:cNvSpPr/>
            <p:nvPr/>
          </p:nvSpPr>
          <p:spPr>
            <a:xfrm>
              <a:off x="1668600" y="48078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1668600" y="47872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61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62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32000" y="4295520"/>
            <a:ext cx="707760" cy="731880"/>
            <a:chOff x="1332000" y="4295520"/>
            <a:chExt cx="707760" cy="731880"/>
          </a:xfrm>
        </p:grpSpPr>
        <p:sp>
          <p:nvSpPr>
            <p:cNvPr id="168" name=""/>
            <p:cNvSpPr/>
            <p:nvPr/>
          </p:nvSpPr>
          <p:spPr>
            <a:xfrm>
              <a:off x="1332000" y="43156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1332000" y="429516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68040" y="3777840"/>
            <a:ext cx="708480" cy="731880"/>
            <a:chOff x="968040" y="3777840"/>
            <a:chExt cx="708480" cy="731880"/>
          </a:xfrm>
        </p:grpSpPr>
        <p:sp>
          <p:nvSpPr>
            <p:cNvPr id="171" name=""/>
            <p:cNvSpPr/>
            <p:nvPr/>
          </p:nvSpPr>
          <p:spPr>
            <a:xfrm>
              <a:off x="968400" y="379800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967680" y="377748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6600" y="3287880"/>
            <a:ext cx="707760" cy="731160"/>
            <a:chOff x="606600" y="3287880"/>
            <a:chExt cx="707760" cy="731160"/>
          </a:xfrm>
        </p:grpSpPr>
        <p:sp>
          <p:nvSpPr>
            <p:cNvPr id="174" name=""/>
            <p:cNvSpPr/>
            <p:nvPr/>
          </p:nvSpPr>
          <p:spPr>
            <a:xfrm>
              <a:off x="606600" y="33076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6240" y="32878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790000">
            <a:off x="1750680" y="489240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790000">
            <a:off x="1310760" y="437508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790000">
            <a:off x="896400" y="385740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790000">
            <a:off x="507600" y="331632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792720" y="5791320"/>
            <a:ext cx="10729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здрубал разбил конницу на правом фланге римлян и атак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х левый фла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55840" y="274680"/>
            <a:ext cx="646884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                     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rot="6981000">
            <a:off x="251280" y="2780280"/>
            <a:ext cx="2044800" cy="728640"/>
          </a:xfrm>
          <a:prstGeom prst="leftArrowCallout">
            <a:avLst>
              <a:gd name="adj1" fmla="val 25002"/>
              <a:gd name="adj2" fmla="val 25000"/>
              <a:gd name="adj3" fmla="val 46772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85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93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94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13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6200" y="1158840"/>
            <a:ext cx="3719520" cy="609480"/>
          </a:xfrm>
          <a:prstGeom prst="leftArrowCallout">
            <a:avLst>
              <a:gd name="adj1" fmla="val 25002"/>
              <a:gd name="adj2" fmla="val 25000"/>
              <a:gd name="adj3" fmla="val 101713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38320" y="6002280"/>
            <a:ext cx="961416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го атаку поддержал 2-й полководец Ганнибала - Ганон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и вся кавалерия римлян была уничтожена</a:t>
            </a:r>
            <a:r>
              <a:rPr b="1" lang="ru-RU" sz="2400" spc="-1" strike="noStrike">
                <a:solidFill>
                  <a:srgbClr val="80808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136600">
            <a:off x="1483920" y="1761840"/>
            <a:ext cx="2635200" cy="1409760"/>
          </a:xfrm>
          <a:prstGeom prst="rightArrowCallout">
            <a:avLst>
              <a:gd name="adj1" fmla="val 25002"/>
              <a:gd name="adj2" fmla="val 25000"/>
              <a:gd name="adj3" fmla="val 31154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06840" y="1879560"/>
            <a:ext cx="1711440" cy="3132000"/>
            <a:chOff x="4506840" y="1879560"/>
            <a:chExt cx="1711440" cy="3132000"/>
          </a:xfrm>
        </p:grpSpPr>
        <p:sp>
          <p:nvSpPr>
            <p:cNvPr id="210" name=""/>
            <p:cNvSpPr/>
            <p:nvPr/>
          </p:nvSpPr>
          <p:spPr>
            <a:xfrm>
              <a:off x="4506840" y="187956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06840" y="440208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834120" y="5562720"/>
            <a:ext cx="10810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перестроил свои войска, и нанес обходные удары сил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ми тяжеловооруженной пехоты,стараясь окружить римл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62440" y="2575080"/>
            <a:ext cx="657000" cy="16873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62440" y="2523960"/>
            <a:ext cx="1531800" cy="1717920"/>
          </a:xfrm>
          <a:prstGeom prst="rightArrowCallout">
            <a:avLst>
              <a:gd name="adj1" fmla="val 28040"/>
              <a:gd name="adj2" fmla="val 28038"/>
              <a:gd name="adj3" fmla="val 16667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06840" y="1874880"/>
            <a:ext cx="1716120" cy="3157560"/>
            <a:chOff x="4506840" y="1874880"/>
            <a:chExt cx="1716120" cy="3157560"/>
          </a:xfrm>
        </p:grpSpPr>
        <p:grpSp>
          <p:nvGrpSpPr>
            <p:cNvPr id="226" name=""/>
            <p:cNvGrpSpPr/>
            <p:nvPr/>
          </p:nvGrpSpPr>
          <p:grpSpPr>
            <a:xfrm>
              <a:off x="4506840" y="1879560"/>
              <a:ext cx="1711440" cy="3132000"/>
              <a:chOff x="4506840" y="1879560"/>
              <a:chExt cx="1711440" cy="3132000"/>
            </a:xfrm>
          </p:grpSpPr>
          <p:sp>
            <p:nvSpPr>
              <p:cNvPr id="227" name=""/>
              <p:cNvSpPr/>
              <p:nvPr/>
            </p:nvSpPr>
            <p:spPr>
              <a:xfrm>
                <a:off x="4506840" y="187956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06840" y="440208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32400" y="4092480"/>
              <a:ext cx="1690560" cy="939960"/>
            </a:xfrm>
            <a:prstGeom prst="upArrowCallout">
              <a:avLst>
                <a:gd name="adj1" fmla="val 44968"/>
                <a:gd name="adj2" fmla="val 44964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530600" y="1874880"/>
              <a:ext cx="1690920" cy="939600"/>
            </a:xfrm>
            <a:prstGeom prst="upArrowCallout">
              <a:avLst>
                <a:gd name="adj1" fmla="val 44994"/>
                <a:gd name="adj2" fmla="val 44990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99400" y="2575080"/>
            <a:ext cx="966600" cy="1819080"/>
          </a:xfrm>
          <a:prstGeom prst="leftArrowCallout">
            <a:avLst>
              <a:gd name="adj1" fmla="val 47053"/>
              <a:gd name="adj2" fmla="val 47048"/>
              <a:gd name="adj3" fmla="val 16667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771480" y="5486400"/>
            <a:ext cx="106855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скоре окружение было завершено, и римское войско в т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лусуток было уничто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оружение римл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89120" y="1371600"/>
            <a:ext cx="396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47640" y="0"/>
            <a:ext cx="81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899172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Карфаген хотел вернуть потерянные владения и былое морское могущество в Западном Средиземном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стремление к  господству Рима в Западном Средиземном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 Карфаген лишился своих владений за пределами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лишился военн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) должен был выплачивать Риму большую сумму де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2280"/>
            <a:ext cx="8686800" cy="7621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тва при Канн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371600" y="152280"/>
            <a:ext cx="11125080" cy="70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опросы на стр. 2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араграф 47, записи, вопросы, рабочая тетр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ознакомимся с основными событиями и итогами Пунических вой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выясним причины , ход военных собы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Будем учиться рассуждать, сравнивать, делать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828800"/>
            <a:ext cx="8381880" cy="3809880"/>
          </a:xfrm>
          <a:prstGeom prst="rect">
            <a:avLst/>
          </a:prstGeom>
          <a:solidFill>
            <a:srgbClr val="bbe0e3"/>
          </a:solidFill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йска Ганнибала вторг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Итал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Битва при Кан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Окончание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йска Ганнибала вторгаются в Итал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konan.3dn.ru/Rome/punicwar2.gif"/>
          <p:cNvPicPr/>
          <p:nvPr/>
        </p:nvPicPr>
        <p:blipFill>
          <a:blip r:embed="rId1"/>
          <a:stretch/>
        </p:blipFill>
        <p:spPr>
          <a:xfrm>
            <a:off x="1447920" y="1447920"/>
            <a:ext cx="655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Причин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желание Рима и Карфагена захватить остров Сицил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) Карфаген проиграл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) Карфаген потерял свои владения в Сицилии и Сарди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) Карфаген должен выплачивать большую контрибу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Пуническая войн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264 – 241 г. до н.э.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анниб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 Клянусь, что я никогда не буду другом римлян и сделаю им столько зла, сколько смог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аннибал до самой смерти был верен своему сл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Ганнибал "/>
          <p:cNvPicPr/>
          <p:nvPr/>
        </p:nvPicPr>
        <p:blipFill>
          <a:blip r:embed="rId1"/>
          <a:stretch/>
        </p:blipFill>
        <p:spPr>
          <a:xfrm>
            <a:off x="380880" y="15238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lki.ru/Txt/Horizon/0809/Weapon/Main/c_alpes.jpg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ход через Аль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59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60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64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65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69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70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74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78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79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87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88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92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93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-497880" y="5978520"/>
            <a:ext cx="101401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216 году до н.э.Рим собрал новое войско , во главе с 2 конс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ми-Варроном и Эмилием Пав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732600" y="5978520"/>
            <a:ext cx="101980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ское войско настигло Ганнибала около деревушки Ка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, где тот захватил римский  продовольственный с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59520" y="5978520"/>
            <a:ext cx="10461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ляне имели 2-хкратное превосходство и надеясь одер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легкую победу, решили дать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682200" y="5978520"/>
            <a:ext cx="102178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ррон жаждавший битвы,построил легионы очень плотно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чти квадратом, надеясь нанести сокрушительный уд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81920" y="5978520"/>
            <a:ext cx="101934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 флангам расположилась конница, которой командовал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ба конс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10120" y="5978520"/>
            <a:ext cx="10164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, догадываясь о тактике римлян, основные силы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д своим командованием, построил выпуклым полукругом</a:t>
            </a:r>
            <a:r>
              <a:rPr b="1" lang="en-US" sz="2400" spc="-1" strike="noStrike">
                <a:solidFill>
                  <a:srgbClr val="80808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0"/>
            <a:ext cx="64008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978520"/>
            <a:ext cx="746604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переди стояла легковооруженная пехота,зато концы сер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ыли очень сильными-тяжеловооруженная пехота и ко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106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111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112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116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117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125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126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34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35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139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140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9732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6172200"/>
            <a:ext cx="83822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итва началась с атаки римлян на центр карфагенской 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2720" y="5791320"/>
            <a:ext cx="737856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дновременно брат Ганнибала,Газдрубал,нанес удар свое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нницей по правому флангу римск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55840" y="274680"/>
            <a:ext cx="65451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47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