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B4A-E2E4-476F-B155-8A2278C7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0B3-7390-4C6D-A13B-10EC1D72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448-4E57-4CEE-8597-6DB899D4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F3A-2407-4C2D-A1CA-58486808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8B9-CB03-406A-A045-0D402E5F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A9F-AEB5-48D7-BDE5-96111012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B14-AFFF-4140-BA23-6FE79C64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959-89EE-4261-A685-98AA44A3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630-2314-44DD-82A2-04E77939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8E0-7E8D-4446-9D66-9F76B79F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F63-B73E-4843-A8C5-9F5ED71B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E03-EC49-4643-802E-163F4A8F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8691-4612-4BE2-A43F-A15AAF657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6240" y="228600"/>
            <a:ext cx="7391520" cy="9907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 Вторая война Рима  с Карфаген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6172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50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68600" y="4787640"/>
            <a:ext cx="707760" cy="731880"/>
            <a:chOff x="1668600" y="4787640"/>
            <a:chExt cx="707760" cy="731880"/>
          </a:xfrm>
        </p:grpSpPr>
        <p:sp>
          <p:nvSpPr>
            <p:cNvPr id="153" name=""/>
            <p:cNvSpPr/>
            <p:nvPr/>
          </p:nvSpPr>
          <p:spPr>
            <a:xfrm>
              <a:off x="1668600" y="48078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668600" y="47872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61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62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32000" y="4295520"/>
            <a:ext cx="707760" cy="731880"/>
            <a:chOff x="1332000" y="4295520"/>
            <a:chExt cx="707760" cy="731880"/>
          </a:xfrm>
        </p:grpSpPr>
        <p:sp>
          <p:nvSpPr>
            <p:cNvPr id="168" name=""/>
            <p:cNvSpPr/>
            <p:nvPr/>
          </p:nvSpPr>
          <p:spPr>
            <a:xfrm>
              <a:off x="1332000" y="43156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332000" y="429516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68040" y="3777840"/>
            <a:ext cx="708480" cy="731880"/>
            <a:chOff x="968040" y="3777840"/>
            <a:chExt cx="708480" cy="731880"/>
          </a:xfrm>
        </p:grpSpPr>
        <p:sp>
          <p:nvSpPr>
            <p:cNvPr id="171" name=""/>
            <p:cNvSpPr/>
            <p:nvPr/>
          </p:nvSpPr>
          <p:spPr>
            <a:xfrm>
              <a:off x="968400" y="379800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967680" y="377748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6600" y="3287880"/>
            <a:ext cx="707760" cy="731160"/>
            <a:chOff x="606600" y="3287880"/>
            <a:chExt cx="707760" cy="731160"/>
          </a:xfrm>
        </p:grpSpPr>
        <p:sp>
          <p:nvSpPr>
            <p:cNvPr id="174" name=""/>
            <p:cNvSpPr/>
            <p:nvPr/>
          </p:nvSpPr>
          <p:spPr>
            <a:xfrm>
              <a:off x="606600" y="33076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6240" y="32878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790000">
            <a:off x="1750680" y="48924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790000">
            <a:off x="1310760" y="437508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90000">
            <a:off x="896400" y="3857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90000">
            <a:off x="507600" y="331632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792720" y="5791320"/>
            <a:ext cx="10729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здрубал разбил конницу на правом фланге римлян и атак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х левый фл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55840" y="274680"/>
            <a:ext cx="646884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                     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6981000">
            <a:off x="251280" y="2780280"/>
            <a:ext cx="2044800" cy="728640"/>
          </a:xfrm>
          <a:prstGeom prst="leftArrowCallout">
            <a:avLst>
              <a:gd name="adj1" fmla="val 25002"/>
              <a:gd name="adj2" fmla="val 25000"/>
              <a:gd name="adj3" fmla="val 46772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85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93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94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13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6200" y="1158840"/>
            <a:ext cx="3719520" cy="609480"/>
          </a:xfrm>
          <a:prstGeom prst="leftArrowCallout">
            <a:avLst>
              <a:gd name="adj1" fmla="val 25002"/>
              <a:gd name="adj2" fmla="val 25000"/>
              <a:gd name="adj3" fmla="val 101713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38320" y="6002280"/>
            <a:ext cx="9614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го атаку поддержал 2-й полководец Ганнибала - Ганон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и вся кавалерия римлян была уничтожена</a:t>
            </a:r>
            <a:r>
              <a:rPr b="1" lang="ru-RU" sz="2400" spc="-1" strike="noStrike">
                <a:solidFill>
                  <a:srgbClr val="80808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136600">
            <a:off x="1483920" y="1761840"/>
            <a:ext cx="2635200" cy="1409760"/>
          </a:xfrm>
          <a:prstGeom prst="rightArrowCallout">
            <a:avLst>
              <a:gd name="adj1" fmla="val 25002"/>
              <a:gd name="adj2" fmla="val 25000"/>
              <a:gd name="adj3" fmla="val 31154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06840" y="1879560"/>
            <a:ext cx="1711440" cy="3132000"/>
            <a:chOff x="4506840" y="1879560"/>
            <a:chExt cx="1711440" cy="3132000"/>
          </a:xfrm>
        </p:grpSpPr>
        <p:sp>
          <p:nvSpPr>
            <p:cNvPr id="210" name=""/>
            <p:cNvSpPr/>
            <p:nvPr/>
          </p:nvSpPr>
          <p:spPr>
            <a:xfrm>
              <a:off x="4506840" y="187956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6840" y="440208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834120" y="5562720"/>
            <a:ext cx="10810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перестроил свои войска, и нанес обходные удары си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и тяжеловооруженной пехоты,стараясь окружить римл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62440" y="2575080"/>
            <a:ext cx="657000" cy="16873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2440" y="2523960"/>
            <a:ext cx="1531800" cy="1717920"/>
          </a:xfrm>
          <a:prstGeom prst="rightArrowCallout">
            <a:avLst>
              <a:gd name="adj1" fmla="val 28040"/>
              <a:gd name="adj2" fmla="val 28038"/>
              <a:gd name="adj3" fmla="val 16667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06840" y="1874880"/>
            <a:ext cx="1716120" cy="3157560"/>
            <a:chOff x="4506840" y="1874880"/>
            <a:chExt cx="1716120" cy="3157560"/>
          </a:xfrm>
        </p:grpSpPr>
        <p:grpSp>
          <p:nvGrpSpPr>
            <p:cNvPr id="226" name=""/>
            <p:cNvGrpSpPr/>
            <p:nvPr/>
          </p:nvGrpSpPr>
          <p:grpSpPr>
            <a:xfrm>
              <a:off x="4506840" y="1879560"/>
              <a:ext cx="1711440" cy="3132000"/>
              <a:chOff x="4506840" y="1879560"/>
              <a:chExt cx="1711440" cy="313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4506840" y="187956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06840" y="440208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32400" y="4092480"/>
              <a:ext cx="1690560" cy="939960"/>
            </a:xfrm>
            <a:prstGeom prst="upArrowCallout">
              <a:avLst>
                <a:gd name="adj1" fmla="val 44968"/>
                <a:gd name="adj2" fmla="val 44964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30600" y="1874880"/>
              <a:ext cx="1690920" cy="939600"/>
            </a:xfrm>
            <a:prstGeom prst="upArrowCallout">
              <a:avLst>
                <a:gd name="adj1" fmla="val 44994"/>
                <a:gd name="adj2" fmla="val 44990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99400" y="2575080"/>
            <a:ext cx="966600" cy="1819080"/>
          </a:xfrm>
          <a:prstGeom prst="leftArrowCallout">
            <a:avLst>
              <a:gd name="adj1" fmla="val 47053"/>
              <a:gd name="adj2" fmla="val 47048"/>
              <a:gd name="adj3" fmla="val 16667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771480" y="5486400"/>
            <a:ext cx="106855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коре окружение было завершено, и римское войско в 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лусуток было уничт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ружение римл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89120" y="1371600"/>
            <a:ext cx="396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81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9172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Карфаген хотел вернуть потерянные владения и былое морское могущество в Западном Средиземно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стремление к  господству Рима в Западном Средиземном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 Карфаген лишился своих владений за пределами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лишился военн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) должен был выплачивать Риму большую сумму де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280"/>
            <a:ext cx="8686800" cy="7621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тва при Канн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371600" y="152280"/>
            <a:ext cx="11125080" cy="70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опросы на стр. 2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араграф 47, записи, вопросы, рабочая 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знакомимся с основными событиями и итогами Пунических во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выясним причины , ход военных соб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Будем учиться рассуждать, сравнивать, делать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8381880" cy="3809880"/>
          </a:xfrm>
          <a:prstGeom prst="rect">
            <a:avLst/>
          </a:prstGeom>
          <a:solidFill>
            <a:srgbClr val="bbe0e3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йска Ганнибала вторг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Итал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Битва при Кан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Окончание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йска Ганнибала вторгаются в Итал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Причин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желание Рима и Карфагена захватить остров Сици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) Карфаген проиграл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) Карфаген потерял свои владения в Сицилии и Сард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) Карфаген должен выплачивать большую контрибу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Пуническая войн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264 – 241 г. до н.э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нниб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 Клянусь, что я никогда не буду другом римлян и сделаю им столько зла, сколько смог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аннибал до самой смерти был верен своему с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аннибал 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 через Аль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59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60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64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69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70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74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78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79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87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92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-497880" y="5978520"/>
            <a:ext cx="101401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216 году до н.э.Рим собрал новое войско , во главе с 2 конс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ми-Варроном и Эмилием Пав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32600" y="5978520"/>
            <a:ext cx="101980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ское войско настигло Ганнибала около деревушки К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, где тот захватил римский  продовольственный с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59520" y="5978520"/>
            <a:ext cx="10461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ляне имели 2-хкратное превосходство и надеясь 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егкую победу, решили дать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2200" y="5978520"/>
            <a:ext cx="102178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рон жаждавший битвы,построил легионы очень плотно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чти квадратом, надеясь нанести сокрушительный у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81920" y="5978520"/>
            <a:ext cx="101934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 флангам расположилась конница, которой командова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ба конс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10120" y="5978520"/>
            <a:ext cx="10164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, догадываясь о тактике римлян, основные силы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д своим командованием, построил выпуклым полукругом</a:t>
            </a: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0"/>
            <a:ext cx="6400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978520"/>
            <a:ext cx="746604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переди стояла легковооруженная пехота,зато концы сер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ыли очень сильными-тяжеловооруженная пехота и ко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106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111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112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116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117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125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126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34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139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140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732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6172200"/>
            <a:ext cx="83822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итва началась с атаки римлян на центр карфагенской 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720" y="5791320"/>
            <a:ext cx="737856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дновременно брат Ганнибала,Газдрубал,нанес удар сво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нницей по правому флангу рим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55840" y="274680"/>
            <a:ext cx="65451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47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