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982-BD19-4D76-9026-7AB352F0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9CB-1C58-4F93-8927-753F6DCC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B59-F1F7-4C09-9C32-421C2DC1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649-FED4-498B-9CDC-7D97D3BC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AC2-3D39-4859-9E09-34D1EC07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104-C2CA-4C48-9E97-C12C1DD2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4D1-8E21-4031-815F-5D820C7C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C25-78AB-46AB-8371-1060F238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762F-002B-40A2-BF8D-525B0A44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926-2D9C-4911-87BD-C3DC8F3E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B438-6A13-4858-936A-1520BF35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77C2-FB23-4983-9988-C9A97CBB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5BFD-ACA7-410F-8046-25495A9D4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6240" y="228600"/>
            <a:ext cx="7391520" cy="9907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5142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« Вторая война Рима  с Карфагено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5029200"/>
            <a:ext cx="61722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1668600" y="1364760"/>
            <a:ext cx="707760" cy="731880"/>
            <a:chOff x="1668600" y="1364760"/>
            <a:chExt cx="707760" cy="731880"/>
          </a:xfrm>
        </p:grpSpPr>
        <p:sp>
          <p:nvSpPr>
            <p:cNvPr id="150" name=""/>
            <p:cNvSpPr/>
            <p:nvPr/>
          </p:nvSpPr>
          <p:spPr>
            <a:xfrm>
              <a:off x="1668600" y="138492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1668600" y="13644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668600" y="4787640"/>
            <a:ext cx="707760" cy="731880"/>
            <a:chOff x="1668600" y="4787640"/>
            <a:chExt cx="707760" cy="731880"/>
          </a:xfrm>
        </p:grpSpPr>
        <p:sp>
          <p:nvSpPr>
            <p:cNvPr id="153" name=""/>
            <p:cNvSpPr/>
            <p:nvPr/>
          </p:nvSpPr>
          <p:spPr>
            <a:xfrm>
              <a:off x="1668600" y="48078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1668600" y="478728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61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62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 rot="21566400">
            <a:off x="2344680" y="5068800"/>
            <a:ext cx="3826080" cy="609840"/>
          </a:xfrm>
          <a:prstGeom prst="leftArrowCallout">
            <a:avLst>
              <a:gd name="adj1" fmla="val 25002"/>
              <a:gd name="adj2" fmla="val 25000"/>
              <a:gd name="adj3" fmla="val 104565"/>
              <a:gd name="adj4" fmla="val 66673"/>
            </a:avLst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40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332000" y="4295520"/>
            <a:ext cx="707760" cy="731880"/>
            <a:chOff x="1332000" y="4295520"/>
            <a:chExt cx="707760" cy="731880"/>
          </a:xfrm>
        </p:grpSpPr>
        <p:sp>
          <p:nvSpPr>
            <p:cNvPr id="168" name=""/>
            <p:cNvSpPr/>
            <p:nvPr/>
          </p:nvSpPr>
          <p:spPr>
            <a:xfrm>
              <a:off x="1332000" y="431568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1332000" y="429516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68040" y="3777840"/>
            <a:ext cx="708480" cy="731880"/>
            <a:chOff x="968040" y="3777840"/>
            <a:chExt cx="708480" cy="731880"/>
          </a:xfrm>
        </p:grpSpPr>
        <p:sp>
          <p:nvSpPr>
            <p:cNvPr id="171" name=""/>
            <p:cNvSpPr/>
            <p:nvPr/>
          </p:nvSpPr>
          <p:spPr>
            <a:xfrm>
              <a:off x="968400" y="3798000"/>
              <a:ext cx="70812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967680" y="3777480"/>
              <a:ext cx="70812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6600" y="3287880"/>
            <a:ext cx="707760" cy="731160"/>
            <a:chOff x="606600" y="3287880"/>
            <a:chExt cx="707760" cy="731160"/>
          </a:xfrm>
        </p:grpSpPr>
        <p:sp>
          <p:nvSpPr>
            <p:cNvPr id="174" name=""/>
            <p:cNvSpPr/>
            <p:nvPr/>
          </p:nvSpPr>
          <p:spPr>
            <a:xfrm>
              <a:off x="606600" y="3307680"/>
              <a:ext cx="707760" cy="71136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06240" y="3287880"/>
              <a:ext cx="707760" cy="71136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2790000">
            <a:off x="1750680" y="489240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790000">
            <a:off x="1310760" y="437508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790000">
            <a:off x="896400" y="385740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790000">
            <a:off x="507600" y="331632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792720" y="5791320"/>
            <a:ext cx="107298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аздрубал разбил конницу на правом фланге римлян и атак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х левый флан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55840" y="274680"/>
            <a:ext cx="646884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                     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evt="end">
                                        <p:tn val="150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evt="end">
                                        <p:tn val="160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5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evt="end">
                                        <p:tn val="170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evt="end">
                                        <p:tn val="175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rot="6981000">
            <a:off x="251280" y="2780280"/>
            <a:ext cx="2044800" cy="728640"/>
          </a:xfrm>
          <a:prstGeom prst="leftArrowCallout">
            <a:avLst>
              <a:gd name="adj1" fmla="val 25002"/>
              <a:gd name="adj2" fmla="val 25000"/>
              <a:gd name="adj3" fmla="val 46772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68600" y="1364760"/>
            <a:ext cx="707760" cy="731880"/>
            <a:chOff x="1668600" y="1364760"/>
            <a:chExt cx="707760" cy="731880"/>
          </a:xfrm>
        </p:grpSpPr>
        <p:sp>
          <p:nvSpPr>
            <p:cNvPr id="185" name=""/>
            <p:cNvSpPr/>
            <p:nvPr/>
          </p:nvSpPr>
          <p:spPr>
            <a:xfrm>
              <a:off x="1668600" y="138492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1668600" y="13644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93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94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040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13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46200" y="1158840"/>
            <a:ext cx="3719520" cy="609480"/>
          </a:xfrm>
          <a:prstGeom prst="leftArrowCallout">
            <a:avLst>
              <a:gd name="adj1" fmla="val 25002"/>
              <a:gd name="adj2" fmla="val 25000"/>
              <a:gd name="adj3" fmla="val 101713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38320" y="6002280"/>
            <a:ext cx="961416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го атаку поддержал 2-й полководец Ганнибала - Ганон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ктически вся кавалерия римлян была уничтожена</a:t>
            </a:r>
            <a:r>
              <a:rPr b="1" lang="ru-RU" sz="2400" spc="-1" strike="noStrike">
                <a:solidFill>
                  <a:srgbClr val="80808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136600">
            <a:off x="1483920" y="1761840"/>
            <a:ext cx="2635200" cy="1409760"/>
          </a:xfrm>
          <a:prstGeom prst="rightArrowCallout">
            <a:avLst>
              <a:gd name="adj1" fmla="val 25002"/>
              <a:gd name="adj2" fmla="val 25000"/>
              <a:gd name="adj3" fmla="val 31154"/>
              <a:gd name="adj4" fmla="val 66667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506840" y="1879560"/>
            <a:ext cx="1711440" cy="3132000"/>
            <a:chOff x="4506840" y="1879560"/>
            <a:chExt cx="1711440" cy="3132000"/>
          </a:xfrm>
        </p:grpSpPr>
        <p:sp>
          <p:nvSpPr>
            <p:cNvPr id="210" name=""/>
            <p:cNvSpPr/>
            <p:nvPr/>
          </p:nvSpPr>
          <p:spPr>
            <a:xfrm>
              <a:off x="4506840" y="1879560"/>
              <a:ext cx="1711440" cy="609480"/>
            </a:xfrm>
            <a:prstGeom prst="leftArrowCallout">
              <a:avLst>
                <a:gd name="adj1" fmla="val 25002"/>
                <a:gd name="adj2" fmla="val 25000"/>
                <a:gd name="adj3" fmla="val 46801"/>
                <a:gd name="adj4" fmla="val 66673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06840" y="4402080"/>
              <a:ext cx="1711440" cy="609480"/>
            </a:xfrm>
            <a:prstGeom prst="leftArrowCallout">
              <a:avLst>
                <a:gd name="adj1" fmla="val 25002"/>
                <a:gd name="adj2" fmla="val 25000"/>
                <a:gd name="adj3" fmla="val 46801"/>
                <a:gd name="adj4" fmla="val 66673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510160" y="2832120"/>
            <a:ext cx="1325520" cy="130176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834120" y="5562720"/>
            <a:ext cx="108108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аннибал перестроил свои войска, и нанес обходные удары сил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ми тяжеловооруженной пехоты,стараясь окружить римл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10160" y="2832120"/>
            <a:ext cx="1325520" cy="130176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62440" y="2575080"/>
            <a:ext cx="657000" cy="168732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62440" y="2523960"/>
            <a:ext cx="1531800" cy="1717920"/>
          </a:xfrm>
          <a:prstGeom prst="rightArrowCallout">
            <a:avLst>
              <a:gd name="adj1" fmla="val 28040"/>
              <a:gd name="adj2" fmla="val 28038"/>
              <a:gd name="adj3" fmla="val 16667"/>
              <a:gd name="adj4" fmla="val 66667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06840" y="1874880"/>
            <a:ext cx="1716120" cy="3157560"/>
            <a:chOff x="4506840" y="1874880"/>
            <a:chExt cx="1716120" cy="3157560"/>
          </a:xfrm>
        </p:grpSpPr>
        <p:grpSp>
          <p:nvGrpSpPr>
            <p:cNvPr id="226" name=""/>
            <p:cNvGrpSpPr/>
            <p:nvPr/>
          </p:nvGrpSpPr>
          <p:grpSpPr>
            <a:xfrm>
              <a:off x="4506840" y="1879560"/>
              <a:ext cx="1711440" cy="3132000"/>
              <a:chOff x="4506840" y="1879560"/>
              <a:chExt cx="1711440" cy="3132000"/>
            </a:xfrm>
          </p:grpSpPr>
          <p:sp>
            <p:nvSpPr>
              <p:cNvPr id="227" name=""/>
              <p:cNvSpPr/>
              <p:nvPr/>
            </p:nvSpPr>
            <p:spPr>
              <a:xfrm>
                <a:off x="4506840" y="1879560"/>
                <a:ext cx="1711440" cy="609480"/>
              </a:xfrm>
              <a:prstGeom prst="leftArrowCallout">
                <a:avLst>
                  <a:gd name="adj1" fmla="val 25002"/>
                  <a:gd name="adj2" fmla="val 25000"/>
                  <a:gd name="adj3" fmla="val 46801"/>
                  <a:gd name="adj4" fmla="val 66673"/>
                </a:avLst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06840" y="4402080"/>
                <a:ext cx="1711440" cy="609480"/>
              </a:xfrm>
              <a:prstGeom prst="leftArrowCallout">
                <a:avLst>
                  <a:gd name="adj1" fmla="val 25002"/>
                  <a:gd name="adj2" fmla="val 25000"/>
                  <a:gd name="adj3" fmla="val 46801"/>
                  <a:gd name="adj4" fmla="val 66673"/>
                </a:avLst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532400" y="4092480"/>
              <a:ext cx="1690560" cy="939960"/>
            </a:xfrm>
            <a:prstGeom prst="upArrowCallout">
              <a:avLst>
                <a:gd name="adj1" fmla="val 44968"/>
                <a:gd name="adj2" fmla="val 44964"/>
                <a:gd name="adj3" fmla="val 16667"/>
                <a:gd name="adj4" fmla="val 66660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530600" y="1874880"/>
              <a:ext cx="1690920" cy="939600"/>
            </a:xfrm>
            <a:prstGeom prst="upArrowCallout">
              <a:avLst>
                <a:gd name="adj1" fmla="val 44994"/>
                <a:gd name="adj2" fmla="val 44990"/>
                <a:gd name="adj3" fmla="val 16667"/>
                <a:gd name="adj4" fmla="val 66660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99400" y="2575080"/>
            <a:ext cx="966600" cy="1819080"/>
          </a:xfrm>
          <a:prstGeom prst="leftArrowCallout">
            <a:avLst>
              <a:gd name="adj1" fmla="val 47053"/>
              <a:gd name="adj2" fmla="val 47048"/>
              <a:gd name="adj3" fmla="val 16667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771480" y="5486400"/>
            <a:ext cx="1068552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скоре окружение было завершено, и римское войско в т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лусуток было уничтож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оружение римл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89120" y="1371600"/>
            <a:ext cx="396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47640" y="0"/>
            <a:ext cx="819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899172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Прич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) Карфаген хотел вернуть потерянные владения и былое морское могущество в Западном Средиземномор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) стремление к  господству Рима в Западном Средиземномор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Итог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)  Карфаген лишился своих владений за пределами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) лишился военного ф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) должен был выплачивать Риму большую сумму ден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52280"/>
            <a:ext cx="8686800" cy="7621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итва при Канна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-1371600" y="152280"/>
            <a:ext cx="11125080" cy="70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Вопросы на стр. 2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араграф 47, записи, вопросы, рабочая тетр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ознакомимся с основными событиями и итогами Пунических вой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выясним причины , ход военных собы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Будем учиться рассуждать, сравнивать, делать 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828800"/>
            <a:ext cx="8381880" cy="3809880"/>
          </a:xfrm>
          <a:prstGeom prst="rect">
            <a:avLst/>
          </a:prstGeom>
          <a:solidFill>
            <a:srgbClr val="bbe0e3"/>
          </a:solidFill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йска Ганнибала вторга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Итал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Битва при Кан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Окончание вой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йска Ганнибала вторгаются в Итали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konan.3dn.ru/Rome/punicwar2.gif"/>
          <p:cNvPicPr/>
          <p:nvPr/>
        </p:nvPicPr>
        <p:blipFill>
          <a:blip r:embed="rId1"/>
          <a:stretch/>
        </p:blipFill>
        <p:spPr>
          <a:xfrm>
            <a:off x="1447920" y="1447920"/>
            <a:ext cx="6553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Причина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желание Рима и Карфагена захватить остров Сицил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Ито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) Карфаген проиграл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) Карфаген потерял свои владения в Сицилии и Сарди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) Карфаген должен выплачивать большую контрибу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Пуническая война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264 – 241 г. до н.э.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анниб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19360" y="152352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 Клянусь, что я никогда не буду другом римлян и сделаю им столько зла, сколько смог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аннибал до самой смерти был верен своему сл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Ганнибал "/>
          <p:cNvPicPr/>
          <p:nvPr/>
        </p:nvPicPr>
        <p:blipFill>
          <a:blip r:embed="rId1"/>
          <a:stretch/>
        </p:blipFill>
        <p:spPr>
          <a:xfrm>
            <a:off x="380880" y="1523880"/>
            <a:ext cx="3886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lki.ru/Txt/Horizon/0809/Weapon/Main/c_alpes.jpg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еход через Альп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80280" y="1282680"/>
            <a:ext cx="2296080" cy="825480"/>
            <a:chOff x="80280" y="1282680"/>
            <a:chExt cx="2296080" cy="825480"/>
          </a:xfrm>
        </p:grpSpPr>
        <p:grpSp>
          <p:nvGrpSpPr>
            <p:cNvPr id="59" name=""/>
            <p:cNvGrpSpPr/>
            <p:nvPr/>
          </p:nvGrpSpPr>
          <p:grpSpPr>
            <a:xfrm>
              <a:off x="1668600" y="1364760"/>
              <a:ext cx="707760" cy="731880"/>
              <a:chOff x="1668600" y="1364760"/>
              <a:chExt cx="707760" cy="731880"/>
            </a:xfrm>
          </p:grpSpPr>
          <p:sp>
            <p:nvSpPr>
              <p:cNvPr id="60" name=""/>
              <p:cNvSpPr/>
              <p:nvPr/>
            </p:nvSpPr>
            <p:spPr>
              <a:xfrm>
                <a:off x="1668600" y="138492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1668600" y="13644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80280" y="1282680"/>
              <a:ext cx="121248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Вар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4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2760" y="4780080"/>
            <a:ext cx="2343600" cy="1191240"/>
            <a:chOff x="32760" y="4780080"/>
            <a:chExt cx="2343600" cy="1191240"/>
          </a:xfrm>
        </p:grpSpPr>
        <p:grpSp>
          <p:nvGrpSpPr>
            <p:cNvPr id="64" name=""/>
            <p:cNvGrpSpPr/>
            <p:nvPr/>
          </p:nvGrpSpPr>
          <p:grpSpPr>
            <a:xfrm>
              <a:off x="1668600" y="4787640"/>
              <a:ext cx="707760" cy="731880"/>
              <a:chOff x="1668600" y="4787640"/>
              <a:chExt cx="707760" cy="731880"/>
            </a:xfrm>
          </p:grpSpPr>
          <p:sp>
            <p:nvSpPr>
              <p:cNvPr id="65" name=""/>
              <p:cNvSpPr/>
              <p:nvPr/>
            </p:nvSpPr>
            <p:spPr>
              <a:xfrm>
                <a:off x="1668600" y="48078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1668600" y="478728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32760" y="4780080"/>
              <a:ext cx="1291680" cy="119124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Эмил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Пав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14520" y="2281680"/>
            <a:ext cx="2979720" cy="2381400"/>
            <a:chOff x="614520" y="2281680"/>
            <a:chExt cx="2979720" cy="2381400"/>
          </a:xfrm>
        </p:grpSpPr>
        <p:grpSp>
          <p:nvGrpSpPr>
            <p:cNvPr id="69" name=""/>
            <p:cNvGrpSpPr/>
            <p:nvPr/>
          </p:nvGrpSpPr>
          <p:grpSpPr>
            <a:xfrm>
              <a:off x="1700280" y="2575080"/>
              <a:ext cx="1476360" cy="1687320"/>
              <a:chOff x="1700280" y="2575080"/>
              <a:chExt cx="1476360" cy="1687320"/>
            </a:xfrm>
          </p:grpSpPr>
          <p:sp>
            <p:nvSpPr>
              <p:cNvPr id="70" name=""/>
              <p:cNvSpPr/>
              <p:nvPr/>
            </p:nvSpPr>
            <p:spPr>
              <a:xfrm>
                <a:off x="17002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510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8036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3273480" y="2589120"/>
              <a:ext cx="320760" cy="1657440"/>
              <a:chOff x="3273480" y="2589120"/>
              <a:chExt cx="320760" cy="1657440"/>
            </a:xfrm>
          </p:grpSpPr>
          <p:sp>
            <p:nvSpPr>
              <p:cNvPr id="74" name=""/>
              <p:cNvSpPr/>
              <p:nvPr/>
            </p:nvSpPr>
            <p:spPr>
              <a:xfrm>
                <a:off x="3273480" y="2589120"/>
                <a:ext cx="320760" cy="4507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73480" y="3795480"/>
                <a:ext cx="320760" cy="45108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rot="16200000">
              <a:off x="-163080" y="3059640"/>
              <a:ext cx="238140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римл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724360" y="1952640"/>
            <a:ext cx="2075040" cy="3027240"/>
            <a:chOff x="5724360" y="1952640"/>
            <a:chExt cx="2075040" cy="3027240"/>
          </a:xfrm>
        </p:grpSpPr>
        <p:grpSp>
          <p:nvGrpSpPr>
            <p:cNvPr id="78" name=""/>
            <p:cNvGrpSpPr/>
            <p:nvPr/>
          </p:nvGrpSpPr>
          <p:grpSpPr>
            <a:xfrm>
              <a:off x="5724360" y="1952640"/>
              <a:ext cx="1109880" cy="3027240"/>
              <a:chOff x="5724360" y="1952640"/>
              <a:chExt cx="1109880" cy="3027240"/>
            </a:xfrm>
          </p:grpSpPr>
          <p:sp>
            <p:nvSpPr>
              <p:cNvPr id="79" name=""/>
              <p:cNvSpPr/>
              <p:nvPr/>
            </p:nvSpPr>
            <p:spPr>
              <a:xfrm>
                <a:off x="6180120" y="2523960"/>
                <a:ext cx="349200" cy="184176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24360" y="2751120"/>
                <a:ext cx="298440" cy="135252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12040" y="1979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485040" y="4373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792760" y="1952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792760" y="44258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rot="16200000">
              <a:off x="6195960" y="2982240"/>
              <a:ext cx="238140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карфаген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87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88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359400" y="4938840"/>
            <a:ext cx="2752920" cy="839880"/>
            <a:chOff x="6359400" y="4938840"/>
            <a:chExt cx="2752920" cy="839880"/>
          </a:xfrm>
        </p:grpSpPr>
        <p:grpSp>
          <p:nvGrpSpPr>
            <p:cNvPr id="92" name=""/>
            <p:cNvGrpSpPr/>
            <p:nvPr/>
          </p:nvGrpSpPr>
          <p:grpSpPr>
            <a:xfrm>
              <a:off x="6359400" y="5042160"/>
              <a:ext cx="1042200" cy="736560"/>
              <a:chOff x="6359400" y="5042160"/>
              <a:chExt cx="1042200" cy="736560"/>
            </a:xfrm>
          </p:grpSpPr>
          <p:sp>
            <p:nvSpPr>
              <p:cNvPr id="93" name=""/>
              <p:cNvSpPr/>
              <p:nvPr/>
            </p:nvSpPr>
            <p:spPr>
              <a:xfrm rot="5400000">
                <a:off x="6526440" y="490212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200000">
                <a:off x="6499080" y="490356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512840" y="4938840"/>
              <a:ext cx="1599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здруб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8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-497880" y="5978520"/>
            <a:ext cx="1014012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216 году до н.э.Рим собрал новое войско , во главе с 2 конс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ми-Варроном и Эмилием Пав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732600" y="5978520"/>
            <a:ext cx="1019808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имское войско настигло Ганнибала около деревушки Кан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, где тот захватил римский  продовольственный с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59520" y="5978520"/>
            <a:ext cx="104616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имляне имели 2-хкратное превосходство и надеясь одерж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легкую победу, решили дать с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682200" y="5978520"/>
            <a:ext cx="1021788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аррон жаждавший битвы,построил легионы очень плотно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чти квадратом, надеясь нанести сокрушительный уд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81920" y="5978520"/>
            <a:ext cx="101934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 флангам расположилась конница, которой командовал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оба консу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10120" y="5978520"/>
            <a:ext cx="101646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аннибал , догадываясь о тактике римлян, основные силы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д своим командованием, построил выпуклым полукругом</a:t>
            </a:r>
            <a:r>
              <a:rPr b="1" lang="en-US" sz="2400" spc="-1" strike="noStrike">
                <a:solidFill>
                  <a:srgbClr val="80808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0"/>
            <a:ext cx="640080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978520"/>
            <a:ext cx="746604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переди стояла легковооруженная пехота,зато концы сер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ыли очень сильными-тяжеловооруженная пехота и кон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6" dur="1" fill="hold"/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80280" y="1282680"/>
            <a:ext cx="2296080" cy="825480"/>
            <a:chOff x="80280" y="1282680"/>
            <a:chExt cx="2296080" cy="825480"/>
          </a:xfrm>
        </p:grpSpPr>
        <p:grpSp>
          <p:nvGrpSpPr>
            <p:cNvPr id="106" name=""/>
            <p:cNvGrpSpPr/>
            <p:nvPr/>
          </p:nvGrpSpPr>
          <p:grpSpPr>
            <a:xfrm>
              <a:off x="1668600" y="1364760"/>
              <a:ext cx="707760" cy="731880"/>
              <a:chOff x="1668600" y="1364760"/>
              <a:chExt cx="707760" cy="731880"/>
            </a:xfrm>
          </p:grpSpPr>
          <p:sp>
            <p:nvSpPr>
              <p:cNvPr id="107" name=""/>
              <p:cNvSpPr/>
              <p:nvPr/>
            </p:nvSpPr>
            <p:spPr>
              <a:xfrm>
                <a:off x="1668600" y="138492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1668600" y="13644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80280" y="1282680"/>
              <a:ext cx="121248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Вар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4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2760" y="4780080"/>
            <a:ext cx="2343600" cy="1191240"/>
            <a:chOff x="32760" y="4780080"/>
            <a:chExt cx="2343600" cy="1191240"/>
          </a:xfrm>
        </p:grpSpPr>
        <p:grpSp>
          <p:nvGrpSpPr>
            <p:cNvPr id="111" name=""/>
            <p:cNvGrpSpPr/>
            <p:nvPr/>
          </p:nvGrpSpPr>
          <p:grpSpPr>
            <a:xfrm>
              <a:off x="1668600" y="4787640"/>
              <a:ext cx="707760" cy="731880"/>
              <a:chOff x="1668600" y="4787640"/>
              <a:chExt cx="707760" cy="731880"/>
            </a:xfrm>
          </p:grpSpPr>
          <p:sp>
            <p:nvSpPr>
              <p:cNvPr id="112" name=""/>
              <p:cNvSpPr/>
              <p:nvPr/>
            </p:nvSpPr>
            <p:spPr>
              <a:xfrm>
                <a:off x="1668600" y="48078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1668600" y="478728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32760" y="4780080"/>
              <a:ext cx="1291680" cy="119124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Эмил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Пав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14520" y="2281680"/>
            <a:ext cx="2979720" cy="2381400"/>
            <a:chOff x="614520" y="2281680"/>
            <a:chExt cx="2979720" cy="2381400"/>
          </a:xfrm>
        </p:grpSpPr>
        <p:grpSp>
          <p:nvGrpSpPr>
            <p:cNvPr id="116" name=""/>
            <p:cNvGrpSpPr/>
            <p:nvPr/>
          </p:nvGrpSpPr>
          <p:grpSpPr>
            <a:xfrm>
              <a:off x="1700280" y="2575080"/>
              <a:ext cx="1476360" cy="1687320"/>
              <a:chOff x="1700280" y="2575080"/>
              <a:chExt cx="1476360" cy="1687320"/>
            </a:xfrm>
          </p:grpSpPr>
          <p:sp>
            <p:nvSpPr>
              <p:cNvPr id="117" name=""/>
              <p:cNvSpPr/>
              <p:nvPr/>
            </p:nvSpPr>
            <p:spPr>
              <a:xfrm>
                <a:off x="17002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510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8036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273480" y="2589120"/>
              <a:ext cx="320760" cy="1657440"/>
              <a:chOff x="3273480" y="2589120"/>
              <a:chExt cx="320760" cy="1657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273480" y="2589120"/>
                <a:ext cx="320760" cy="4507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73480" y="3795480"/>
                <a:ext cx="320760" cy="45108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rot="16200000">
              <a:off x="-163080" y="3059640"/>
              <a:ext cx="238140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римл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24360" y="1952640"/>
            <a:ext cx="2075040" cy="3027240"/>
            <a:chOff x="5724360" y="1952640"/>
            <a:chExt cx="2075040" cy="3027240"/>
          </a:xfrm>
        </p:grpSpPr>
        <p:grpSp>
          <p:nvGrpSpPr>
            <p:cNvPr id="125" name=""/>
            <p:cNvGrpSpPr/>
            <p:nvPr/>
          </p:nvGrpSpPr>
          <p:grpSpPr>
            <a:xfrm>
              <a:off x="5724360" y="1952640"/>
              <a:ext cx="1109880" cy="3027240"/>
              <a:chOff x="5724360" y="1952640"/>
              <a:chExt cx="1109880" cy="3027240"/>
            </a:xfrm>
          </p:grpSpPr>
          <p:sp>
            <p:nvSpPr>
              <p:cNvPr id="126" name=""/>
              <p:cNvSpPr/>
              <p:nvPr/>
            </p:nvSpPr>
            <p:spPr>
              <a:xfrm>
                <a:off x="6180120" y="2523960"/>
                <a:ext cx="349200" cy="184176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24360" y="2751120"/>
                <a:ext cx="298440" cy="135252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12040" y="1979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85040" y="4373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2760" y="1952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92760" y="44258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rot="16200000">
              <a:off x="6195960" y="2982240"/>
              <a:ext cx="238140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карфаген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34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35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359400" y="4938840"/>
            <a:ext cx="2752920" cy="839880"/>
            <a:chOff x="6359400" y="4938840"/>
            <a:chExt cx="2752920" cy="839880"/>
          </a:xfrm>
        </p:grpSpPr>
        <p:grpSp>
          <p:nvGrpSpPr>
            <p:cNvPr id="139" name=""/>
            <p:cNvGrpSpPr/>
            <p:nvPr/>
          </p:nvGrpSpPr>
          <p:grpSpPr>
            <a:xfrm>
              <a:off x="6359400" y="5042160"/>
              <a:ext cx="1042200" cy="736560"/>
              <a:chOff x="6359400" y="5042160"/>
              <a:chExt cx="1042200" cy="736560"/>
            </a:xfrm>
          </p:grpSpPr>
          <p:sp>
            <p:nvSpPr>
              <p:cNvPr id="140" name=""/>
              <p:cNvSpPr/>
              <p:nvPr/>
            </p:nvSpPr>
            <p:spPr>
              <a:xfrm rot="5400000">
                <a:off x="6526440" y="490212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200000">
                <a:off x="6499080" y="490356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7512840" y="4938840"/>
              <a:ext cx="1599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здруб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8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rot="21566400">
            <a:off x="2344680" y="5068800"/>
            <a:ext cx="3826080" cy="609840"/>
          </a:xfrm>
          <a:prstGeom prst="leftArrowCallout">
            <a:avLst>
              <a:gd name="adj1" fmla="val 25002"/>
              <a:gd name="adj2" fmla="val 25000"/>
              <a:gd name="adj3" fmla="val 104565"/>
              <a:gd name="adj4" fmla="val 66673"/>
            </a:avLst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9732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6172200"/>
            <a:ext cx="83822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итва началась с атаки римлян на центр карфагенской  поз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2720" y="5791320"/>
            <a:ext cx="737856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дновременно брат Ганнибала,Газдрубал,нанес удар своей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нницей по правому флангу римск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55840" y="274680"/>
            <a:ext cx="654516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47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