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38A-66B5-47BB-89C9-B7E95656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1D9-1CE7-4195-8A02-7D81EC06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617-D03F-45F3-8250-54450687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35B-522F-4543-8ADB-33CEC242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0115-14BF-4B75-BB2B-37B5572D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10EE-5890-4CF0-AC33-9D3DFC7F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0534-6FD6-4F2D-845A-399BA403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9A1F-8512-4027-BEF6-0FBA973C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F83B-674E-4513-AE06-011A4BBF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F6AF-FA9A-4616-AE41-2FF49E77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7F43-1821-4FEA-AE84-909135A7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3BA-AC90-474F-B325-BA5DF456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E348-CF25-45D3-966F-008D5BC2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294E-695F-4C7A-A87C-BA4D4F5A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5FF7-3E0F-4C33-84CE-A7E3058E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EDED-14C9-4E2D-A61F-58CDBAB7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E81A-29C8-4EB2-8CCD-8A51260E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D73-5379-4E8D-9919-CC9A40C1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4D5-C4C2-4D02-A12A-4B9B9AA5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410-EC0A-40A5-8991-36F895AA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34E-FAE7-4B3F-B34D-24E9908D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283-8C9D-440D-9D1D-29F7B2FA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C79-5BC5-4D95-AA27-56213BEB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51F-129B-4B6E-A60B-3957BD88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92E5-33D0-4620-B3C3-AB2C01E2600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D9B5-1FA2-492B-B206-F4ADA34AA53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89;&#1086;&#1083;&#1102;&#1090;&#1080;&#1079;&#1084;" TargetMode="External"/><Relationship Id="rId2" Type="http://schemas.openxmlformats.org/officeDocument/2006/relationships/hyperlink" Target="http://ru.wikipedia.org/wiki/&#1040;&#1074;&#1090;&#1086;&#1088;&#1080;&#1090;&#1072;&#1088;&#1080;&#1079;&#1084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5;&#1086;&#1082;" TargetMode="External"/><Relationship Id="rId2" Type="http://schemas.openxmlformats.org/officeDocument/2006/relationships/hyperlink" Target="http://ru.wikipedia.org/wiki/&#1052;&#1086;&#1085;&#1086;&#1087;&#1086;&#1083;&#1080;&#1103;" TargetMode="External"/><Relationship Id="rId3" Type="http://schemas.openxmlformats.org/officeDocument/2006/relationships/hyperlink" Target="http://ru.wikipedia.org/wiki/&#1050;&#1072;&#1088;&#1090;&#1077;&#1083;&#1100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72;&#1076;&#1077;&#1084;&#1080;&#1095;&#1077;&#1089;&#1082;&#1080;&#1077;_&#1089;&#1074;&#1086;&#1073;&#1086;&#1076;&#1099;" TargetMode="External"/><Relationship Id="rId2" Type="http://schemas.openxmlformats.org/officeDocument/2006/relationships/hyperlink" Target="http://ru.wikipedia.org/wiki/&#1051;&#1080;&#1090;&#1077;&#1088;&#1072;&#1090;&#1091;&#1088;&#1072;" TargetMode="External"/><Relationship Id="rId3" Type="http://schemas.openxmlformats.org/officeDocument/2006/relationships/hyperlink" Target="http://ru.wikipedia.org/wiki/&#1048;&#1089;&#1082;&#1091;&#1089;&#1089;&#1090;&#1074;&#1086;" TargetMode="External"/><Relationship Id="rId4" Type="http://schemas.openxmlformats.org/officeDocument/2006/relationships/hyperlink" Target="http://ru.wikipedia.org/wiki/&#1040;&#1079;&#1072;&#1088;&#1090;&#1085;&#1099;&#1077;_&#1080;&#1075;&#1088;&#1099;" TargetMode="External"/><Relationship Id="rId5" Type="http://schemas.openxmlformats.org/officeDocument/2006/relationships/hyperlink" Target="http://ru.wikipedia.org/wiki/&#1055;&#1088;&#1086;&#1089;&#1090;&#1080;&#1090;&#1091;&#1094;&#1080;&#1103;" TargetMode="External"/><Relationship Id="rId6" Type="http://schemas.openxmlformats.org/officeDocument/2006/relationships/hyperlink" Target="http://ru.wikipedia.org/wiki/&#1040;&#1073;&#1086;&#1088;&#1090;" TargetMode="External"/><Relationship Id="rId7" Type="http://schemas.openxmlformats.org/officeDocument/2006/relationships/hyperlink" Target="http://ru.wikipedia.org/wiki/&#1069;&#1074;&#1090;&#1072;&#1085;&#1072;&#1079;&#1080;&#1103;" TargetMode="External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0;&#1080;&#1081;_&#1084;&#1080;&#1088;" TargetMode="External"/><Relationship Id="rId2" Type="http://schemas.openxmlformats.org/officeDocument/2006/relationships/hyperlink" Target="http://ru.wikipedia.org/wiki/&#1050;&#1086;&#1083;&#1086;&#1085;&#1080;&#1072;&#1083;&#1080;&#1079;&#1084;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86;" TargetMode="External"/><Relationship Id="rId2" Type="http://schemas.openxmlformats.org/officeDocument/2006/relationships/hyperlink" Target="http://ru.wikipedia.org/wiki/&#1062;&#1077;&#1088;&#1082;&#1086;&#1074;&#1100;" TargetMode="External"/><Relationship Id="rId3" Type="http://schemas.openxmlformats.org/officeDocument/2006/relationships/hyperlink" Target="http://ru.wikipedia.org/wiki/&#1055;&#1088;&#1072;&#1074;&#1086;&#1074;&#1086;&#1077;_&#1075;&#1086;&#1089;&#1091;&#1076;&#1072;&#1088;&#1089;&#1090;&#1074;&#1086;" TargetMode="External"/><Relationship Id="rId4" Type="http://schemas.openxmlformats.org/officeDocument/2006/relationships/hyperlink" Target="http://ru.wikipedia.org/wiki/&#1052;&#1086;&#1085;&#1072;&#1088;&#1093;" TargetMode="External"/><Relationship Id="rId5" Type="http://schemas.openxmlformats.org/officeDocument/2006/relationships/hyperlink" Target="http://ru.wikipedia.org/wiki/&#1069;&#1087;&#1080;&#1089;&#1090;&#1077;&#1084;&#1086;&#1083;&#1086;&#1075;&#1080;&#1103;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9;&#1090;&#1077;&#1089;&#1090;&#1074;&#1077;&#1085;&#1085;&#1086;&#1077;_&#1087;&#1088;&#1072;&#1074;&#1086;" TargetMode="External"/><Relationship Id="rId2" Type="http://schemas.openxmlformats.org/officeDocument/2006/relationships/hyperlink" Target="http://ru.wikipedia.org/wiki/&#1043;&#1088;&#1072;&#1078;&#1076;&#1072;&#1085;&#1089;&#1082;&#1080;&#1077;_&#1087;&#1088;&#1072;&#1074;&#1072;" TargetMode="External"/><Relationship Id="rId3" Type="http://schemas.openxmlformats.org/officeDocument/2006/relationships/hyperlink" Target="http://ru.wikipedia.org/wiki/&#1056;&#1072;&#1074;&#1085;&#1086;&#1087;&#1088;&#1072;&#1074;&#1080;&#1077;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91;&#1084;&#1072;&#1085;&#1080;&#1079;&#1084;" TargetMode="External"/><Relationship Id="rId2" Type="http://schemas.openxmlformats.org/officeDocument/2006/relationships/hyperlink" Target="http://ru.wikipedia.org/wiki/&#1069;&#1087;&#1086;&#1093;&#1072;_&#1055;&#1088;&#1086;&#1089;&#1074;&#1077;&#1097;&#1077;&#1085;&#1080;&#1103;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6;&#1082;&#1082;,_&#1044;&#1078;&#1086;&#1085;" TargetMode="External"/><Relationship Id="rId2" Type="http://schemas.openxmlformats.org/officeDocument/2006/relationships/hyperlink" Target="http://ru.wikipedia.org/wiki/1690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90;&#1077;&#1088;" TargetMode="External"/><Relationship Id="rId2" Type="http://schemas.openxmlformats.org/officeDocument/2006/relationships/hyperlink" Target="http://ru.wikipedia.org/wiki/&#1046;&#1072;&#1085;_&#1046;&#1072;&#1082;_&#1056;&#1091;&#1089;&#1089;&#1086;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101;&#1074;&#1080;&#1076;_&#1070;&#1084;" TargetMode="External"/><Relationship Id="rId2" Type="http://schemas.openxmlformats.org/officeDocument/2006/relationships/hyperlink" Target="http://ru.wikipedia.org/wiki/&#1048;&#1084;&#1084;&#1072;&#1085;&#1091;&#1080;&#1083;_&#1050;&#1072;&#1085;&#1090;" TargetMode="External"/><Relationship Id="rId3" Type="http://schemas.openxmlformats.org/officeDocument/2006/relationships/hyperlink" Target="http://ru.wikipedia.org/wiki/&#1048;&#1084;&#1084;&#1072;&#1085;&#1091;&#1080;&#1083;_&#1050;&#1072;&#1085;&#1090;" TargetMode="External"/><Relationship Id="rId4" Type="http://schemas.openxmlformats.org/officeDocument/2006/relationships/hyperlink" Target="http://ru.wikipedia.org/wiki/&#1040;&#1076;&#1072;&#1084;_&#1057;&#1084;&#1080;&#1090;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1;&#1085;,_&#1058;&#1086;&#1084;&#1072;&#1089;" TargetMode="External"/><Relationship Id="rId2" Type="http://schemas.openxmlformats.org/officeDocument/2006/relationships/hyperlink" Target="http://ru.wikipedia.org/wiki/&#1055;&#1077;&#1081;&#1085;,_&#1058;&#1086;&#1084;&#1072;&#1089;" TargetMode="External"/><Relationship Id="rId3" Type="http://schemas.openxmlformats.org/officeDocument/2006/relationships/hyperlink" Target="http://ru.wikipedia.org/wiki/&#1058;&#1086;&#1084;&#1072;&#1089;_&#1044;&#1078;&#1077;&#1092;&#1092;&#1077;&#1088;&#1089;&#1086;&#1085;" TargetMode="External"/><Relationship Id="rId4" Type="http://schemas.openxmlformats.org/officeDocument/2006/relationships/hyperlink" Target="http://ru.wikipedia.org/wiki/&#1058;&#1086;&#1084;&#1072;&#1089;_&#1044;&#1078;&#1077;&#1092;&#1092;&#1077;&#1088;&#1089;&#1086;&#1085;" TargetMode="External"/><Relationship Id="rId5" Type="http://schemas.openxmlformats.org/officeDocument/2006/relationships/hyperlink" Target="http://ru.wikipedia.org/wiki/&#1040;&#1076;&#1072;&#1084;&#1089;,_&#1044;&#1078;&#1086;&#1085;_(&#1087;&#1088;&#1077;&#1079;&#1080;&#1076;&#1077;&#1085;&#1090;)" TargetMode="External"/><Relationship Id="rId6" Type="http://schemas.openxmlformats.org/officeDocument/2006/relationships/hyperlink" Target="http://ru.wikipedia.org/wiki/&#1056;&#1077;&#1089;&#1087;&#1091;&#1073;&#1083;&#1080;&#1082;&#1072;" TargetMode="Externa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90;&#1086;&#1088;&#1080;&#1103;_&#1056;&#1086;&#1089;&#1089;&#1080;&#1080;" TargetMode="External"/><Relationship Id="rId2" Type="http://schemas.openxmlformats.org/officeDocument/2006/relationships/hyperlink" Target="http://ru.wikipedia.org/wiki/&#1046;&#1072;&#1083;&#1086;&#1074;&#1072;&#1085;&#1085;&#1072;&#1103;_&#1075;&#1088;&#1072;&#1084;&#1086;&#1090;&#1072;_&#1076;&#1074;&#1086;&#1088;&#1103;&#1085;&#1089;&#1090;&#1074;&#1091;" TargetMode="External"/><Relationship Id="rId3" Type="http://schemas.openxmlformats.org/officeDocument/2006/relationships/hyperlink" Target="http://ru.wikipedia.org/wiki/&#1042;&#1086;&#1089;&#1089;&#1090;&#1072;&#1085;&#1080;&#1077;_&#1076;&#1077;&#1082;&#1072;&#1073;&#1088;&#1080;&#1089;&#1090;&#1086;&#1074;" TargetMode="External"/><Relationship Id="rId4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5" Type="http://schemas.openxmlformats.org/officeDocument/2006/relationships/hyperlink" Target="http://ru.wikipedia.org/wiki/&#1056;&#1077;&#1074;&#1086;&#1083;&#1102;&#1094;&#1080;&#1103;_1905" TargetMode="External"/><Relationship Id="rId6" Type="http://schemas.openxmlformats.org/officeDocument/2006/relationships/hyperlink" Target="http://ru.wikipedia.org/wiki/&#1044;&#1091;&#1072;&#1083;&#1080;&#1089;&#1090;&#1080;&#1095;&#1077;&#1089;&#1082;&#1072;&#1103;_&#1084;&#1086;&#1085;&#1072;&#1088;&#1093;&#1080;&#1103;" TargetMode="External"/><Relationship Id="rId7" Type="http://schemas.openxmlformats.org/officeDocument/2006/relationships/hyperlink" Target="http://ru.wikipedia.org/wiki/&#1060;&#1077;&#1074;&#1088;&#1072;&#1083;&#1100;&#1089;&#1082;&#1072;&#1103;_&#1088;&#1077;&#1074;&#1086;&#1083;&#1102;&#1094;&#1080;&#1103;_1917" TargetMode="External"/><Relationship Id="rId8" Type="http://schemas.openxmlformats.org/officeDocument/2006/relationships/hyperlink" Target="http://ru.wikipedia.org/wiki/&#1055;&#1077;&#1088;&#1077;&#1089;&#1090;&#1088;&#1086;&#1081;&#1082;&#1072;" TargetMode="External"/><Relationship Id="rId9" Type="http://schemas.openxmlformats.org/officeDocument/2006/relationships/hyperlink" Target="http://ru.wikipedia.org/wiki/&#1056;&#1099;&#1085;&#1086;&#1095;&#1085;&#1072;&#1103;_&#1101;&#1082;&#1086;&#1085;&#1086;&#1084;&#1080;&#1082;&#1072;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Либерализм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561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История 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основные принцип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Выполнила Енина Г.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МКОУ СОШ пгт Яросла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20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2584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Формы либерализ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«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» означает движение за либеральную демократию и против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бсолют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 или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авторитар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; «экономический либерализм» — за частную собственность и против государственного регулирования; «культурный либерализм» — за личную свободу и против ограничений на неё из соображений патриотизма или религии; «социальный либерализм» — за равенство возможностей и против экономической эксплуатации. </a:t>
            </a: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овременный либерализм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 в большинстве развитых стран представляет собой смесь всех этих форм. 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олитический либерализм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 — убеждение, что отдельные личности являются основой закона и общества и что общественные институты существуют для того, чтобы способствовать наделению индивидуумов реальной властью, без заискивания перед элитами. В основе лежит представление, что каждый человек лучше всего знает, что для него лучше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Экономически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Экономический или классический либерализм выступает за индивидуальные права на собственность и свободу контракта. Девизом этой формы либерализма является «свободное частное предприятие». Экономические либералы полагают, что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рынок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не нуждается в государственном регулировании. Некоторые из них готовы допустить правительственный надзор над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монополи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картел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, другие утверждают, что монополизация рынка возникает только как последствие действий государств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Культурны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01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Monotype Corsiva"/>
              </a:rPr>
              <a:t>Культурный либерализм фокусирует внимание на правах личности, относящихся к сознанию и образу жизни, включая такие вопросы, как религиозная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кадемическая свобод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защита от вмешательства государства в личную жизнь. Культурный либерализм в той или иной степени возражает против государственного регулирования таких областей как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литератур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искусство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а также таких вопросов как деятельность научных круго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зартные игр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роституц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аборт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использование противозачаточных средст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эвтаназ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употребление алкоголя и других наркотиков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1413000"/>
            <a:ext cx="25354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Социальный либерализ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торонники социального либерализма утверждают, что без гарантии позитивных прав невозможна справедливая реализация негативных прав, поскольку на практике малообеспеченное население жертвует своими правами ради выживания, а суды чаще склоняются в пользу богатых. Социальный либерализм поддерживает введение некоторых ограничений на экономическую конкуренци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третьего поко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8355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Либерализм третьего поколения стал следствием послевоенной борьбы стран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ретьего мира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с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колониализмом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На сегодняшний день он больше связан с определёнными устремлениями, нежели с правовыми нормами. Его целью является борьба против сосредоточения власти, материальных ресурсов и технологий в группе развитых стран.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463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Идеалом либерализма является общество со свободой действий для каждого, свободным обменом политически значимой информацией, ограничением власт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осударст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церкви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ерховенством пра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частной собственностью</a:t>
            </a: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 и свободой частного предпринимательства. Либерализм отверг многие положения, бывшие основой предшествующих теорий государства, такие как божественное право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монархов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на власть и роль религии как единственного источника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ознания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.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ринципы либерализм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Фундаментальные принципы либерализма это признание: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данных от природы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естественны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(включая право на жизнь, личную свободу и собственность), а также других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граждански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равноправия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и равенства перед законом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рыночной экономики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ответственности правительства и прозрачности государственной власти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Согласно взглядам либералов, государственная власть существует для блага людей ей подвластных, и политическое руководство страной должно осуществляться на основе согласия большинства руководимых. На сегодняшний день политической системой, которая наиболее созвучна убеждениям либералов, является либеральная демократ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38648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Слово «либеральный» происходит от лат. liber («свободный»). </a:t>
            </a:r>
            <a:br>
              <a:rPr sz="3200"/>
            </a:b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В русский язык слово «либерализм» пришло в конце XVIII века из французского (фр. libé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ralisme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) и означало «вольнодумство». Негативный оттенок до сих пор сохранился в значении «излишняя терпимость, вредная снисходительность, попустительство» («Новый словарь русского языка» под ред. Т. Ф. Ефремова). В английском языке слово liberalism также изначально имело негативный оттенок, но утратило его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Многие начальные попытки реализации либеральных идей имели лишь частичный успех и порой даже приводили к противоположным результатам (диктатурам). Лозунги свободы и равенства подхватывали авантюристы. Между сторонниками различных интерпретаций либеральных принципов возникали острые конфликты. Войны, революции, экономические кризисы и правительственные скандалы провоцировали массовое разочарование в идеалах. Только с течением времени пришло более системное понимание основ этой идеологии, которые стали фундаментом для одной из самых распространённых на данный момент политических систем в мире — либеральной демократии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Стремление к личной свободе было свойственно представителям всех народов во все века. Яркими примерами являются города-полисы от Древней Греции до европейских с принципом — «воздух города делает свободным», политическая система которых включала многие элементы правового государства и демократии в сочетании со свободой частного предпринимательства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Либерализм упирается своими корням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уманизм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. Полноценные либеральные движения возникл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эпоху Просвещения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 во Франции, Англии и колониальной Америке. Они первыми сформулировали концепцию прав личности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51944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Идею, что свободные личности могут стать основой стабильного общества, выдвинул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жон Локк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Его «Два трактата о правлении»(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1690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 г.) сформулировали два фундаментальных либеральных принципа: экономической свободы как права на личное владение собственностью и интеллектуальной свободы. Основой его теории является представление о естественных правах: на жизнь, на личную свободу и на частную собственность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624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56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мыслителей эпохи Просвещения наибольшее влияние на либеральную мысль оказали две фигуры: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Вольте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выступал за конституционную монархию, и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н Жак Русс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развил учение о естественной свободе. Оба философа в разной форме отстаивали идею, что естественную свободу личности можно ограничивать, но нельзя уничтожать её суть. Вольтер подчёркивал важность религиозной терпимости и недопустимость пыток и унижения человеческого достоин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404640"/>
            <a:ext cx="305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194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аряду с французскими просветителями, важный вклад в либерализм внесл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эвид Юм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Иммануил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 Кант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дам Сми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Адам Смит развил теорию, что нравственная жизнь и экономическая деятельность возможны без директив со стороны государства и что наиболее сильны те нации, в которых граждане свободны проявлять свою собственную инициативу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56200" y="260280"/>
            <a:ext cx="2160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906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В колониальной Америке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Пей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Джефферсо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Джон Адамс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убедили своих соотечественников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восстать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во имя жизни, личной свободы и стремления к счастью — почти цитата Локка, но с одной важной поправкой: Джефферсон заменил слово «собственность» у Локка «стремлением к счастью». Тем самым главной целью революции стал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республика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основанная на личной свободе и правлении с согласия управляемых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892840" y="549360"/>
            <a:ext cx="2792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в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истории России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было несколько либеральных подъёмов, которые оказали значительное влияние на страну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1785 г.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лованные грамоты дворянству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и на права городов Екатерины Великой явились истоком гражданских прав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осстание декабристов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825 г. стало первой радикальной попыткой ввести конституционно-правовые ограничения на государственную власть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Реформы Александра II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освободили крестьян, дали независимый суд, ввели земское самоуправление и т. д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Революция 1905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самодержавию, появилась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дуалистическая монархия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Февральская революция 1917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монархии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8"/>
              </a:rPr>
              <a:t>Перестройка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987—1991 гг. привела к экономической либерализации, свободе слова, отмене монополии КПСС в политической сфере; последующие экономические реформы запустили процесс перехода страны к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9"/>
              </a:rPr>
              <a:t>рыночной экономике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4:44:47Z</dcterms:created>
  <dc:creator>alex</dc:creator>
  <dc:description/>
  <dc:language>en-US</dc:language>
  <cp:lastModifiedBy>КарМаН</cp:lastModifiedBy>
  <dcterms:modified xsi:type="dcterms:W3CDTF">2012-03-26T07:12:23Z</dcterms:modified>
  <cp:revision>4</cp:revision>
  <dc:subject/>
  <dc:title>Либерализм</dc:title>
</cp:coreProperties>
</file>