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7B15-75F4-4D1B-83F2-CEE664CF2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B2FA-097E-417C-82F7-447E3F7B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EDC1-889E-4BE9-A5AD-BA4B8A8D3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9EDF-B493-4467-A3A2-D7907BD1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A920-6CE2-4C25-8370-183EBADAD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214A-D2A7-4FBE-A8BD-93B4DA66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6BA8-58EB-4B6D-AFC3-B5C2E962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70DA-6EBA-4BC5-A590-875A4A52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CB37-6DC7-4CB5-9E17-F9073DCC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5A23-366E-4383-A79F-DBACF797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122B-69A9-43AE-AECF-962C17D7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AD60-2ECD-4C35-9535-4FF4BC07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9A1D-AE46-451D-8EC1-596DE856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AC2D-DC81-49CF-B735-1836DAB7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6479-D550-49F1-902B-346B3F5F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A780-26CA-4831-88B3-0E96FEE1A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07A5-7D03-4564-9FE3-123BEF0A7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0BA11-3722-4EA9-97F6-4051A705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B978E-80BF-4365-AAAB-41D1EF62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4D786-AE30-47E3-A124-C8110642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E3CD9-01F9-4507-A6C9-F1813FCF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9D988-5A83-4E1C-A0DE-959913AD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2085-5DE4-4325-97D3-C6617EDF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E45AC-DDAE-4DC8-AE41-DBC10564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71245-F8E9-4D33-8BE1-498654C0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E7F1E-FDC1-4BF6-AC51-0D13F75E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AD871-338C-4D0E-886A-AEE317E2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94AD9-1B1F-498B-AAF0-EF60E4DB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E23DE-3C33-4CB1-A7CB-CF3140E0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8140A-8DC2-40EC-BC01-6D5137404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7D65-9656-4CFB-9CD9-807A890B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F4C6-D748-4092-9E03-FC441862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C579-6913-4B8C-B88D-672CCEA1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89B1-83AA-465F-A70C-D528FB5C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FCFA-D8A7-47C0-AC83-D2E8CD63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35FE-E6F2-43B4-9101-66686E9D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4E0B-42DB-4F64-95CF-14AC855B86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C2B1-7312-4F10-9780-DCF1A05194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33E4-326B-4648-9413-977AAEC8B3C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1619280" y="1628640"/>
            <a:ext cx="6481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Урок  литературного  ч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по программе «Гармо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нтера Ирина Ивановн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1262643677_lyagushka-puteshestvennica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lyagushk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p_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тог урок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 каким произведением познакомились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то ее автор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 какому жанру относится произведению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то является главным героем сказк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уда собралась лягушка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Какие чувства у вас вызывает образ лягушк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На последующих уроках мы продолжим знакомство со сказк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1026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о первым буквам угаданных анаграмм сложить фамилию известного детского писател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А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АР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ДА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КАШ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Ш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РГ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РК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1232"/>
          <p:cNvPicPr/>
          <p:nvPr/>
        </p:nvPicPr>
        <p:blipFill>
          <a:blip r:embed="rId1"/>
          <a:stretch/>
        </p:blipFill>
        <p:spPr>
          <a:xfrm>
            <a:off x="25092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50872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рш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вол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хайл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овар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лаждалась – испытывать наслаждения от чего-нибуд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осил дождь – накрапывать мелкими кап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кированная спинка – покрыта лаком, блест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хитительный – замечательный, очаровате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поглазая голова – с выпуклыми глаз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ный прутик – креп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оинство – положительное качество, высокая мора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вни – это затопленные или заболоченные, густо заросшие тростником, рогозой участки рек. Растут и кувшинки. Туда прилетают и утки. В наших плавнях живут: кряква, чирок-свистунок, чирок - тряскунок, а из лягушек, - озерная лягушка, серая жаб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457200" y="1268280"/>
            <a:ext cx="82296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ягушки и жабы живут по всей земле. Нет их только в соленых морях и озерах. Зимой они спят подо льдом и снегом. А дышать и даже пить могут кожей. Взрослые лягушки скачут по земле. Ловко лазают по деревьям. А маленькие живут в воде, их зовут головаст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1" descr="frog-51-film"/>
          <p:cNvPicPr/>
          <p:nvPr/>
        </p:nvPicPr>
        <p:blipFill>
          <a:blip r:embed="rId1"/>
          <a:stretch/>
        </p:blipFill>
        <p:spPr>
          <a:xfrm>
            <a:off x="4500720" y="1125360"/>
            <a:ext cx="4105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lyagushka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lyag3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7:58:04Z</dcterms:created>
  <dc:creator>SamLab.ws</dc:creator>
  <dc:description/>
  <dc:language>en-US</dc:language>
  <cp:lastModifiedBy>Серый</cp:lastModifiedBy>
  <dcterms:modified xsi:type="dcterms:W3CDTF">2011-09-19T17:52:41Z</dcterms:modified>
  <cp:revision>5</cp:revision>
  <dc:subject/>
  <dc:title>Открытый урок  Кунда Н. Н.  с использованием регионального компанен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80000000000010250300207f7000400038000</vt:lpwstr>
  </property>
</Properties>
</file>