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6.gif" ContentType="image/gif"/>
  <Override PartName="/ppt/media/image16.jpeg" ContentType="image/jpeg"/>
  <Override PartName="/ppt/media/image13.gif" ContentType="image/gif"/>
  <Override PartName="/ppt/media/image26.jpeg" ContentType="image/jpeg"/>
  <Override PartName="/ppt/media/image5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7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media/image14.jpeg" ContentType="image/jpeg"/>
  <Override PartName="/ppt/media/image28.gif" ContentType="image/gif"/>
  <Override PartName="/ppt/media/image15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B8A6-F3AC-41A8-BA3C-9851D79EF4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чане чтят память своего великого земля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денсе есть Дом-музей Андерсена,в Саду скказки установлен памятник писателю, а вход в Копенгагенский порт охраняет статуя Русалочки, героиня одной из самых его чудесных сказ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удесные истории о добрых волшебниках и злых ведьмах, стойких оловянных солдатиках и белоснежных лебедях Андерсен придумывал с детства. Ему не нужна была волшебная палочка – всё, на что ни падал его взгляд, он умел превратить в сказ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номик в красном колпачке – старый бог снов, который зовётся в Дании Оле-Лукойе, что в переводе на русский язык значит «Оле Закрой Глазки!» Если как следует задуматься, то Оле-Лукойе не кто иной, как сам Андерс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льгельм Педерсен, Лоренц Фрюлих, Михаил Клодт, Ника Гольц в разные годы  иллюстрировали сказки Андерс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др из фильма Эльдара Рязанова «Андерсен. Жизнь без любв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12A67-1A95-4613-B79F-57560813E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4CC0F-074D-40BD-BEC4-0F3DCD6C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5476A-86FA-446D-AB10-3AB27A73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F1860-3B39-4374-8AB6-49379582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6F24-0E7A-4421-A2A0-DAFDBDF7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1CF5-17AA-4DAC-9981-0182B71D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2FEB-E91E-470F-B512-06417D1D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E32A-73DB-42CC-B298-70AD44D7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C281-3E49-45F3-8EA5-7D5ACA94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4E27-784A-457B-BECB-856F59F8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5454-B2F0-406E-85BA-819AA183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0675F-FF97-4E3E-A1C2-B903FE5F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67DC-F596-48F4-8834-082E8E21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D52D-2A68-44F7-A4FE-F3CBC8EA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EC69-9D77-4CDA-9853-11FFE307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69CE-452B-4094-BF95-402180896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D330-A968-483C-BBC5-694536CD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923A3-1F45-410A-8539-27D7AAC7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2835B-E190-4820-91C5-AAE90691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5689D-2F98-4690-9053-C8BF9DF1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E0A85-B21B-48AC-9438-08685E98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3929D-E831-4A72-A9F8-1320B2FE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A7566-E8DC-4472-8305-D9D3073F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D53FA-4D3D-4D2E-89B3-27E84267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1F46-8E2F-4012-9243-0DE9BF0A1D4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B179-0464-47B1-B6AE-BD9A10573C4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4.jpeg"/><Relationship Id="rId8" Type="http://schemas.openxmlformats.org/officeDocument/2006/relationships/image" Target="../media/image27.gif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76360" y="3716280"/>
            <a:ext cx="6076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ролю сказок посвящается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2225520" cy="2664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03640" y="13413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нс Кристиан Андерс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1805-187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ownRibbonSharp"/>
          <p:cNvSpPr/>
          <p:nvPr/>
        </p:nvSpPr>
        <p:spPr>
          <a:xfrm>
            <a:off x="2050920" y="333360"/>
            <a:ext cx="4969080" cy="1800360"/>
          </a:xfrm>
          <a:custGeom>
            <a:avLst/>
            <a:gdLst>
              <a:gd name="textAreaLeft" fmla="*/ 1242360 w 4969080"/>
              <a:gd name="textAreaRight" fmla="*/ 3727080 w 4969080"/>
              <a:gd name="textAreaTop" fmla="*/ 46188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0" y="0"/>
                </a:lnTo>
                <a:lnTo>
                  <a:pt x="8100" y="5541"/>
                </a:lnTo>
                <a:lnTo>
                  <a:pt x="13500" y="5541"/>
                </a:lnTo>
                <a:lnTo>
                  <a:pt x="13500" y="0"/>
                </a:lnTo>
                <a:lnTo>
                  <a:pt x="21600" y="0"/>
                </a:lnTo>
                <a:lnTo>
                  <a:pt x="18900" y="8030"/>
                </a:lnTo>
                <a:lnTo>
                  <a:pt x="21600" y="16059"/>
                </a:lnTo>
                <a:lnTo>
                  <a:pt x="16200" y="16059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6059"/>
                </a:lnTo>
                <a:lnTo>
                  <a:pt x="0" y="16059"/>
                </a:lnTo>
                <a:lnTo>
                  <a:pt x="2700" y="8030"/>
                </a:lnTo>
                <a:close/>
              </a:path>
              <a:path fill="none" w="21600" h="21600">
                <a:moveTo>
                  <a:pt x="8100" y="5541"/>
                </a:moveTo>
                <a:lnTo>
                  <a:pt x="5400" y="5541"/>
                </a:lnTo>
                <a:lnTo>
                  <a:pt x="5400" y="16059"/>
                </a:lnTo>
              </a:path>
              <a:path fill="none" w="21600" h="21600">
                <a:moveTo>
                  <a:pt x="5400" y="5541"/>
                </a:moveTo>
                <a:lnTo>
                  <a:pt x="8100" y="0"/>
                </a:lnTo>
              </a:path>
              <a:path fill="none" w="21600" h="21600">
                <a:moveTo>
                  <a:pt x="13500" y="5541"/>
                </a:moveTo>
                <a:lnTo>
                  <a:pt x="16200" y="5541"/>
                </a:lnTo>
                <a:lnTo>
                  <a:pt x="16200" y="16059"/>
                </a:lnTo>
              </a:path>
              <a:path fill="none" w="21600" h="21600">
                <a:moveTo>
                  <a:pt x="16200" y="5541"/>
                </a:moveTo>
                <a:lnTo>
                  <a:pt x="13500" y="0"/>
                </a:lnTo>
              </a:path>
            </a:pathLst>
          </a:custGeom>
          <a:solidFill>
            <a:srgbClr val="d4d42a"/>
          </a:solidFill>
          <a:ln w="9360">
            <a:solidFill>
              <a:srgbClr val="e4f321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708360" y="692280"/>
            <a:ext cx="1655640" cy="1657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124000" y="5418000"/>
            <a:ext cx="4897440" cy="1440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574560" y="2421000"/>
            <a:ext cx="85694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частлив был Андерсен,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дь жизнь его не прошла даром: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н подарил миру свои прекрасные сказки.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ушая их, люди становятся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мнее и добрее.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 rot="21234600">
            <a:off x="687240" y="1455840"/>
            <a:ext cx="7632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частливой дорог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в мир сказок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4508640"/>
            <a:ext cx="49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упанова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.Н.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тель МОУ СОШ№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. Брян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 rot="20847600">
            <a:off x="468000" y="3933720"/>
            <a:ext cx="3456000" cy="2335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rot="547800">
            <a:off x="5292360" y="692280"/>
            <a:ext cx="3333600" cy="2181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21090000">
            <a:off x="755640" y="764640"/>
            <a:ext cx="3333600" cy="2105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92040" y="3403800"/>
            <a:ext cx="5443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денсе - небольшой (по нашим меркам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уденческий городок на острове Фю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Дан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предполагается, в одном из домов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хранившихся в старой части город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805 году родился знаменитый датск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азочник Х.К. Андерсен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5232240" cy="3475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5480" y="617760"/>
            <a:ext cx="8259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го родителями были сапожник и прач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 все детство Андерсена прошло в нищет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потом, когда о нем заговоря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к об известном и талантливом сказочник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йдут слухи, что он был внебрачным сыном короля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1656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732720" y="3573360"/>
            <a:ext cx="197640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1330200" cy="2016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35280" y="620640"/>
            <a:ext cx="6337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тчане чтят память своего великого земля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Оденсе есть Дом-музей Андерсена, в Саду сказки установлен памятник писателю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 вх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опенгагенский 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храняет стату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усалочки, герои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ной из самых е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удесных сказ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5280" y="333360"/>
            <a:ext cx="833436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казки,которые создавала жизнь...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1920600" cy="2533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867280" y="4005360"/>
            <a:ext cx="2664000" cy="2465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411280" y="1268280"/>
            <a:ext cx="7104240" cy="54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удесные истории о добрых волшебник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злых ведьмах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ойких оловянных солдатик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белоснежных лебедя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ндерсен придумывал с дет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му не нужна бы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лшебная палочк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ё, на что ни пада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го взгляд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 умел преврат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аз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1280" y="4292640"/>
            <a:ext cx="2089080" cy="2031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164360" y="5265720"/>
            <a:ext cx="1655640" cy="1066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43280" y="476280"/>
            <a:ext cx="1515744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номик в красном колпачке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рый бог снов, который зовё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ании Оле-Лукой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в переводе на русский язы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чит «Оле Закрой Глазки!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как следует задуматьс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 Оле-Лукойе не кто ин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сам Андерсе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 rot="345600">
            <a:off x="7667280" y="4437000"/>
            <a:ext cx="1246320" cy="1812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rot="21371400">
            <a:off x="5796000" y="3499920"/>
            <a:ext cx="1562040" cy="2016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 rot="20425800">
            <a:off x="468000" y="4365360"/>
            <a:ext cx="1512720" cy="2016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 rot="20802600">
            <a:off x="1332000" y="3860640"/>
            <a:ext cx="1508040" cy="2109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4788000" y="2852640"/>
            <a:ext cx="1382760" cy="1727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6732720" y="2276640"/>
            <a:ext cx="1098360" cy="1744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 rot="20917800">
            <a:off x="2124000" y="3212640"/>
            <a:ext cx="1603440" cy="2059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3492360" y="3429000"/>
            <a:ext cx="1614600" cy="1955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611280" y="404640"/>
            <a:ext cx="1904760" cy="2476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6948360" y="3573360"/>
            <a:ext cx="1438560" cy="1944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2627280" y="404640"/>
            <a:ext cx="6048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ртинки из нашего дет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30080" y="1125360"/>
            <a:ext cx="598248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льгельм Педерсен, Лоренц Фрюлих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хаил Клодт, Ника Гольц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разные годы  иллюстрировали сказки Андерс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250920" y="189000"/>
            <a:ext cx="2303280" cy="3384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3132000" y="3573360"/>
            <a:ext cx="5426280" cy="2232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395280" y="4076640"/>
            <a:ext cx="2101680" cy="217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346200" y="1051200"/>
            <a:ext cx="48106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сказ 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леньком мальчик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торого поцеловал бог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вращается в кинобиограф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анса Кристиана Андерсен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реальные персонажи и событ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чудливейшим образ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плетаются с вымышленными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01800" y="8172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51480" y="5877000"/>
            <a:ext cx="460188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др из фильма Эльдара Рязано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Андерсен. Жизнь без любв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916360" y="260280"/>
            <a:ext cx="5429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КАЗКА О СКАЗОЧНИК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Не приспособлены ещё наши глаза,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чтобы разглядеть 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всю красоту природы,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но когда-нибудь мы этого достигнем.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Это будет сказкой из сказок.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      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      Х.К.Андерсен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640" y="4221000"/>
            <a:ext cx="1704960" cy="223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5:57:04Z</dcterms:created>
  <dc:creator>User</dc:creator>
  <dc:description/>
  <dc:language>en-US</dc:language>
  <cp:lastModifiedBy>User</cp:lastModifiedBy>
  <dcterms:modified xsi:type="dcterms:W3CDTF">2009-09-25T17:58:42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60000000000010250300207f7000400038000</vt:lpwstr>
  </property>
</Properties>
</file>