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E0BAD-89E3-4119-83DC-048F55B3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8D868-4878-4D6E-80D6-A7323A97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0DBB3-310A-4F57-8059-434D4E22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4726E-C0BE-45E7-8722-975826A0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9180-5F64-4D50-9EE8-EC7135BA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81F1-1111-45EE-99D4-6B02896B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CD34-85BD-409D-BD63-591D4238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FC8C-A594-4BE2-A3FB-156F7A1A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A0E9-74D8-4B9C-839E-ACFBD5D9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55BB-D783-4E02-A0CB-ACA458F3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68CB-B5FA-4BAB-83FB-02C9CBDE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B1D08-9CE3-498E-88E7-17430712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9024-07D7-42D7-92A2-2325D682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8EC8-2A32-4C8E-B203-D719124F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9B77-D2D2-47EC-AA2A-F7BA836B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2029-07EA-4356-BC51-1D90D2FB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6FE5-0357-4A7D-BCEF-EE4CEA26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4DFE0-3800-4D51-B3DE-547668D0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B916A-A119-4B29-9AA7-3D9CD16F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47CCB-4524-4F47-812A-F30556FE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C7C35-6D5C-4DCD-8273-FA7D9C66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04AE3-0EEB-4C17-8B9F-316C236E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B986B-DCFE-426B-A254-73E67197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E5418-E46C-4F16-A01F-6C540FE3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E1BE-E94B-4552-BB65-A60778034469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B4BC-DE04-413F-96C7-5E60260B8CE0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b-guide.ru/page_451_7.htm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3987720"/>
            <a:ext cx="9144000" cy="2870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124080" y="1752480"/>
            <a:ext cx="54864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.П.Бажов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Уральские сказы"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Государственный Эрмитаж. Зал итальянского искусства XVII-XVIII веков. Фотограф Интерпресс.ру / Николаев Александр"/>
          <p:cNvPicPr/>
          <p:nvPr/>
        </p:nvPicPr>
        <p:blipFill>
          <a:blip r:embed="rId2"/>
          <a:stretch/>
        </p:blipFill>
        <p:spPr>
          <a:xfrm>
            <a:off x="0" y="0"/>
            <a:ext cx="9144000" cy="6018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00400" y="5943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Arial"/>
              </a:rPr>
              <a:t>Эрмитаж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Государственный Эрмитаж. Зал итальянского искусства XVII-XVIII веков. Фотограф Интерпресс.ру / Николаев Александр"/>
          <p:cNvPicPr/>
          <p:nvPr/>
        </p:nvPicPr>
        <p:blipFill>
          <a:blip r:embed="rId2"/>
          <a:stretch/>
        </p:blipFill>
        <p:spPr>
          <a:xfrm>
            <a:off x="0" y="0"/>
            <a:ext cx="9144000" cy="6300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81080" y="62485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Зал итальянского искусства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8763120" cy="6892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057400" y="6216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алахитовая гостиная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e00"/>
                </a:solidFill>
                <a:latin typeface="Arial"/>
              </a:rPr>
              <a:t>Исаакиевский собор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1" name="" descr="Иконостас Исаакиевского собор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905120"/>
            <a:ext cx="91440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3197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638680" y="1523880"/>
            <a:ext cx="3200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Медной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горы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Хозяйка"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одберите текст к иллюстраци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>
            <a:hlinkClick r:id="rId2"/>
          </p:cNvPr>
          <p:cNvPicPr/>
          <p:nvPr/>
        </p:nvPicPr>
        <p:blipFill>
          <a:blip r:embed="rId3"/>
          <a:srcRect l="0" t="0" r="0" b="10000"/>
          <a:stretch/>
        </p:blipFill>
        <p:spPr>
          <a:xfrm>
            <a:off x="0" y="0"/>
            <a:ext cx="50385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105520" y="914400"/>
            <a:ext cx="3581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e00"/>
                </a:solidFill>
                <a:latin typeface="Arial"/>
              </a:rPr>
              <a:t>Пошёл к ней, а она рукой маячит, обойди-де руду-то с другой стороны. Он обошёл и видит - ящерок тут несчисленно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876560" y="685440"/>
            <a:ext cx="4267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Глядит, а перед ним на грудке руды у большого камня женщина какая-то сидит. Спиной к парню, а по косе видать - девка. Коса ссиза-чёрная и не как у наших девок болтается, а ровно прилипла к спине. На конце ленты не то красные, не то зелёные. Сквозь светеют и тонко этак позванивают, будто листовая медь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5" name="" descr="">
            <a:hlinkClick r:id="rId2"/>
          </p:cNvPr>
          <p:cNvPicPr/>
          <p:nvPr/>
        </p:nvPicPr>
        <p:blipFill>
          <a:blip r:embed="rId3"/>
          <a:srcRect l="0" t="0" r="0" b="-59"/>
          <a:stretch/>
        </p:blipFill>
        <p:spPr>
          <a:xfrm>
            <a:off x="304920" y="457200"/>
            <a:ext cx="4640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181480" y="6091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Как комнаты большие под землёй стали, а стены у них разные. То всё зелёные, то жёлтые с золотыми крапинками. На которых опять цветы медные. Синие тоже есть, лазоревые. Однем словом, изукрашено, что и сказать нельзя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8121"/>
          <a:stretch/>
        </p:blipFill>
        <p:spPr>
          <a:xfrm>
            <a:off x="228600" y="380880"/>
            <a:ext cx="488628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495680" y="609480"/>
            <a:ext cx="4191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- Вот, - говорит, - тебе подарочек для твоей невесты, - и подаёт большую малахитову шкатулку. А там, слышь-ко, всякий женский прибор. Серьги, кольца и протча, что даже не у всякой богатой невесты бывает.</a:t>
            </a:r>
            <a:br>
              <a:rPr sz="2800"/>
            </a:b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0" t="0" r="0" b="-18"/>
          <a:stretch/>
        </p:blipFill>
        <p:spPr>
          <a:xfrm>
            <a:off x="155520" y="46080"/>
            <a:ext cx="425124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028840" y="114264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Вскорости нашёл им Степан глыбу такую. Выволокли её наверх. Гордятся, - вот-де мы какие, а Степану воли не дали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0" r="0" b="8121"/>
          <a:stretch/>
        </p:blipFill>
        <p:spPr>
          <a:xfrm>
            <a:off x="0" y="731880"/>
            <a:ext cx="483876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48320" y="837720"/>
            <a:ext cx="4495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e00"/>
                </a:solidFill>
                <a:latin typeface="Arial"/>
              </a:rPr>
              <a:t>А он, слышь-ко, на руднике у высокого камня мёртвый лежит, ровно улыбается, … Которые люди первые набежали, сказывали, что около покойника ящерку зелёную видели, … Сидит будто над покойником, голову подняла, а слёзы у ей так и каплют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4736" t="2160" r="3657" b="11547"/>
          <a:stretch/>
        </p:blipFill>
        <p:spPr>
          <a:xfrm>
            <a:off x="228600" y="685800"/>
            <a:ext cx="4475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ня</cp:lastModifiedBy>
  <dcterms:modified xsi:type="dcterms:W3CDTF">2009-04-04T06:03:2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c000000000001024140</vt:lpwstr>
  </property>
  <property fmtid="{D5CDD505-2E9C-101B-9397-08002B2CF9AE}" pid="3" name="Version">
    <vt:r8>1</vt:r8>
  </property>
</Properties>
</file>