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7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6-22T23:29:44.625000000" idx="1">
    <p:pos x="5760" y="0"/>
    <p:text/>
  </p:cm>
</p:cmLst>
</file>

<file path=ppt/comments/comment4.xml><?xml version="1.0" encoding="utf-8"?>
<p:cmLst xmlns:p="http://schemas.openxmlformats.org/presentationml/2006/main">
  <p:cm authorId="0" dt="2011-06-22T23:29:44.625000000" idx="2">
    <p:pos x="5760" y="0"/>
    <p:text/>
  </p:cm>
</p:cmLst>
</file>

<file path=ppt/comments/comment5.xml><?xml version="1.0" encoding="utf-8"?>
<p:cmLst xmlns:p="http://schemas.openxmlformats.org/presentationml/2006/main">
  <p:cm authorId="0" dt="2011-06-22T23:29:44.625000000" idx="3">
    <p:pos x="5760" y="0"/>
    <p:text/>
  </p:cm>
</p:cmLst>
</file>

<file path=ppt/comments/comment6.xml><?xml version="1.0" encoding="utf-8"?>
<p:cmLst xmlns:p="http://schemas.openxmlformats.org/presentationml/2006/main">
  <p:cm authorId="0" dt="2011-06-22T23:29:44.625000000" idx="4">
    <p:pos x="5760" y="0"/>
    <p:text/>
  </p:cm>
</p:cmLst>
</file>

<file path=ppt/comments/comment7.xml><?xml version="1.0" encoding="utf-8"?>
<p:cmLst xmlns:p="http://schemas.openxmlformats.org/presentationml/2006/main">
  <p:cm authorId="0" dt="2011-06-22T23:29:44.625000000" idx="5">
    <p:pos x="5760" y="0"/>
    <p:text/>
  </p:cm>
</p:cmLst>
</file>

<file path=ppt/comments/comment8.xml><?xml version="1.0" encoding="utf-8"?>
<p:cmLst xmlns:p="http://schemas.openxmlformats.org/presentationml/2006/main">
  <p:cm authorId="0" dt="2011-06-22T23:29:44.625000000" idx="6">
    <p:pos x="5760" y="0"/>
    <p:text/>
  </p:cm>
</p:cmLst>
</file>

<file path=ppt/comments/comment9.xml><?xml version="1.0" encoding="utf-8"?>
<p:cmLst xmlns:p="http://schemas.openxmlformats.org/presentationml/2006/main">
  <p:cm authorId="0" dt="2011-06-22T23:29:44.625000000" idx="7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F64-266C-4655-B71F-52CC86D0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BC1-C6BB-452D-B555-4DE92CCF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C68DE-4203-4EF0-9B4B-26F71643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EC1D2-3A76-464B-80AA-D8313D2C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1DD2A-1EA2-4760-9B12-6E4C844F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F5372-5A97-44E9-9C78-8E8C0AA0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49EFE-9893-46DF-B266-FE5EFCF8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5C874-7AF6-442E-B638-70CDD5D8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D287C-7BF9-4F52-ACBE-B6EFAB9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6367C-22BC-48EC-96EA-57CA43CE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944F2-0A08-43DF-87B1-B506F01C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6BD4D-254C-44D3-A0DC-A8FB7585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9E0-C769-4DFF-9497-80A0444A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DA028-54B6-426F-99F3-81148800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638D9-F6D7-498A-A6F7-42D1AB49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0FD84-3421-460C-AFFA-75D87389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5E0AC-92C0-493D-9394-4AAB3CD8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F7A99-7DDC-4E08-9108-5AABC4A8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A82A2-1C97-49D3-8A98-2228A94A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1DD8B-E448-49CF-A210-7E0BB2BC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4B09A-46E8-4AB2-BB2E-6C2ED19E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D1ED3-924B-42B9-9A67-5194CA07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3344C-A787-4D9D-86ED-4A2E5630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EAB-FD87-401A-89B1-60CA772A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21978-7B40-4615-8020-C3F350C5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D99C6-51C7-4643-B93E-61177E5E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BC129-E7FC-4413-B035-21F4C490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4D8E7-6FD3-44CE-9F50-37A72D55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56910-861A-4EE0-8A2A-32813CE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7950A-13FC-4AA4-8258-1DEACBD7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96368-1C14-40D8-B87C-120A7AF4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7F0DB-B0BB-4D1D-B947-2BCCF483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6B9C2-18E2-4E38-8A0F-3F9DBC7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52CE2-7699-4A9D-BE88-7D481082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7143-DAF6-433D-86EC-53395A86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EBC7A-544C-4DE0-A1DF-4D44A078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4678D-BDDF-4E5C-99C8-1D884CC5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B3962-FD80-44FF-9757-BCDEFADD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5F697-E77C-4997-AC3C-E3EAABD7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26CC4-C035-4799-A951-FE111F3A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59601-74A2-41E5-8E0F-EE335B29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3F848-388C-48CC-AFD0-0EBABF9F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D9F57-C293-4F22-AC76-6DA6A33E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AB96A-B794-428F-A33F-B87B9091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458B9-53C0-4565-BD3D-D57C74B9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8147-4FAF-426D-92E4-77524100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2CC25-D68A-490D-80C2-092C3C05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9D81B-67B4-4F84-8CC0-EEEBEC44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1C057-D15B-4EE6-AC62-1FB26DAF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C1FD2-0B67-4299-AAF4-7B068307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1AAFD-5CC6-4D14-B1FF-0201AF92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2F71-5C6D-4990-9702-BB3942D8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5AE5-F806-4A22-8AE4-546C0DDB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ADE7-643B-4D06-8817-6074FB71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6688-61C6-406B-9392-96B249A5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7C7D-9232-473B-B11F-6727F91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77F-36EE-4432-9D06-5C9D90CE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E872-80B6-41EC-AADD-124BCED4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9C7D-BEB3-4696-B495-B3113A71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3C40-AC42-45AE-9E79-4E787502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A18D-6D3E-4D41-883D-641129C7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DA15-4E00-4CC6-9E4C-22D8DED6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B77A-3953-413E-B3CA-3B132873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7408-30D6-4C5C-B2C2-DDA91B5E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444D5-F4B8-4674-BD90-9FD86288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8A9A-5305-4313-9D5C-A5B277D4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42D50-F090-4DCC-A357-E79974DC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C55-DF66-4A09-A6A6-B15373E2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23796-3A98-46AC-B711-BD8F2BEC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8723-CFBA-42D3-AE96-8CB7DF9E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A549-416B-4A0D-AC35-4395A9A9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5072-55C2-4059-91EC-9265CA45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50F59-F523-47C1-B9D0-D43C8EFC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0B7B-6EF5-42DD-81C2-52DD73F0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56ACB-2BCA-43D3-981E-A52FA5E2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7035-95D3-4A9F-9283-B4F6C3EC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44CD8-4FE7-4957-8A8B-97926D5B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A464-A131-4141-BB81-5AF0F198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98C-ACC8-46E6-9441-EDD10C32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014A9-B0C4-4920-BBB4-36FB9463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3A0B-F714-4F55-B1E9-DE4398C8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B90A-3E6C-4D11-9F3D-BA9BF4EA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B05E9-1A00-4B7C-BC03-C04F20F7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389B8-619E-4FC4-9A74-44185A59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B427F-B7E2-4512-B3D3-26AB67F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9EB8-3DE3-4B91-87BC-EF546CB6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9E5CC-7D98-4E72-862F-B1A7AD90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31DC9-8FF1-4DC7-B747-9CA96473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D0882-3766-4461-8FEE-FB0CEEE4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BCC-91A3-409A-9FE4-85DBD81E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7BC3E-24E7-49BA-B045-1E66BF91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7129C-BE1C-4FAA-94E7-DA48AB4E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F5C1-EB43-46C1-9457-32FA5601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67662-CB5B-46A3-BA05-F14ABDF9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8DC88-393A-4981-A31A-3CBF6C53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F7B80-8CD0-44E8-8BB2-8C7E976F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0CD01-CCAC-4473-9941-A67ACECA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367C8-E753-4BC0-B0C6-A60EAACC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5B1C-6D4B-4658-8EFB-DE78C37C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EB2C1-6167-4762-8F9B-0E2003F6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A18-D1D8-47A9-B28F-942F58E3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2CC01-4535-468D-9BB4-FCC15AA6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DEE35-2762-4728-B5F6-ECEEF5DB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4ADB7-1538-4BD2-BE30-202674DF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A438F-069B-4A86-B93E-80210336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E24F2-FB71-4A1E-8A44-E0D0FBD8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44E09-27EE-41FB-A0C4-88EA404D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94EFE-9D00-4130-8A0D-E9DAAEFD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ADD61-6310-451B-8931-AF96F7E1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D1E80-3FD0-415A-BCC2-CB47D2A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FE7CD-D0D4-440F-8CD8-B3A4BE2D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77A-184C-4734-A2D9-358F0E8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F6558-2481-40E4-8E6D-C497AD93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EF335-905D-47CE-916E-5F5A19EC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3E23B-3D18-4F07-B684-4C9842E6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5BBAE-4A17-496F-99BD-0969C087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FF7A5-9E4A-47F3-91C2-00452559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97D7C-2BC3-45E0-B7AB-21B78207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A3E2F-0094-4C45-9754-DB787EE0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DD45B-DF90-43F0-A496-4EA0FBC9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92FD6-50EA-404B-8B42-25C7AE93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8E345-6C7F-49A2-B028-EE2E266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28D-7047-4EE8-9C55-27002B10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1FC1A-EBA7-42F3-B0E6-E602E76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C751F-3E20-4EF2-824A-6FCF5124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D4F38-92AB-49EB-B08B-322AE5AC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561A0-C332-452C-A372-65521C34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A6038-D7A9-4ABA-977E-75133C7B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99A47-783F-45B7-A64C-B6F4AAB5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98C16-BF1C-42F4-83BC-07BDF145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C12BE-AA12-41C6-ACDA-D05327CD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B68EE-D266-45AC-809F-1FAD01D7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4E001-928B-443D-B417-C20CCCA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420-50B5-4F91-AB6A-A5C68080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E9FA6-A315-40DB-B418-31D6BA22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F966E-C654-4721-91A1-FC67FE4C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3AEEC-BFB8-4DD3-985B-6C83C775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62DE8-A5ED-4BE7-AC9F-5844DEBB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3687E-21C8-4C3D-A8E4-17E0477E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154A0-7190-4EC0-933D-2DE8A549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C184F-D137-4363-87CF-6A6629D8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90CA6-9B2D-41E4-895B-6E99694E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A4E23-68BE-4BE6-BE24-423C5611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02E69-F856-4C2B-84C7-04526D19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346B-5285-4DE8-A287-3DECE1E23DC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834E-6DB1-41C1-A764-B1921DE80B4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EA59-293C-434B-8855-24E5C67A0A6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5D26-51B2-45BD-8465-6768EA0EB84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129A-31E3-42E7-933B-3BA3D719971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17BF-B2C5-4C18-A9AE-AF47B207B3F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D796-1A59-4EB4-8950-23B2CF94FC2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4F63-7355-4236-9A07-96B252705E2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94A2-4424-4EAB-B536-075515F9740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8CE1-73C8-4CC9-86D7-5828D87BD4F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3072-FC7A-4749-A4F0-34A9865A50B5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D0EF-F65A-45A3-8CB2-8B24AAD0CC4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thumb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63e38"/>
            </a:solidFill>
            <a:miter/>
          </a:ln>
        </p:spPr>
      </p:pic>
      <p:sp>
        <p:nvSpPr>
          <p:cNvPr id="608" name="Прямоугольник 10"/>
          <p:cNvSpPr/>
          <p:nvPr/>
        </p:nvSpPr>
        <p:spPr>
          <a:xfrm>
            <a:off x="642960" y="2714760"/>
            <a:ext cx="75722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5a00"/>
                </a:solidFill>
                <a:latin typeface="Georgia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на географической кар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вестные детские поэты, пис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3143160" y="857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раснотурь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Лоретц 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7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3183480" y="7858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71680" y="164628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lib.com/biograph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ографии русских поэтов и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8923320" cy="47847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5"/>
          <p:cNvSpPr/>
          <p:nvPr/>
        </p:nvSpPr>
        <p:spPr>
          <a:xfrm>
            <a:off x="861120" y="27860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1218240" y="314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1500120" y="38577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001960" y="31431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4648320" y="4500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07760" y="4071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575160" y="43578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643200" y="642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Корнейчуков Николай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Чуковский Корней Иванович (Корнейчуков Николай Васильевич) - фотография автора"/>
          <p:cNvPicPr/>
          <p:nvPr/>
        </p:nvPicPr>
        <p:blipFill>
          <a:blip r:embed="rId2"/>
          <a:stretch/>
        </p:blipFill>
        <p:spPr>
          <a:xfrm>
            <a:off x="928800" y="6429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6"/>
          <p:cNvSpPr/>
          <p:nvPr/>
        </p:nvSpPr>
        <p:spPr>
          <a:xfrm>
            <a:off x="571680" y="2967120"/>
            <a:ext cx="8001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настоящее имя Корнейчуков Николай Васильевич) родился 19 марта (31 н.с.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етербург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16 по приглашению Горького Чуковский руководит детским отделом издательства "Парус" и начинает писать для детей: стихотворные сказки "Крокодил" (1916), "Мойдодыр" (1923), "Муха-цокотуха" (1924), "Бармалей" (1925), "Айболит" (1929)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428760" y="5214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жизни выступал со статьями-эссе о Зощенко, Б.Житкове, А. Ахматовой, Б.Пастернаке и многих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гния Львовна (1906-1981) родилась 17 февра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ск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ветеринарного врача. Получила хорошее домашнее воспитание, которым руководил отец. Училась в гимназии, где и начала писать ст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357120" y="42148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егулярно выпускала сборники стихов: "Братишки" (1928), "Мальчик наоборот"(1934), "Игрушки", (1936), "Снегирь" (19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Барто Агния Львовна - фотография автора"/>
          <p:cNvPicPr/>
          <p:nvPr/>
        </p:nvPicPr>
        <p:blipFill>
          <a:blip r:embed="rId2"/>
          <a:stretch/>
        </p:blipFill>
        <p:spPr>
          <a:xfrm>
            <a:off x="11430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9"/>
          <p:cNvSpPr/>
          <p:nvPr/>
        </p:nvSpPr>
        <p:spPr>
          <a:xfrm>
            <a:off x="428760" y="350028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были опубликованы книжки стихов для детей - "Китайчонок Ван Ли", Мишка-вориш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1"/>
          <p:cNvSpPr/>
          <p:nvPr/>
        </p:nvSpPr>
        <p:spPr>
          <a:xfrm>
            <a:off x="214200" y="522612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50 выходят новые сборники: "Первоклассница", "Звенигород", "Веселые стихи", "Стихи детям". В эти же годы работает над сценариями детских кинофильмов "Подкидыш", "Слон и веревочка", "Алеша Птицын вырабатывает характер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жов Паве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ов Павел Петрович (27 января 1879 - 31 августа 1967). Знаменитый уральский сказ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мье рабочих. Окончи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е духовное училище (1893) и Пермскую духовную семинарию (18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285840" y="33577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-е гг. Бажов дополняет и развивает проблематику довоенного "гумешевского" цикла на материале истории Южного Урала ("Иванко Крылатко", "Чугунная бабушка", "Коренная тайность" и др.). Отдельную группу составляют сатирические "Сказы о немцах" (1943-45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Бажов Павел Петрович - фотография автора"/>
          <p:cNvPicPr/>
          <p:nvPr/>
        </p:nvPicPr>
        <p:blipFill>
          <a:blip r:embed="rId2"/>
          <a:stretch/>
        </p:blipFill>
        <p:spPr>
          <a:xfrm>
            <a:off x="1214280" y="4287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4"/>
          <p:cNvSpPr/>
          <p:nvPr/>
        </p:nvSpPr>
        <p:spPr>
          <a:xfrm>
            <a:off x="428760" y="482616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Бажова завершается социально-бытовыми сказами ("Васина гора", "Широкое плечо", "Не та цапля" и др.), которые тематически примыкают к его "Уральским былям". Последнее крупное произведение - автобиографическая повесть "Далекое - близкое" (1949) содержит многообразные сведения из жизни и быта Екатеринбурга начала XX 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ьдар Абуз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6"/>
          <p:cNvSpPr/>
          <p:nvPr/>
        </p:nvSpPr>
        <p:spPr>
          <a:xfrm>
            <a:off x="357120" y="2143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5 июня 1976 года в Горь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7"/>
          <p:cNvSpPr/>
          <p:nvPr/>
        </p:nvSpPr>
        <p:spPr>
          <a:xfrm>
            <a:off x="285840" y="25718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 исторический факультет  университет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его Нов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ютировал как прозаик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лся в литературных журналах и альманахах «Вавилон», «Дружба Народов», «Октябрь», «Знамя», «Новый мир», «День и ночь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ереведены на немецкий, чешский, шведский, армянский, арабский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http://glfr.ru/img/cache/86f6c841077e2b10cb50ed0e6ce1704f"/>
          <p:cNvPicPr/>
          <p:nvPr/>
        </p:nvPicPr>
        <p:blipFill>
          <a:blip r:embed="rId2"/>
          <a:stretch/>
        </p:blipFill>
        <p:spPr>
          <a:xfrm>
            <a:off x="1071720" y="285840"/>
            <a:ext cx="13572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бородин Анато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285840" y="2428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Григорьевич Байбородин родился 24 марта 1950 года в селе Сосново-Озерск Республики Бурятия. После оконч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государственного университета (отделение журналистики) работал в сельских и областных газетах Восточной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glfr.ru/img/cache/917ca793ed8ea3fbd85969f6181722a4"/>
          <p:cNvPicPr/>
          <p:nvPr/>
        </p:nvPicPr>
        <p:blipFill>
          <a:blip r:embed="rId2"/>
          <a:stretch/>
        </p:blipFill>
        <p:spPr>
          <a:xfrm>
            <a:off x="1214280" y="285840"/>
            <a:ext cx="1643400" cy="209556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9"/>
          <p:cNvSpPr/>
          <p:nvPr/>
        </p:nvSpPr>
        <p:spPr>
          <a:xfrm>
            <a:off x="357120" y="4071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ьес «Косопят – борода до пят» (Постановка: Иркутский городской театр 2003.), «Птицы черные, птицы белые» (Постановка: Иркутский областной кукольный театр, 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копьева Зо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285840" y="2428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 Зоя Егоровна Прокопьева родилась в селе Белозерское Белозерского района Курганской области 15.11.19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http://glfr.ru/img/cache/1bbc1f52681bd9c272206412d6c69a29"/>
          <p:cNvPicPr/>
          <p:nvPr/>
        </p:nvPicPr>
        <p:blipFill>
          <a:blip r:embed="rId2"/>
          <a:stretch/>
        </p:blipFill>
        <p:spPr>
          <a:xfrm>
            <a:off x="1214280" y="428760"/>
            <a:ext cx="1202040" cy="15858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0"/>
          <p:cNvSpPr/>
          <p:nvPr/>
        </p:nvSpPr>
        <p:spPr>
          <a:xfrm>
            <a:off x="357120" y="310500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9 году Прокопьева переезжает 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1"/>
          <p:cNvSpPr/>
          <p:nvPr/>
        </p:nvSpPr>
        <p:spPr>
          <a:xfrm>
            <a:off x="571680" y="35002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а возглавляет Бюро пропаганды художественной литературы Челябинской областной писательской организации, деятельность которого распространялась на три области Южного Урала: Челябинскую, Курганскую и Оренбургскую. У нее выходят сборники прозы - в Челябинске и в Москве, которые, в основном, развивают «биографическую» и «рабочую» тем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анце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285840" y="242892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Николаевич Яранцев родился в г. Калинин (Тверь) в 1958 году. Закончил гуманитарный факультет Новосибирского государственного университета (Академгородок) по специальности «филолог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1"/>
          <p:cNvSpPr/>
          <p:nvPr/>
        </p:nvSpPr>
        <p:spPr>
          <a:xfrm>
            <a:off x="571680" y="392904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0-е годы работал в газетах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Сибирская газета» и «Слово», печатался в «Советской Сибири», «Вечернем Новосибирске», «Молодости Сибири», «Новой Сибири». С 2000 года печатается, а затем работает (с 2002 г.) в журнале «Сибирские огни», одновременно занимаясь литературоведением, в том числе сибир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glfr.ru/img/cache/43b77d444f213a07597b9982d12b4e0d"/>
          <p:cNvPicPr/>
          <p:nvPr/>
        </p:nvPicPr>
        <p:blipFill>
          <a:blip r:embed="rId2"/>
          <a:stretch/>
        </p:blipFill>
        <p:spPr>
          <a:xfrm>
            <a:off x="1500120" y="571680"/>
            <a:ext cx="1357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17:57Z</dcterms:created>
  <dc:creator>Илья Кузнецов</dc:creator>
  <dc:description/>
  <dc:language>en-US</dc:language>
  <cp:lastModifiedBy>Admin</cp:lastModifiedBy>
  <dcterms:modified xsi:type="dcterms:W3CDTF">2011-09-08T16:32:02Z</dcterms:modified>
  <cp:revision>1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e0000000000010243100207f6000400038000</vt:lpwstr>
  </property>
</Properties>
</file>