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png" ContentType="image/png"/>
  <Override PartName="/ppt/media/image13.png" ContentType="image/pn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27.jpeg" ContentType="image/jpeg"/>
  <Override PartName="/ppt/media/image36.png" ContentType="image/png"/>
  <Override PartName="/ppt/media/image12.jpeg" ContentType="image/jpeg"/>
  <Override PartName="/ppt/media/image34.png" ContentType="image/png"/>
  <Override PartName="/ppt/media/image40.jpeg" ContentType="image/jpeg"/>
  <Override PartName="/ppt/media/image44.jpeg" ContentType="image/jpeg"/>
  <Override PartName="/ppt/media/image41.jpeg" ContentType="image/jpeg"/>
  <Override PartName="/ppt/media/image42.jpeg" ContentType="image/jpeg"/>
  <Override PartName="/ppt/media/image43.jpeg" ContentType="image/jpeg"/>
  <Override PartName="/ppt/media/image37.png" ContentType="image/png"/>
  <Override PartName="/ppt/media/image39.jpeg" ContentType="image/jpeg"/>
  <Override PartName="/ppt/media/image8.png" ContentType="image/png"/>
  <Override PartName="/ppt/media/image6.jpeg" ContentType="image/jpeg"/>
  <Override PartName="/ppt/media/image18.png" ContentType="image/png"/>
  <Override PartName="/ppt/media/image5.jpeg" ContentType="image/jpeg"/>
  <Override PartName="/ppt/media/image26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9263-7AE3-4751-AE63-2229A8C0B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FD21-9D76-48C1-AADF-9BA7F0C3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24F4-2FE4-4A34-82C5-6EB40AD46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E71F-88B3-4CF5-889F-B298B2536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B1A3-FB57-4D4A-A0C2-DB525B4A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AAA8-BC11-4F0E-8BEA-B8782EF1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9B3F-E6C1-4EA8-9B0F-B17A2244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ECF5-C7EE-4552-A8E9-5F9F315E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F6FC-265A-4042-8116-EAC76111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C65C-DC1B-4F0E-B871-302FC73D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F6C6-0157-4411-98BB-DC0DB6E0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B199-3873-413F-A41E-8E49CACB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B568-094A-42C0-B98B-B3E3B20DBF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3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Русская литература </a:t>
            </a:r>
            <a:br>
              <a:rPr sz="4400"/>
            </a:b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начала 20 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5734080"/>
            <a:ext cx="6400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Arial"/>
              </a:rPr>
              <a:t>11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20px-Bryullov_portrait_of_Zhukovsky"/>
          <p:cNvPicPr/>
          <p:nvPr/>
        </p:nvPicPr>
        <p:blipFill>
          <a:blip r:embed="rId1"/>
          <a:stretch/>
        </p:blipFill>
        <p:spPr>
          <a:xfrm>
            <a:off x="250920" y="189000"/>
            <a:ext cx="1439640" cy="1728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501px-Batushkov_by_Utkin"/>
          <p:cNvPicPr/>
          <p:nvPr/>
        </p:nvPicPr>
        <p:blipFill>
          <a:blip r:embed="rId2"/>
          <a:stretch/>
        </p:blipFill>
        <p:spPr>
          <a:xfrm>
            <a:off x="324000" y="2637000"/>
            <a:ext cx="1368360" cy="1704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блок"/>
          <p:cNvPicPr/>
          <p:nvPr/>
        </p:nvPicPr>
        <p:blipFill>
          <a:blip r:embed="rId3"/>
          <a:stretch/>
        </p:blipFill>
        <p:spPr>
          <a:xfrm>
            <a:off x="3851280" y="3789360"/>
            <a:ext cx="1479600" cy="2016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горький"/>
          <p:cNvPicPr/>
          <p:nvPr/>
        </p:nvPicPr>
        <p:blipFill>
          <a:blip r:embed="rId4"/>
          <a:stretch/>
        </p:blipFill>
        <p:spPr>
          <a:xfrm>
            <a:off x="7451640" y="2637000"/>
            <a:ext cx="1511280" cy="1873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есенин"/>
          <p:cNvPicPr/>
          <p:nvPr/>
        </p:nvPicPr>
        <p:blipFill>
          <a:blip r:embed="rId5"/>
          <a:stretch/>
        </p:blipFill>
        <p:spPr>
          <a:xfrm>
            <a:off x="7431120" y="189000"/>
            <a:ext cx="1461960" cy="172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маяковский"/>
          <p:cNvPicPr/>
          <p:nvPr/>
        </p:nvPicPr>
        <p:blipFill>
          <a:blip r:embed="rId6"/>
          <a:stretch/>
        </p:blipFill>
        <p:spPr>
          <a:xfrm>
            <a:off x="7093080" y="4797360"/>
            <a:ext cx="1439640" cy="1656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северянин"/>
          <p:cNvPicPr/>
          <p:nvPr/>
        </p:nvPicPr>
        <p:blipFill>
          <a:blip r:embed="rId7"/>
          <a:stretch/>
        </p:blipFill>
        <p:spPr>
          <a:xfrm>
            <a:off x="611280" y="4724280"/>
            <a:ext cx="1384200" cy="1871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1"/>
          <p:cNvSpPr/>
          <p:nvPr/>
        </p:nvSpPr>
        <p:spPr>
          <a:xfrm>
            <a:off x="2411280" y="189000"/>
            <a:ext cx="50403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Учитель русского языка и литературы ГУ СОШ №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г. Сем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Бектина Лилия Алтынбек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гумилев"/>
          <p:cNvPicPr/>
          <p:nvPr/>
        </p:nvPicPr>
        <p:blipFill>
          <a:blip r:embed="rId1"/>
          <a:stretch/>
        </p:blipFill>
        <p:spPr>
          <a:xfrm>
            <a:off x="6948360" y="4365720"/>
            <a:ext cx="1800360" cy="2016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мандельштам"/>
          <p:cNvPicPr/>
          <p:nvPr/>
        </p:nvPicPr>
        <p:blipFill>
          <a:blip r:embed="rId2"/>
          <a:stretch/>
        </p:blipFill>
        <p:spPr>
          <a:xfrm>
            <a:off x="179280" y="189000"/>
            <a:ext cx="2024280" cy="2087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:\Documents and Settings\Admin\Рабочий стол\К УРОКАМ\40630.jpg"/>
          <p:cNvPicPr/>
          <p:nvPr/>
        </p:nvPicPr>
        <p:blipFill>
          <a:blip r:embed="rId3"/>
          <a:stretch/>
        </p:blipFill>
        <p:spPr>
          <a:xfrm>
            <a:off x="468360" y="4221000"/>
            <a:ext cx="1755720" cy="2265480"/>
          </a:xfrm>
          <a:prstGeom prst="rect">
            <a:avLst/>
          </a:prstGeom>
          <a:ln w="0">
            <a:noFill/>
          </a:ln>
        </p:spPr>
      </p:pic>
      <p:sp>
        <p:nvSpPr>
          <p:cNvPr id="95" name="WordArt 8"/>
          <p:cNvSpPr txBox="1"/>
          <p:nvPr/>
        </p:nvSpPr>
        <p:spPr>
          <a:xfrm>
            <a:off x="1476360" y="2781360"/>
            <a:ext cx="64818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Narrow"/>
              </a:rPr>
              <a:t>АКМЕИЗМ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гр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m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высшая степень чего-либ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елился из символизма. Критикует туманность языка символис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поведует точность, ясность поэтического языка, логичность в замысле, в постройке произве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ловек должен найти лад с собой и с ми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язь с мировой культурой и русской класси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Narrow"/>
              </a:rPr>
              <a:t>АКМЕИЗМ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Прямоугольник 4" descr=""/>
          <p:cNvPicPr/>
          <p:nvPr/>
        </p:nvPicPr>
        <p:blipFill>
          <a:blip r:embed="rId1"/>
          <a:stretch/>
        </p:blipFill>
        <p:spPr>
          <a:xfrm>
            <a:off x="-469800" y="-189000"/>
            <a:ext cx="9064440" cy="1852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395280" y="1197000"/>
            <a:ext cx="8424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Прекрасная ясность», логичность, чёткость, контрастнос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ремление заново открыть жизнь в её простоте, основа – память, опора на разнообразные культурные тради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едметный мир значителен сам по себе, а не только как символ чего-то высшего. Стремление освоить яркий земной мир. Деятельность самого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Ясность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сшее предназначение поэта – открыть мир, его крас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Documents and Settings\Admin\Рабочий стол\К УРОКАМ\i_195.jpg"/>
          <p:cNvPicPr/>
          <p:nvPr/>
        </p:nvPicPr>
        <p:blipFill>
          <a:blip r:embed="rId1"/>
          <a:stretch/>
        </p:blipFill>
        <p:spPr>
          <a:xfrm>
            <a:off x="2428920" y="252360"/>
            <a:ext cx="6715080" cy="6605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1" name="Прямоугольник 3" descr=""/>
          <p:cNvPicPr/>
          <p:nvPr/>
        </p:nvPicPr>
        <p:blipFill>
          <a:blip r:embed="rId2"/>
          <a:stretch/>
        </p:blipFill>
        <p:spPr>
          <a:xfrm>
            <a:off x="-743040" y="2530440"/>
            <a:ext cx="571680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4"/>
          <p:cNvSpPr txBox="1"/>
          <p:nvPr/>
        </p:nvSpPr>
        <p:spPr>
          <a:xfrm>
            <a:off x="826920" y="2205000"/>
            <a:ext cx="7632720" cy="213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ФУТУРИЗМ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3" name="Picture 5" descr="imgB"/>
          <p:cNvPicPr/>
          <p:nvPr/>
        </p:nvPicPr>
        <p:blipFill>
          <a:blip r:embed="rId1"/>
          <a:stretch/>
        </p:blipFill>
        <p:spPr>
          <a:xfrm>
            <a:off x="6300720" y="4221000"/>
            <a:ext cx="1720800" cy="23464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04" name="Picture 6" descr="Асеев Н. Н."/>
          <p:cNvPicPr/>
          <p:nvPr/>
        </p:nvPicPr>
        <p:blipFill>
          <a:blip r:embed="rId2"/>
          <a:stretch/>
        </p:blipFill>
        <p:spPr>
          <a:xfrm>
            <a:off x="395280" y="404640"/>
            <a:ext cx="1944720" cy="223236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05" name="Picture 7" descr="Игорь-Северянин (Лотарев Игорь Васильевич). 1900 год. "/>
          <p:cNvPicPr/>
          <p:nvPr/>
        </p:nvPicPr>
        <p:blipFill>
          <a:blip r:embed="rId3"/>
          <a:stretch/>
        </p:blipFill>
        <p:spPr>
          <a:xfrm>
            <a:off x="1619280" y="4365720"/>
            <a:ext cx="1706400" cy="226512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06" name="Picture 8" descr="маяковский"/>
          <p:cNvPicPr/>
          <p:nvPr/>
        </p:nvPicPr>
        <p:blipFill>
          <a:blip r:embed="rId4"/>
          <a:stretch/>
        </p:blipFill>
        <p:spPr>
          <a:xfrm>
            <a:off x="4716360" y="333360"/>
            <a:ext cx="18003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лат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u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будущ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щущение грядущих перемен. Стремление осознать через искусство будущее ми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орчество как продолжение прир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аз от тради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ушение существующей системы жан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атывается тонический стих. Неограниче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отворчество. Сложная композиционная структу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4"/>
          <p:cNvSpPr txBox="1"/>
          <p:nvPr/>
        </p:nvSpPr>
        <p:spPr>
          <a:xfrm>
            <a:off x="900000" y="274680"/>
            <a:ext cx="7559640" cy="1066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+mj-lt"/>
              </a:rPr>
              <a:t>ФУТУРИЗМ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+mj-lt"/>
              <a:ea typeface="+mj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549000"/>
            <a:ext cx="404028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.Горьк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Как бы смешны и крикливы ни были наши футуристы, но им нужно широко раскрывать двери, ибо это молодые голоса, зовущие к молодой новой жизн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3284280"/>
            <a:ext cx="404028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Брюс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Я должен признать значительность работы, исполненной футуристам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788000" y="1196640"/>
            <a:ext cx="3898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нин И.А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Чего только не проделывали мы за последние годы с нашей литературой? И дошли до самого плоского хулиганства, называемого нелепым словом «футуриз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800000"/>
                </a:solidFill>
                <a:latin typeface="Monotype Corsiva"/>
              </a:rPr>
              <a:t>Эстетические принципы футури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48243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е к предшествующим и иным культурам, эпохам и традициям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декларативный «разрыв» с предшествующей традицией; революционное новаторство в поэзии; разрушение старых нор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е к реальности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революционное преобра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гляд на призвание поэта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поэт-бунтарь, революционер, сотворец новой реа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гляд на исторический процесс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весный прогресс, отрицание прошлого во имя настоящего и настоящего – во имя будущ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изкий род искусства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живоп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а соотношения «имени» и «вещи»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сталкивание называния м показа вещи, метафоризация действ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 rot="20256000">
            <a:off x="5076720" y="1773000"/>
            <a:ext cx="2695680" cy="173988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5724360" y="4437000"/>
            <a:ext cx="2068560" cy="22320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17" name="Picture 7" descr=""/>
          <p:cNvPicPr/>
          <p:nvPr/>
        </p:nvPicPr>
        <p:blipFill>
          <a:blip r:embed="rId3"/>
          <a:stretch/>
        </p:blipFill>
        <p:spPr>
          <a:xfrm rot="918000">
            <a:off x="7236000" y="2852640"/>
            <a:ext cx="1225440" cy="16002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18" name="Picture 8" descr=""/>
          <p:cNvPicPr/>
          <p:nvPr/>
        </p:nvPicPr>
        <p:blipFill>
          <a:blip r:embed="rId4"/>
          <a:stretch/>
        </p:blipFill>
        <p:spPr>
          <a:xfrm rot="19892400">
            <a:off x="5866920" y="3357360"/>
            <a:ext cx="1106640" cy="15238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038480" y="1905120"/>
            <a:ext cx="4648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эт, переводчик, прозаик. Родился 29 января в Москве в семье известного художника. Его первые сборники стихов ("Близнец в тучах". 1914; "Поверх барьеров", 1917) отмечены влиянием символизма и футуризма. Вместе с Н.Асеевым он организовал группу новых или «умеренных» футуристов – «Центрифуг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916200" y="5638680"/>
            <a:ext cx="290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Борис Пастерн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1890-19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218960" y="228600"/>
            <a:ext cx="6553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Monotype Corsiva"/>
              </a:rPr>
              <a:t>«Центрифуг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imgB"/>
          <p:cNvPicPr/>
          <p:nvPr/>
        </p:nvPicPr>
        <p:blipFill>
          <a:blip r:embed="rId1"/>
          <a:stretch/>
        </p:blipFill>
        <p:spPr>
          <a:xfrm>
            <a:off x="762120" y="1371600"/>
            <a:ext cx="2868480" cy="41148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23" name="Rectangle 6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Асеев Н. Н."/>
          <p:cNvPicPr/>
          <p:nvPr/>
        </p:nvPicPr>
        <p:blipFill>
          <a:blip r:embed="rId1"/>
          <a:stretch/>
        </p:blipFill>
        <p:spPr>
          <a:xfrm>
            <a:off x="609480" y="1143000"/>
            <a:ext cx="3024360" cy="41148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25" name="Rectangle 3"/>
          <p:cNvSpPr/>
          <p:nvPr/>
        </p:nvSpPr>
        <p:spPr>
          <a:xfrm>
            <a:off x="3886200" y="990720"/>
            <a:ext cx="4952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сский поэт. Родился 28 июня (10 июля) 1889 в Льгове Курской губ. Сын страхового агента. Окончил Курское реальное училище (1907), учился в Московском коммерческом институте (1908–1910), был вольнослушателем Московского университета. 1914г. – Асеев – один из организаторов литературной группы «Лирень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инициативе Асеева во Владивостоке было создано литературно-художественное общество «Балаганчик», ставшее основой возникшей в 1920 футуристической группы «Творчеств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841320" y="5410080"/>
            <a:ext cx="246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Николай Асе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1889-19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Русская литература Серебряного века явила блестящее созвездие ярких индивидуальностей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. Даже представители одного течения заметно отличались друг от друга  не только стилистически, но и по мироощущению, художественным вку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684360" y="404640"/>
            <a:ext cx="7704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Серебрянный век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4148280" y="1066680"/>
            <a:ext cx="4995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ился 7 июля 1893 в селе Багдади в семье лесничего. Маяковский учился в московской гимназии. Трижды подвергался арестам, в 1909 был заключён в одиночную камеру Бутырской тюрьмы. Выйдя из тюрьмы, где он начал писать стихи, Маяковский решает "делать социалистическое искусство": "Я прервал партийную работу. Я сел учиться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911 Маяковский поступил в Московское училище живописи, ваяния и зодч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1912 относятся первые поэтические опыты, связанные с теорией и практикой группы кубофутурис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-304920" y="5638680"/>
            <a:ext cx="495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Владимир Маяк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1893-19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09480" y="30492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Monotype Corsiva"/>
              </a:rPr>
              <a:t>Кубофутуриз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bio-vm1911"/>
          <p:cNvPicPr/>
          <p:nvPr/>
        </p:nvPicPr>
        <p:blipFill>
          <a:blip r:embed="rId1"/>
          <a:stretch/>
        </p:blipFill>
        <p:spPr>
          <a:xfrm>
            <a:off x="685800" y="1523880"/>
            <a:ext cx="3019320" cy="39052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32" name="Rectangle 6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657240" y="914400"/>
            <a:ext cx="5334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пнейший представитель русского авангарда, поэт, прозаик, драматург, философ. Родился 9 ноября 1885 года в Астраханской губернии. В 1908 году переехал в Петербург, поступил на 3-й курс естественного отделения физико-математического факультета. С осени 1909 г. перешел на факультет восточных языков по разряду санскритской словесности, вслед за этим перешел на 1-й курс славяно-русского отделения историко-филологического факульт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лебников стал главным теоретиком футуризма, который предложил отказаться от термина «футуризм», заменив его на «будетлянство», подчеркивая тем самым самобытный характер дв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Велимир Хлебников"/>
          <p:cNvPicPr/>
          <p:nvPr/>
        </p:nvPicPr>
        <p:blipFill>
          <a:blip r:embed="rId1"/>
          <a:stretch/>
        </p:blipFill>
        <p:spPr>
          <a:xfrm>
            <a:off x="685800" y="1219320"/>
            <a:ext cx="2782800" cy="40384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35" name="Rectangle 4"/>
          <p:cNvSpPr/>
          <p:nvPr/>
        </p:nvSpPr>
        <p:spPr>
          <a:xfrm>
            <a:off x="153360" y="5486400"/>
            <a:ext cx="395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Хлебников Велими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(Виктор Владимирови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1885-19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Игорь-Северянин (Лотарев Игорь Васильевич). 1900 год. "/>
          <p:cNvPicPr/>
          <p:nvPr/>
        </p:nvPicPr>
        <p:blipFill>
          <a:blip r:embed="rId1"/>
          <a:stretch/>
        </p:blipFill>
        <p:spPr>
          <a:xfrm>
            <a:off x="1066680" y="1447920"/>
            <a:ext cx="2513160" cy="38862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38" name="Rectangle 3"/>
          <p:cNvSpPr/>
          <p:nvPr/>
        </p:nvSpPr>
        <p:spPr>
          <a:xfrm>
            <a:off x="228960" y="5486400"/>
            <a:ext cx="469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Игорь Северя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(Лотарев Игорь Васильеви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1887-19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Monotype Corsiva"/>
              </a:rPr>
              <a:t>Эгофутуриз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266720" y="1219320"/>
            <a:ext cx="44960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ился в Петербурге в семье офицера (по материнской линии – потомок Карамзина и дальний родственник Фета). Стихи сочинял с детства, первое стихотворение о русско-японской войне появилось в печати в 1905 в журнале «для солдат и нижних чинов» «Досуг и дел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ктически он остался единственным из эгофутуристов, вошедших в историю русской поэзии. В 1911 г. назвал себя футуристом, прибавив к этому слову другое – «эго», получилось – эгофутурист («Я-будущее» или «я в будущем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DSC_2309"/>
          <p:cNvPicPr/>
          <p:nvPr/>
        </p:nvPicPr>
        <p:blipFill>
          <a:blip r:embed="rId1"/>
          <a:stretch/>
        </p:blipFill>
        <p:spPr>
          <a:xfrm rot="382200">
            <a:off x="6858000" y="4876920"/>
            <a:ext cx="2125800" cy="156816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43" name="Picture 3" descr="image48"/>
          <p:cNvPicPr/>
          <p:nvPr/>
        </p:nvPicPr>
        <p:blipFill>
          <a:blip r:embed="rId2"/>
          <a:stretch/>
        </p:blipFill>
        <p:spPr>
          <a:xfrm rot="780000">
            <a:off x="7391520" y="457200"/>
            <a:ext cx="1320840" cy="20574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44" name="Picture 4" descr="682009"/>
          <p:cNvPicPr/>
          <p:nvPr/>
        </p:nvPicPr>
        <p:blipFill>
          <a:blip r:embed="rId3"/>
          <a:stretch/>
        </p:blipFill>
        <p:spPr>
          <a:xfrm rot="21030000">
            <a:off x="304920" y="5257440"/>
            <a:ext cx="1184040" cy="12952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8088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ачале 1920-х  большинство представителей футуризма вошло в ЛЕФ (Левый Фронт Искусств – литературная группа, возникшая в конце 1922 в Москве и существовавшая до 1929). Возглавлял ЛЕФ В.Маяковск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ельные тенденции футуризма были подхвачены новыми литературными групп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futurizm"/>
          <p:cNvPicPr/>
          <p:nvPr/>
        </p:nvPicPr>
        <p:blipFill>
          <a:blip r:embed="rId4"/>
          <a:stretch/>
        </p:blipFill>
        <p:spPr>
          <a:xfrm rot="962400">
            <a:off x="1227240" y="5493960"/>
            <a:ext cx="769680" cy="10666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47" name="Picture 7" descr="sd560_27_02_01"/>
          <p:cNvPicPr/>
          <p:nvPr/>
        </p:nvPicPr>
        <p:blipFill>
          <a:blip r:embed="rId5"/>
          <a:stretch/>
        </p:blipFill>
        <p:spPr>
          <a:xfrm rot="21144600">
            <a:off x="838080" y="380880"/>
            <a:ext cx="1044720" cy="141624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48" name="Rectangle 8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4"/>
          <p:cNvSpPr txBox="1"/>
          <p:nvPr/>
        </p:nvSpPr>
        <p:spPr>
          <a:xfrm rot="20928600">
            <a:off x="826560" y="2565360"/>
            <a:ext cx="727416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S Reference Sans Serif"/>
              </a:rPr>
              <a:t>ИМАЖИНИЗМ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S Reference Sans Serif"/>
              <a:ea typeface="MS Reference Sans Serif"/>
            </a:endParaRPr>
          </a:p>
        </p:txBody>
      </p:sp>
      <p:pic>
        <p:nvPicPr>
          <p:cNvPr id="152" name="Picture 5" descr="есенин"/>
          <p:cNvPicPr/>
          <p:nvPr/>
        </p:nvPicPr>
        <p:blipFill>
          <a:blip r:embed="rId1"/>
          <a:stretch/>
        </p:blipFill>
        <p:spPr>
          <a:xfrm>
            <a:off x="6227640" y="4149720"/>
            <a:ext cx="2232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англ. и фр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об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озглашал самоценность поэтического образа как таков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едание образом смы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тив политизации искус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ется свободный ст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. А. Есенин, В. Шершневи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. Мариенгоф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WordArt 5"/>
          <p:cNvSpPr txBox="1"/>
          <p:nvPr/>
        </p:nvSpPr>
        <p:spPr>
          <a:xfrm>
            <a:off x="539640" y="260280"/>
            <a:ext cx="7993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МАЖИНИЗ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многом повлияли на развитие течения теоретические работы и поэтическое творчество С.А.Есенина, который входил в костяк объединения. В теоретическом сочинени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лючи Мар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920) Есенин выстраивает свою поэтику образа: «Образ от плоти можно назвать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ставочн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браз от дух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рабельн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 третий образ от разума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нгелически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 Как и другие имажинистские деклараци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лючи Мар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лемичны: «Вслед Клюеву свернул себе шею и подглуповатый футуризм». Народная мифология была одним из главных источников образности Есенина, а мифологическая параллель «природа – человек» стала основополагающей для его поэтического мироощущения. В издательстве «Имажинисты» вышли его сборни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рерядиц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дуниц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еображ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се – 1921) и драматическая поэм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угаче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92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ть стр. 8-18, ответить на вопросы на стр. 1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ть презентации по групп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учить стихотворение одного из модернистских поэ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это время реалистическая эпоха русской культуры сменяется  модернистской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empus Sans ITC"/>
              </a:rPr>
              <a:t>Модернизм – общее название разных направлений в искусстве  конца 19 – начала 20 века., провозгласивших разрыв с реализмом, отказ от старых форм и поиск новых эстетических принцип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е модернистские направления очень разные, имеют разные идеалы, преследуют разные цели, но сходятся они в одном: работать над ритмом, словом, довести игру звуков до совершен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4"/>
          <p:cNvSpPr txBox="1"/>
          <p:nvPr/>
        </p:nvSpPr>
        <p:spPr>
          <a:xfrm>
            <a:off x="1258920" y="3152880"/>
            <a:ext cx="705816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СИМВОЛИЗМ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7" name="Picture 5" descr="Валерий Брюсов"/>
          <p:cNvPicPr/>
          <p:nvPr/>
        </p:nvPicPr>
        <p:blipFill>
          <a:blip r:embed="rId1"/>
          <a:stretch/>
        </p:blipFill>
        <p:spPr>
          <a:xfrm rot="21099600">
            <a:off x="420840" y="473040"/>
            <a:ext cx="1871640" cy="2089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мережковский"/>
          <p:cNvPicPr/>
          <p:nvPr/>
        </p:nvPicPr>
        <p:blipFill>
          <a:blip r:embed="rId2"/>
          <a:stretch/>
        </p:blipFill>
        <p:spPr>
          <a:xfrm rot="1525200">
            <a:off x="6740640" y="841320"/>
            <a:ext cx="1479600" cy="1871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Владимир Соловьёв"/>
          <p:cNvPicPr/>
          <p:nvPr/>
        </p:nvPicPr>
        <p:blipFill>
          <a:blip r:embed="rId3"/>
          <a:stretch/>
        </p:blipFill>
        <p:spPr>
          <a:xfrm rot="21033000">
            <a:off x="684360" y="436536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блок"/>
          <p:cNvPicPr/>
          <p:nvPr/>
        </p:nvPicPr>
        <p:blipFill>
          <a:blip r:embed="rId4"/>
          <a:stretch/>
        </p:blipFill>
        <p:spPr>
          <a:xfrm rot="1167000">
            <a:off x="6732720" y="4437000"/>
            <a:ext cx="1765080" cy="2133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белый"/>
          <p:cNvPicPr/>
          <p:nvPr/>
        </p:nvPicPr>
        <p:blipFill>
          <a:blip r:embed="rId5"/>
          <a:stretch/>
        </p:blipFill>
        <p:spPr>
          <a:xfrm>
            <a:off x="3564000" y="476280"/>
            <a:ext cx="1655640" cy="2017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гиппиус"/>
          <p:cNvPicPr/>
          <p:nvPr/>
        </p:nvPicPr>
        <p:blipFill>
          <a:blip r:embed="rId6"/>
          <a:stretch/>
        </p:blipFill>
        <p:spPr>
          <a:xfrm>
            <a:off x="3851280" y="4508640"/>
            <a:ext cx="152712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гр.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bolo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знак, симв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и элемента: мистическое  содержание, символы, расширение художественной впечатли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язь с мировой культур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ес к отечественной класс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уитивное постижение мира, ведущее к позна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еала. Ощущение ха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бая роль творч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т - прор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457200" y="274680"/>
            <a:ext cx="8229600" cy="993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+mj-lt"/>
              </a:rPr>
              <a:t>СИМВОЛИЗМ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+mj-lt"/>
              <a:ea typeface="+mj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11280" y="333360"/>
            <a:ext cx="80755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Появился в России в 80-90 гг. </a:t>
            </a:r>
            <a:r>
              <a:rPr b="1" lang="en-US" sz="2800" spc="-1" strike="noStrike">
                <a:solidFill>
                  <a:srgbClr val="000000"/>
                </a:solidFill>
                <a:latin typeface="Cooper Black"/>
              </a:rPr>
              <a:t>XIX</a:t>
            </a: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 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Стал значительным фактором русской культурной и духовной 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Представители в литератур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В.Я. Брюсов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К.Д. Бальмонт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А.Бел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Ф.К. Сологуб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И.Ф. Аннен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Представители в живописи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А.Бену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К.Сомов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М. Вруб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Андрей Белый"/>
          <p:cNvPicPr/>
          <p:nvPr/>
        </p:nvPicPr>
        <p:blipFill>
          <a:blip r:embed="rId1"/>
          <a:stretch/>
        </p:blipFill>
        <p:spPr>
          <a:xfrm>
            <a:off x="2124000" y="2708280"/>
            <a:ext cx="971640" cy="1081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Валерий Брюсов"/>
          <p:cNvPicPr/>
          <p:nvPr/>
        </p:nvPicPr>
        <p:blipFill>
          <a:blip r:embed="rId2"/>
          <a:stretch/>
        </p:blipFill>
        <p:spPr>
          <a:xfrm>
            <a:off x="3059280" y="2133720"/>
            <a:ext cx="969840" cy="1079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Бенуа людовик кормит рыб"/>
          <p:cNvPicPr/>
          <p:nvPr/>
        </p:nvPicPr>
        <p:blipFill>
          <a:blip r:embed="rId3"/>
          <a:stretch/>
        </p:blipFill>
        <p:spPr>
          <a:xfrm>
            <a:off x="1042920" y="4653000"/>
            <a:ext cx="1100160" cy="1224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Константин Бальмонт"/>
          <p:cNvPicPr/>
          <p:nvPr/>
        </p:nvPicPr>
        <p:blipFill>
          <a:blip r:embed="rId4"/>
          <a:stretch/>
        </p:blipFill>
        <p:spPr>
          <a:xfrm>
            <a:off x="7236000" y="2133720"/>
            <a:ext cx="969840" cy="1079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сологуб фёдор кузьмич"/>
          <p:cNvPicPr/>
          <p:nvPr/>
        </p:nvPicPr>
        <p:blipFill>
          <a:blip r:embed="rId5"/>
          <a:stretch/>
        </p:blipFill>
        <p:spPr>
          <a:xfrm>
            <a:off x="6443640" y="2781360"/>
            <a:ext cx="949320" cy="1057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Сомов Дама в голубом"/>
          <p:cNvPicPr/>
          <p:nvPr/>
        </p:nvPicPr>
        <p:blipFill>
          <a:blip r:embed="rId6"/>
          <a:stretch/>
        </p:blipFill>
        <p:spPr>
          <a:xfrm>
            <a:off x="3203640" y="5229360"/>
            <a:ext cx="1100160" cy="1224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врубель жемчужина 1904"/>
          <p:cNvPicPr/>
          <p:nvPr/>
        </p:nvPicPr>
        <p:blipFill>
          <a:blip r:embed="rId7"/>
          <a:stretch/>
        </p:blipFill>
        <p:spPr>
          <a:xfrm>
            <a:off x="6732720" y="4869000"/>
            <a:ext cx="110016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6612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oper Black"/>
              </a:rPr>
              <a:t>Особенности русского символизм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79898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Повышенное внимание к истории, проблеме личности и её внутреннему мир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Героико-трагические переживания социальных и духовных конфликтов рубежа ве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Сочетание противоречивых тенден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Открытия в поэт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- обновление жанров лир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- новые принципы цик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- смысловая полифо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Идея самоценности искус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(независимость от всег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Уход от социальных задач, искусство – чисто художественное яв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Beethoven's Symphony No. 9 (Scherzo).wma" descr=""/>
          <p:cNvPicPr/>
          <p:nvPr/>
        </p:nvPicPr>
        <p:blipFill>
          <a:blip r:embed="rId1"/>
          <a:stretch/>
        </p:blipFill>
        <p:spPr>
          <a:xfrm>
            <a:off x="179280" y="623736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Beethoven's Symphony No. 9 (Scherzo).wma" descr=""/>
          <p:cNvPicPr/>
          <p:nvPr/>
        </p:nvPicPr>
        <p:blipFill>
          <a:blip r:embed="rId1"/>
          <a:stretch/>
        </p:blipFill>
        <p:spPr>
          <a:xfrm>
            <a:off x="0" y="616572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900000" y="189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oper Black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Cooper Black"/>
              </a:rPr>
              <a:t>Старшие символис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720720" y="134136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611280" y="1125360"/>
            <a:ext cx="7921440" cy="59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В.Брю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   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Ю.Балтрушай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К.Бальмо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1903  Брюсов «Ключи тайн»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Цель искусства – выражение «движения души» поэта, выражения тайн человеческого д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Сущность мира непознаваема рассудком, но познаваема интуиц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Искусство есть постижение мира иными. Не рассудочными пут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Задача искусства – запечатлеть мгновения прозрения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вдохнов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Создания искусства – это приотворённые двери в Ве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Валерий Брюсов"/>
          <p:cNvPicPr/>
          <p:nvPr/>
        </p:nvPicPr>
        <p:blipFill>
          <a:blip r:embed="rId2"/>
          <a:stretch/>
        </p:blipFill>
        <p:spPr>
          <a:xfrm>
            <a:off x="2627280" y="907920"/>
            <a:ext cx="1079640" cy="1202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Константин Бальмонт"/>
          <p:cNvPicPr/>
          <p:nvPr/>
        </p:nvPicPr>
        <p:blipFill>
          <a:blip r:embed="rId3"/>
          <a:stretch/>
        </p:blipFill>
        <p:spPr>
          <a:xfrm>
            <a:off x="4356000" y="1125360"/>
            <a:ext cx="1584360" cy="158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oper Black"/>
              </a:rPr>
              <a:t>                </a:t>
            </a:r>
            <a:r>
              <a:rPr b="0" lang="ru-RU" sz="4000" spc="-1" strike="noStrike">
                <a:solidFill>
                  <a:srgbClr val="000000"/>
                </a:solidFill>
                <a:latin typeface="Cooper Black"/>
              </a:rPr>
              <a:t>Младосимволисты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oper Black"/>
              </a:rPr>
              <a:t>               1900гг.-рубеж ве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684360" y="177336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В.Иванов   А.Белый  А.А.Блок   Л.Л. Элл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003640" y="1700280"/>
            <a:ext cx="33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Философия Соловь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Александр Блок"/>
          <p:cNvPicPr/>
          <p:nvPr/>
        </p:nvPicPr>
        <p:blipFill>
          <a:blip r:embed="rId1"/>
          <a:stretch/>
        </p:blipFill>
        <p:spPr>
          <a:xfrm>
            <a:off x="755640" y="2565360"/>
            <a:ext cx="1359000" cy="1513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Владимир Соловьёв"/>
          <p:cNvPicPr/>
          <p:nvPr/>
        </p:nvPicPr>
        <p:blipFill>
          <a:blip r:embed="rId2"/>
          <a:stretch/>
        </p:blipFill>
        <p:spPr>
          <a:xfrm>
            <a:off x="4716360" y="2133720"/>
            <a:ext cx="1230480" cy="1368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2268360" y="2924280"/>
            <a:ext cx="259092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1200" spc="-1" strike="noStrike">
                <a:solidFill>
                  <a:srgbClr val="000000"/>
                </a:solidFill>
                <a:latin typeface="Cooper Black"/>
              </a:rPr>
              <a:t>Мы подошли -и воды си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oper Black"/>
              </a:rPr>
              <a:t>Как две расплеснутых сте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oper Black"/>
              </a:rPr>
              <a:t>И вот в дали белеет ски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oper Black"/>
              </a:rPr>
              <a:t>И дали мутные видны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900000" y="4508640"/>
            <a:ext cx="7559640" cy="26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oper Black"/>
              </a:rPr>
              <a:t>Противопоставление мира идей и мира действительности, рационального и интуитивного п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oper Black"/>
              </a:rPr>
              <a:t>Мотив ожидания грядущих зорь, предвещающих начало новой э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oper Black"/>
              </a:rPr>
              <a:t>Эклектичность , противореч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oper Black"/>
              </a:rPr>
              <a:t>В центре внимания – вопросы о судьбах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5940360" y="2133720"/>
            <a:ext cx="252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5940360" y="2060640"/>
            <a:ext cx="259236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oper Black"/>
              </a:rPr>
              <a:t>божественное единство Вселен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oper Black"/>
              </a:rPr>
              <a:t>Душа мира – Вечная Женстве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oper Black"/>
              </a:rPr>
              <a:t>Общество построено на духовных начал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68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68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7:59:50Z</dcterms:created>
  <dc:creator>123</dc:creator>
  <dc:description/>
  <dc:language>en-US</dc:language>
  <cp:lastModifiedBy>Олег</cp:lastModifiedBy>
  <dcterms:modified xsi:type="dcterms:W3CDTF">2011-04-17T19:17:49Z</dcterms:modified>
  <cp:revision>9</cp:revision>
  <dc:subject/>
  <dc:title>Русская литература  20 века</dc:title>
</cp:coreProperties>
</file>