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FD298-F34E-4CE7-A793-00F8F1DAD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FDBEF-ED9F-4B26-B434-A4325D001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2B956-A104-4201-AF6C-6AD03CA63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3DC11-96E3-4016-867C-AEFAAD956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3D92D-6CF3-43B4-A059-D48B4BF42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1D168-0912-4D65-BC7F-DBEE8E7FC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8E99C-E4E7-44F8-9618-723498194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39C31-0979-4581-94A2-5CC108485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A0D19-D86A-4CCE-B9A1-6CEFA325A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1ADE4-CF4D-4C84-A22B-AFA69EFFC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54AC7-B170-4429-8DF5-2B3525FE5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17E97-03E5-4931-941C-54125887D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FC08C-E945-4C30-8457-7A4FCCED9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EA749-ED06-4329-90F8-8377FB1EB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C76F4-24F9-4F77-B425-9CF4926DC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D2F33-AC13-4FD8-978B-DDA48DB2A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7BE10-76BA-452F-A65D-7AB74D398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5B123-6668-42D1-82D3-8A184BFAF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BD455-8B93-42E5-A13E-4769C9EBE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F3153-F40E-4B13-BD8C-C9F80F323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BBF41-F17F-4AD3-920B-B49CA4DBF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ADB29-CEE3-496B-911B-40B86CF6B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82B43-5A41-41DD-9376-EE97014D3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B536D-51A0-4D6C-9977-E717EB8F2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CE5AF-D03A-43B2-ABDF-5C07CABAACF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prstGeom prst="pie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prstGeom prst="pie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prstGeom prst="pie">
            <a:avLst/>
          </a:pr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prstGeom prst="pie">
            <a:avLst/>
          </a:pr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D39E6-6A81-4793-90FA-BB5E6840B11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900igr.net/" TargetMode="External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476360" y="1483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Презентация на тему:</a:t>
            </a:r>
            <a:br>
              <a:rPr sz="4400"/>
            </a:b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 Великие математики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-397080" y="414936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работу выполнил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ученик 8 класса Б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Трещов Сергей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Скругленный прямоугольник 5">
            <a:hlinkClick r:id="rId1"/>
          </p:cNvPr>
          <p:cNvSpPr/>
          <p:nvPr/>
        </p:nvSpPr>
        <p:spPr>
          <a:xfrm>
            <a:off x="3898800" y="6477120"/>
            <a:ext cx="134640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1f1f1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255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900igr.ne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-360" y="189000"/>
            <a:ext cx="594036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Архимед-вершина научной мысли древнего мира. Последующие ученые - Герон Александрийский (1-11 вв. до н. э.), Папп Александрийский (III в. н. э.) - мало что прибавили к наследию Архимеда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Архимед родился в 287 году до нашей эры в греческом городе Сиракузы, где и прожил почти всю свою жизнь. Отцом его был Фидий, придворный астроном правителя города Гиерона. Учился Архимед в Александрии, где правители Египта Птолемеи собрали лучших греческих ученых и мыслителей, а также основали самую большую в мире библиотеку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WordArt 4"/>
          <p:cNvSpPr txBox="1"/>
          <p:nvPr/>
        </p:nvSpPr>
        <p:spPr>
          <a:xfrm>
            <a:off x="5435640" y="404640"/>
            <a:ext cx="3708360" cy="947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Архимед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156" name="Picture 5" descr="архимед"/>
          <p:cNvPicPr/>
          <p:nvPr/>
        </p:nvPicPr>
        <p:blipFill>
          <a:blip r:embed="rId1"/>
          <a:stretch/>
        </p:blipFill>
        <p:spPr>
          <a:xfrm>
            <a:off x="5867280" y="1844640"/>
            <a:ext cx="312912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0" y="260280"/>
            <a:ext cx="630072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Омар Хайям </a:t>
            </a: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- (полное имя) Гияс ад-дин Фатх ибн Ибрахим Омар Хайям Нишапури - Ghiyath al-Din Abu'l-Fath Umar ibn Ibrahim Al-Nisaburi al-Khayyami (анг.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Родиной Омара Хайяма был Хорасан (г. Нишапур) - область, расположенная к востоку и юго-востоку от Каспийского моря. В настоящее время большая часть Хорасана с городами Мешхед и Нишапур является одноименной провинцией Ирана, северная часть с городами Ашхабад и Мары составляет основную часть Туркменистана, а восточная часть с городами Герат и Балх входит в состав Афганистана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WordArt 4"/>
          <p:cNvSpPr txBox="1"/>
          <p:nvPr/>
        </p:nvSpPr>
        <p:spPr>
          <a:xfrm>
            <a:off x="6516720" y="1484280"/>
            <a:ext cx="2627280" cy="1451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Омар Хайям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159" name="Picture 5" descr="images"/>
          <p:cNvPicPr/>
          <p:nvPr/>
        </p:nvPicPr>
        <p:blipFill>
          <a:blip r:embed="rId1"/>
          <a:stretch/>
        </p:blipFill>
        <p:spPr>
          <a:xfrm>
            <a:off x="6732720" y="3500280"/>
            <a:ext cx="2411280" cy="324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6012000" cy="645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Диофант - древнегреческий математик из Александрии (возможно, что он был эллинизированный вавилонянин). Мы очень мало знаем о нем. В одной из эпиграмм Палатинской антологии говорится: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Прах Диофанта гробница покоит дивись ей - и камень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Мудрым искусством его скажет усопшего век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Волей богов шестую часть жизни он прожил ребенком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И половину шестой встретил с пушком на щеках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Только минула седьмая, подружкою он обручился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С ней пять лет проведя, сына дождался мудрец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Только полжизни отцовской возлюбленный сын его прожил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Отнят он был у отца ранней могилой своей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Дважды два года родитель оплакивал тяжкое горе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Тут и увидел предел жизни печальной своей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WordArt 4"/>
          <p:cNvSpPr txBox="1"/>
          <p:nvPr/>
        </p:nvSpPr>
        <p:spPr>
          <a:xfrm>
            <a:off x="5830920" y="1197000"/>
            <a:ext cx="3313080" cy="94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Диофант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162" name="Picture 5" descr="диофант"/>
          <p:cNvPicPr/>
          <p:nvPr/>
        </p:nvPicPr>
        <p:blipFill>
          <a:blip r:embed="rId1"/>
          <a:stretch/>
        </p:blipFill>
        <p:spPr>
          <a:xfrm>
            <a:off x="6603840" y="2708280"/>
            <a:ext cx="2540160" cy="34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250920" y="259920"/>
            <a:ext cx="568944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Пафнутий Львович Чебышев - великий русский математик и механик, родился в дворянской семье в селе Окатово Боровского уезда Калужской губернии. Получив домашнее образование, он в 1837 году поступил в Московский университет, с отличием окончил его в 1841 году, а в 1847 году переехал в Петербург, где в 1849 году защитил докторскую диссертацию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Еще в 1841 году за работу "Вычисление корней уравнений" по теме, предложенной факультетом в Московском университете, Чебышев награждается серебряной медалью, а его докторская диссертация "Теория сравнений" удостоена специальной премии Петербургской Академии наук.В 1859 году Пафнутий Львович избирается академиком Петербургской Академии наук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WordArt 4"/>
          <p:cNvSpPr txBox="1"/>
          <p:nvPr/>
        </p:nvSpPr>
        <p:spPr>
          <a:xfrm>
            <a:off x="6553080" y="836640"/>
            <a:ext cx="2590920" cy="1019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Чебышов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165" name="Picture 5" descr="чебышов"/>
          <p:cNvPicPr/>
          <p:nvPr/>
        </p:nvPicPr>
        <p:blipFill>
          <a:blip r:embed="rId1"/>
          <a:stretch/>
        </p:blipFill>
        <p:spPr>
          <a:xfrm>
            <a:off x="6394320" y="2276640"/>
            <a:ext cx="274968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250560" y="665280"/>
            <a:ext cx="5761080" cy="61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Древнегреческий учёный. Родился в Кирене. Образование получил в Александрии, а затем в Афинах у известных наставников, поэта Каллимаха, грамматика Лисания, а также философов - стоика Аристона и платоника Аркесилая. Вероятно, именно благодаря столь широкому образованию и разнообразию интересов ок. 245 до н.э. Эратосфен получил от Птолемея III Эвергета приглашение вернуться в Александрию, чтобы стать воспитателем наследника престола и возглавить Александрийскую библиотеку. Эратосфен принял это предложение и занимал должность библиотекаря вплоть до своей кончины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WordArt 4"/>
          <p:cNvSpPr txBox="1"/>
          <p:nvPr/>
        </p:nvSpPr>
        <p:spPr>
          <a:xfrm>
            <a:off x="6300720" y="333360"/>
            <a:ext cx="2592360" cy="947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Эратосфен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168" name="Picture 5" descr="эратосфен"/>
          <p:cNvPicPr/>
          <p:nvPr/>
        </p:nvPicPr>
        <p:blipFill>
          <a:blip r:embed="rId1"/>
          <a:stretch/>
        </p:blipFill>
        <p:spPr>
          <a:xfrm>
            <a:off x="6203880" y="2276640"/>
            <a:ext cx="29401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178920" y="189000"/>
            <a:ext cx="57610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Родился на острове Самос около 580 г. до н.э. Его отцом был некий Мнесарх из Самоса, человек благородного происхождения и образования. Спасаясь от тирании Поликрата, Пифагор ок. 530 до н.э. покинул Самос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Историю его жизни трудно отделить от легенд, представляющих Пифагора в качестве полубога и чудотворца, совершенного мудреца и "великого посвященного" во все тайные доктрины греков и варваров. По преданию, Пифагор объездил весь свет и собрал свою философию из различных систем, к которым имел доступ. Так, он изучал эзотерические науки у брахманов Индии, астрономию и астрологию в Халдее и Египте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WordArt 4"/>
          <p:cNvSpPr txBox="1"/>
          <p:nvPr/>
        </p:nvSpPr>
        <p:spPr>
          <a:xfrm>
            <a:off x="6156360" y="1341360"/>
            <a:ext cx="2987640" cy="1019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Пифагор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171" name="Picture 5" descr="пифагор"/>
          <p:cNvPicPr/>
          <p:nvPr/>
        </p:nvPicPr>
        <p:blipFill>
          <a:blip r:embed="rId1"/>
          <a:stretch/>
        </p:blipFill>
        <p:spPr>
          <a:xfrm>
            <a:off x="6227640" y="3200400"/>
            <a:ext cx="291636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324000" y="115920"/>
            <a:ext cx="619272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О Евклиде почти ничего неизвестно, откуда он был родом, где и у кого учился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Все же у нас нет оснований сомневаться в существовании Евклида, тем более что в этом не сомневались и позднейшие греческие ученые, кое-что рассказывавшие о нем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Папп Александрийский (III в.) сообщает, что он был очень доброжелателен ко всем тем, кто сделал хоть какой-нибудь вклад в математику, корректен, в высшей степени порядочен и совершенно лишен тщеславия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WordArt 5"/>
          <p:cNvSpPr txBox="1"/>
          <p:nvPr/>
        </p:nvSpPr>
        <p:spPr>
          <a:xfrm>
            <a:off x="7056360" y="1413000"/>
            <a:ext cx="2087640" cy="12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Евклид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174" name="Picture 6" descr="евклид"/>
          <p:cNvPicPr/>
          <p:nvPr/>
        </p:nvPicPr>
        <p:blipFill>
          <a:blip r:embed="rId1"/>
          <a:stretch/>
        </p:blipFill>
        <p:spPr>
          <a:xfrm>
            <a:off x="6964200" y="3200400"/>
            <a:ext cx="21798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324000" y="189000"/>
            <a:ext cx="597672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Фалес Милетский имел титул одного из семи мудрецов Греции, он был поистине первым философом, первым математиком, астрономом и, вообще, первым по всем наукам в Греции. Он был то же для Греции, что Ломоносов для России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Фалесу Милетскому приписывают простой способ определения высоты пирамиды. В солнечный день он поставил свой посох там, где оканчивалась тень от пирамиды. Затем он показал, что как длина одной тени относится к длине другой тени, так и высота пирамиды относится к высоте посоха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WordArt 4"/>
          <p:cNvSpPr txBox="1"/>
          <p:nvPr/>
        </p:nvSpPr>
        <p:spPr>
          <a:xfrm>
            <a:off x="6300720" y="1125360"/>
            <a:ext cx="284328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Фалес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177" name="Picture 5" descr="фалес"/>
          <p:cNvPicPr/>
          <p:nvPr/>
        </p:nvPicPr>
        <p:blipFill>
          <a:blip r:embed="rId1"/>
          <a:stretch/>
        </p:blipFill>
        <p:spPr>
          <a:xfrm>
            <a:off x="6477120" y="2781360"/>
            <a:ext cx="2666880" cy="32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6T18:57:18Z</dcterms:created>
  <dc:creator>Admin</dc:creator>
  <dc:description/>
  <dc:language>en-US</dc:language>
  <cp:lastModifiedBy>Name</cp:lastModifiedBy>
  <dcterms:modified xsi:type="dcterms:W3CDTF">2011-02-05T00:33:22Z</dcterms:modified>
  <cp:revision>3</cp:revision>
  <dc:subject/>
  <dc:title>Великие математики</dc:title>
</cp:coreProperties>
</file>