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3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4.jpeg" ContentType="image/jpeg"/>
  <Override PartName="/ppt/media/image8.jpeg" ContentType="image/jpeg"/>
  <Override PartName="/ppt/media/image13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5.jpeg" ContentType="image/jpeg"/>
  <Override PartName="/ppt/media/image2.gif" ContentType="image/gif"/>
  <Override PartName="/ppt/media/image32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545-F322-44B2-AE9D-23AB7DFA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4D2-14BC-487A-B7E9-0609BFA9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450-E569-4864-A2D1-3EF31669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078-FBE1-4C74-A0A4-C5090068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4045-9B6B-41DB-8E6D-057C7A70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29E8-E339-4DF4-B9EF-13A8C467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E40B-2B6E-47CC-B9FF-5E4B241E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A62F-A929-4EA9-8A2D-949654E0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6749-9F74-41CD-9EE0-DB2899CE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2DB2-F832-4A51-B329-5D3FBEF0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AA37-C521-4722-86FD-77EE1180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D81-36E6-427D-AB0A-14E8A5A0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D5B3-ACCA-4D47-9991-B7C96BA5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9F56-D756-4BA0-8B7E-C11814F7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38C6-3285-4DD3-A666-65DDE8DE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99FD-9E11-4092-A0B2-9EE39CA6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6D80-F798-4C63-8AC4-5DC5C64F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C7F6F-30A4-4C07-8E6F-CD1D3090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A5C5E-711F-4516-9EBF-EEF5301E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0265B-F9AF-420D-B250-814ECF25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61844-C3A3-4135-AD05-0BB4B455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5E4FB-1F04-465F-B7C9-03E1ACC8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5A8-B22A-4C88-8417-0C763329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9A700-7E3B-41C9-ADF5-29967DFD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15408-1993-4B0C-BFC7-31A79285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47AA0-04C1-4FA1-B66F-54B2E5A0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07B80-62DA-4C92-8BBA-B7BDA46D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2C63-3749-4248-BC05-F3CD513F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B040C-D994-4BFA-AE58-99E45BC2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90246-DFD7-43E8-8B31-6DE8780B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FF3-7C99-4215-BA83-183AB9F5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7E5-7863-4F52-B77E-A13F28E7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C14-CD23-407E-BFF3-4C1A7E33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C33D-E97E-4AC0-BEFA-7BF8674F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4CBD-ACFE-46D2-B708-9E6BFB72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DDD-9C50-432F-A682-E57F2042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9869-3B78-42CA-B943-6A415EA82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01BA-870F-4428-9BBA-EA40C1956D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F096-0B53-45D7-8924-067702C945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нутренние воды Северной Амери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212720" y="3886200"/>
            <a:ext cx="355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кт – комплект по курсу географии материков и океанов подготовлен Ореховой О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MMj02852480000[1]"/>
          <p:cNvPicPr/>
          <p:nvPr/>
        </p:nvPicPr>
        <p:blipFill>
          <a:blip r:embed="rId2"/>
          <a:stretch/>
        </p:blipFill>
        <p:spPr>
          <a:xfrm>
            <a:off x="324000" y="371628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Cj02291130000[1]"/>
          <p:cNvPicPr/>
          <p:nvPr/>
        </p:nvPicPr>
        <p:blipFill>
          <a:blip r:embed="rId3"/>
          <a:stretch/>
        </p:blipFill>
        <p:spPr>
          <a:xfrm>
            <a:off x="4284720" y="260280"/>
            <a:ext cx="4248000" cy="1873440"/>
          </a:xfrm>
          <a:prstGeom prst="rect">
            <a:avLst/>
          </a:prstGeom>
          <a:ln w="0">
            <a:noFill/>
          </a:ln>
        </p:spPr>
      </p:pic>
      <p:sp>
        <p:nvSpPr>
          <p:cNvPr id="133" name="Рамка 5"/>
          <p:cNvSpPr/>
          <p:nvPr/>
        </p:nvSpPr>
        <p:spPr>
          <a:xfrm>
            <a:off x="3714840" y="6429240"/>
            <a:ext cx="271440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ордильерах много озер вулканического и ледников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нутренних плоскогорьях встречаются мелководные засоленные озера. Это остатки крупных водоемов, которые существовали здесь при более влажном климате. Многие озера покрыты коркой соли. Самое крупное из них – Большое Соленое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еность – от 137 до 300 пром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Гурон"/>
          <p:cNvPicPr/>
          <p:nvPr/>
        </p:nvPicPr>
        <p:blipFill>
          <a:blip r:embed="rId2"/>
          <a:stretch/>
        </p:blipFill>
        <p:spPr>
          <a:xfrm>
            <a:off x="4859280" y="1916280"/>
            <a:ext cx="3889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южной окраине Канадского щита находится Великие Североамериканские озе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убина озер значительная, у Верхнего она достигает 393 м. По обьему воды все озера превосходят Балтийское море. Они круглогодично используются как транспортные пути, так как и зимой озера не замерзают.  Почему?                        оз. Мичи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Верхнее                      оз. Онтар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Гу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Э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Мичиган"/>
          <p:cNvPicPr/>
          <p:nvPr/>
        </p:nvPicPr>
        <p:blipFill>
          <a:blip r:embed="rId2"/>
          <a:stretch/>
        </p:blipFill>
        <p:spPr>
          <a:xfrm>
            <a:off x="6480000" y="256536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Онтарио"/>
          <p:cNvPicPr/>
          <p:nvPr/>
        </p:nvPicPr>
        <p:blipFill>
          <a:blip r:embed="rId3"/>
          <a:stretch/>
        </p:blipFill>
        <p:spPr>
          <a:xfrm>
            <a:off x="2627280" y="3068640"/>
            <a:ext cx="3276720" cy="201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Верхнее"/>
          <p:cNvPicPr/>
          <p:nvPr/>
        </p:nvPicPr>
        <p:blipFill>
          <a:blip r:embed="rId4"/>
          <a:stretch/>
        </p:blipFill>
        <p:spPr>
          <a:xfrm>
            <a:off x="250920" y="2708280"/>
            <a:ext cx="2232000" cy="201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Гурон"/>
          <p:cNvPicPr/>
          <p:nvPr/>
        </p:nvPicPr>
        <p:blipFill>
          <a:blip r:embed="rId5"/>
          <a:stretch/>
        </p:blipFill>
        <p:spPr>
          <a:xfrm>
            <a:off x="6516720" y="472428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Круизы по озерам"/>
          <p:cNvPicPr/>
          <p:nvPr/>
        </p:nvPicPr>
        <p:blipFill>
          <a:blip r:embed="rId6"/>
          <a:stretch/>
        </p:blipFill>
        <p:spPr>
          <a:xfrm>
            <a:off x="1619280" y="5229360"/>
            <a:ext cx="2736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ие Североамериканские озера соединены между собой короткими ре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озера Эри в Онтарио течет бурная река Ниагара, на которой образовался водоп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Север"/>
          <p:cNvPicPr/>
          <p:nvPr/>
        </p:nvPicPr>
        <p:blipFill>
          <a:blip r:embed="rId2"/>
          <a:stretch/>
        </p:blipFill>
        <p:spPr>
          <a:xfrm>
            <a:off x="684360" y="407664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MMj02852480000[1]"/>
          <p:cNvPicPr/>
          <p:nvPr/>
        </p:nvPicPr>
        <p:blipFill>
          <a:blip r:embed="rId3"/>
          <a:stretch/>
        </p:blipFill>
        <p:spPr>
          <a:xfrm>
            <a:off x="755640" y="148428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ыполнила Антипенко Анаста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ученица 7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ОУ «Гимназии искусст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435640" y="90792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MPj04005500000[1]"/>
          <p:cNvPicPr/>
          <p:nvPr/>
        </p:nvPicPr>
        <p:blipFill>
          <a:blip r:embed="rId1"/>
          <a:stretch/>
        </p:blipFill>
        <p:spPr>
          <a:xfrm>
            <a:off x="468360" y="1628640"/>
            <a:ext cx="3902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orte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600200"/>
            <a:ext cx="403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 озера Эри в Онтарио течет бурная река Ниагара, на которой образовался водопад высотой 50 м (десятиэтажный дом) и шириной более 1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ка Ниагара – единственный путь, по которому устремляются воды четырех величайших озер: Верхнего, Мичиган, Гурона и Э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9" descr="MCj04060620000[1]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403848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Шум Ниагарского водопада слышен на расстоя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5 к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«</a:t>
            </a:r>
            <a:r>
              <a:rPr b="1" i="1" lang="en-US" sz="4800" spc="-1" strike="noStrike">
                <a:solidFill>
                  <a:srgbClr val="ff33cc"/>
                </a:solidFill>
                <a:latin typeface="Tahoma"/>
              </a:rPr>
              <a:t>Ниагар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а</a:t>
            </a: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»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- индийское слово, в переводе означает 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«грохочущая вода»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7" name="Picture 11" descr="MPj04005500000[1]"/>
          <p:cNvPicPr/>
          <p:nvPr/>
        </p:nvPicPr>
        <p:blipFill>
          <a:blip r:embed="rId1"/>
          <a:stretch/>
        </p:blipFill>
        <p:spPr>
          <a:xfrm>
            <a:off x="4356000" y="2421000"/>
            <a:ext cx="4262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разование водопа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92400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агара несется широким и спокойным протоком, пока не встречает большой уступ. Тут течение становится быстрее и, наконец, вся масса воды низвергается с высоты десятиэтажного дома. Перед уступом из пенящихся вод реки выдвигается небольшой островок. Он весь зарос густым лесом. Говорят, что на этом острове жило когда – то стадо диких коз; они погибли во время одной суровой зимы. </a:t>
            </a:r>
            <a:r>
              <a:rPr b="1" i="1" lang="en-US" sz="2000" spc="-1" strike="noStrike" u="sng">
                <a:solidFill>
                  <a:srgbClr val="ff33cc"/>
                </a:solidFill>
                <a:uFillTx/>
                <a:latin typeface="Tahoma"/>
              </a:rPr>
              <a:t>Отсюда и весь островок получил название Козьего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MCj0408168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3589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Раздвоенная Козьим островком, река низвергается двумя потоками: правый принадлежит США, а левый – Канад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3276720" y="2492280"/>
            <a:ext cx="3311280" cy="10080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агарский 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0"/>
          <p:cNvSpPr/>
          <p:nvPr/>
        </p:nvSpPr>
        <p:spPr>
          <a:xfrm>
            <a:off x="250920" y="4149720"/>
            <a:ext cx="352908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над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5364000" y="4292640"/>
            <a:ext cx="3529080" cy="1224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ерика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>
            <a:off x="3276720" y="357336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5"/>
          <p:cNvSpPr/>
          <p:nvPr/>
        </p:nvSpPr>
        <p:spPr>
          <a:xfrm>
            <a:off x="6012000" y="357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MCj02829340000[1]"/>
          <p:cNvPicPr/>
          <p:nvPr/>
        </p:nvPicPr>
        <p:blipFill>
          <a:blip r:embed="rId1"/>
          <a:stretch/>
        </p:blipFill>
        <p:spPr>
          <a:xfrm>
            <a:off x="250920" y="2133720"/>
            <a:ext cx="2324160" cy="1839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MCj01836160000[1]"/>
          <p:cNvPicPr/>
          <p:nvPr/>
        </p:nvPicPr>
        <p:blipFill>
          <a:blip r:embed="rId2"/>
          <a:stretch/>
        </p:blipFill>
        <p:spPr>
          <a:xfrm>
            <a:off x="6732720" y="2060640"/>
            <a:ext cx="216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облема Ниагарского водопад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а Ниагара пропилила холмистую возвышенность, сложенную известняками, и соединили озера Эри и Онтарио. Срываясь с крутого уступа, она образует водопад.Так как вода разрушает известняки, то водопад медленно отступает к озеру Эри. Необходимо вмешательство людей, чтобы сохранить этот уникальный объект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4" descr="MCj02005510000[1]"/>
          <p:cNvPicPr/>
          <p:nvPr/>
        </p:nvPicPr>
        <p:blipFill>
          <a:blip r:embed="rId1"/>
          <a:stretch/>
        </p:blipFill>
        <p:spPr>
          <a:xfrm>
            <a:off x="4500720" y="4076640"/>
            <a:ext cx="3743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материка характерно современное оледенение, площадь которого более 2 млн. кв.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2050920" y="1773360"/>
            <a:ext cx="468180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ременное олед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чины: низкие темп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льные снегоп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79280" y="3860640"/>
            <a:ext cx="3745080" cy="25927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кров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енланд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кт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хипе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788000" y="3933720"/>
            <a:ext cx="3527280" cy="23749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дильер, Аляс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 flipH="1">
            <a:off x="2484360" y="328464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5867280" y="3284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ми внутренними водами представлен материк Северная Амер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186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179280" y="2349360"/>
            <a:ext cx="216072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2700360" y="2349360"/>
            <a:ext cx="187164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5364000" y="2421000"/>
            <a:ext cx="2159280" cy="503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5003640" y="5805360"/>
            <a:ext cx="2953080" cy="719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1" descr="Америка"/>
          <p:cNvPicPr/>
          <p:nvPr/>
        </p:nvPicPr>
        <p:blipFill>
          <a:blip r:embed="rId2"/>
          <a:stretch/>
        </p:blipFill>
        <p:spPr>
          <a:xfrm>
            <a:off x="179280" y="3068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Гурон"/>
          <p:cNvPicPr/>
          <p:nvPr/>
        </p:nvPicPr>
        <p:blipFill>
          <a:blip r:embed="rId3"/>
          <a:stretch/>
        </p:blipFill>
        <p:spPr>
          <a:xfrm>
            <a:off x="2340000" y="2997360"/>
            <a:ext cx="2263680" cy="21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ледник"/>
          <p:cNvPicPr/>
          <p:nvPr/>
        </p:nvPicPr>
        <p:blipFill>
          <a:blip r:embed="rId4"/>
          <a:stretch/>
        </p:blipFill>
        <p:spPr>
          <a:xfrm>
            <a:off x="5076720" y="2997360"/>
            <a:ext cx="302436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4" descr="мерзлота картинка"/>
          <p:cNvPicPr/>
          <p:nvPr/>
        </p:nvPicPr>
        <p:blipFill>
          <a:blip r:embed="rId5"/>
          <a:stretch/>
        </p:blipFill>
        <p:spPr>
          <a:xfrm>
            <a:off x="5076720" y="4365720"/>
            <a:ext cx="30243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ое оледенение матер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енландия (покровный ледник).            Горный ледник сполз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межгорным долин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стами достигают оке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ный ледник.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Гренландия"/>
          <p:cNvPicPr/>
          <p:nvPr/>
        </p:nvPicPr>
        <p:blipFill>
          <a:blip r:embed="rId2"/>
          <a:stretch/>
        </p:blipFill>
        <p:spPr>
          <a:xfrm>
            <a:off x="826920" y="1989000"/>
            <a:ext cx="4032360" cy="237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Долинный ледник самый крупный"/>
          <p:cNvPicPr/>
          <p:nvPr/>
        </p:nvPicPr>
        <p:blipFill>
          <a:blip r:embed="rId3"/>
          <a:stretch/>
        </p:blipFill>
        <p:spPr>
          <a:xfrm>
            <a:off x="5364000" y="2781360"/>
            <a:ext cx="3306960" cy="172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ледник"/>
          <p:cNvPicPr/>
          <p:nvPr/>
        </p:nvPicPr>
        <p:blipFill>
          <a:blip r:embed="rId4"/>
          <a:stretch/>
        </p:blipFill>
        <p:spPr>
          <a:xfrm>
            <a:off x="2987640" y="4797360"/>
            <a:ext cx="3743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севере материка распространена многолетняя мерзл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пространение многолетней                Многолетняя мерз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злоты (фиолетовый цв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Мерзлота карта"/>
          <p:cNvPicPr/>
          <p:nvPr/>
        </p:nvPicPr>
        <p:blipFill>
          <a:blip r:embed="rId2"/>
          <a:stretch/>
        </p:blipFill>
        <p:spPr>
          <a:xfrm>
            <a:off x="900000" y="3429000"/>
            <a:ext cx="3167280" cy="244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мерзлота картинка"/>
          <p:cNvPicPr/>
          <p:nvPr/>
        </p:nvPicPr>
        <p:blipFill>
          <a:blip r:embed="rId3"/>
          <a:stretch/>
        </p:blipFill>
        <p:spPr>
          <a:xfrm>
            <a:off x="4788000" y="3284640"/>
            <a:ext cx="32353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Какими цифрами на контуре Северной Америки обозначены следующие географические объ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2498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оз. Атаба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Виннинпе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Великие Американские оз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 Миссиси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р. Колор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р. Ю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Большое Соле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Ниагарский водопа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Макен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оз. Гу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йти вопросы к отв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ица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ерез эту реку вода из Великих озер попадает в Атлантический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Река, которая соединяет два озера: Эри и Онтари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отловина этого озера образовалась в результате разлома земной коры, затем углублена лед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Река впадает в Северный Ледовитый океан, имеет снеговое пита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олго замерз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Река, которая образовала Большой кань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Озеро в Кордильерах, покрытое коркой с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2276640"/>
          <a:ext cx="4032360" cy="3600360"/>
        </p:xfrm>
        <a:graphic>
          <a:graphicData uri="http://schemas.openxmlformats.org/drawingml/2006/table">
            <a:tbl>
              <a:tblPr/>
              <a:tblGrid>
                <a:gridCol w="1342800"/>
                <a:gridCol w="1346400"/>
                <a:gridCol w="1343160"/>
              </a:tblGrid>
              <a:tr h="1800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Свя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врен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d2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00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е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1a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Ниаг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7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Характеристика реки Северной Америки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Макензи;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Колор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описание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части материка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берет начало? Куда впа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м направлении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е зависимость характера течения от релье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е источники питания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 режим реки и как зависит от клима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j0090386"/>
          <p:cNvPicPr/>
          <p:nvPr/>
        </p:nvPicPr>
        <p:blipFill>
          <a:blip r:embed="rId2"/>
          <a:stretch/>
        </p:blipFill>
        <p:spPr>
          <a:xfrm>
            <a:off x="5148360" y="5157720"/>
            <a:ext cx="3995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Знаешь ли ты карту 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2421000" y="1357200"/>
            <a:ext cx="2049480" cy="1927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аком  фрагменте ка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ображен следующий географический объ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одна из самых длинных рек на Земле, смешанное питание с преобладанием дождев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а река несет свои воды в Тихий океан, она полноводна летом, с индейского «большая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рез реку …. вода из Великих озер попадает в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ка Ниагара, соединяет озера Эри и 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мое глубокое и большое по площади озе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0" y="3656160"/>
            <a:ext cx="2357280" cy="210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4"/>
          <a:srcRect l="0" t="0" r="0" b="8295"/>
          <a:stretch/>
        </p:blipFill>
        <p:spPr>
          <a:xfrm>
            <a:off x="2500200" y="4000680"/>
            <a:ext cx="2203560" cy="230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"/>
          <p:cNvPicPr/>
          <p:nvPr/>
        </p:nvPicPr>
        <p:blipFill>
          <a:blip r:embed="rId5"/>
          <a:srcRect l="0" t="0" r="0" b="10361"/>
          <a:stretch/>
        </p:blipFill>
        <p:spPr>
          <a:xfrm>
            <a:off x="219240" y="1285920"/>
            <a:ext cx="2073240" cy="21430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7"/>
          <p:cNvSpPr/>
          <p:nvPr/>
        </p:nvSpPr>
        <p:spPr>
          <a:xfrm>
            <a:off x="285840" y="1285920"/>
            <a:ext cx="200016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2357280" y="1285920"/>
            <a:ext cx="221472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0" y="3786120"/>
            <a:ext cx="2357280" cy="1928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1"/>
          <p:cNvSpPr/>
          <p:nvPr/>
        </p:nvSpPr>
        <p:spPr>
          <a:xfrm>
            <a:off x="2571840" y="4000680"/>
            <a:ext cx="2143080" cy="228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24000" y="333360"/>
          <a:ext cx="8640720" cy="6120000"/>
        </p:xfrm>
        <a:graphic>
          <a:graphicData uri="http://schemas.openxmlformats.org/drawingml/2006/table">
            <a:tbl>
              <a:tblPr/>
              <a:tblGrid>
                <a:gridCol w="2971800"/>
                <a:gridCol w="1452240"/>
                <a:gridCol w="1605240"/>
                <a:gridCol w="1298520"/>
                <a:gridCol w="1312920"/>
              </a:tblGrid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еки, впадающие в Северный Ледовитый океан, полноводны и летом, так как они получают вод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зер и бол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бычных муссонных дож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таяния ледников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кают высоко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 бассейну Тихого океана относятся реки Сев. Аме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анз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 систему Великих озер входят озер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аб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тар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мешанное питание с преобладанием снегового имеют рек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ощное современное покровное оледенение имеетс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енланд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иче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пела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лу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рад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орь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Бассей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wfall00004"/>
          <p:cNvPicPr/>
          <p:nvPr/>
        </p:nvPicPr>
        <p:blipFill>
          <a:blip r:embed="rId2"/>
          <a:stretch/>
        </p:blipFill>
        <p:spPr>
          <a:xfrm>
            <a:off x="2268360" y="1773360"/>
            <a:ext cx="48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крупные рек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кают по материку Северная Амер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60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пнейшая речная система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ИССИСИ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индейского «миси сепе» - великая река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 притоком МИССУР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мени индейского племени, жившего на его берег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имеет большой бассейн,собирает воду со Скалистых гор, Аппалачей, с Центральных и Великих равнин. Миссисипи многоводна весь год, разливается весной за счет таяния снегов и вовремя летних дождей. В нижнем течении петляет, образует в русле много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РЕКА"/>
          <p:cNvPicPr/>
          <p:nvPr/>
        </p:nvPicPr>
        <p:blipFill>
          <a:blip r:embed="rId2"/>
          <a:stretch/>
        </p:blipFill>
        <p:spPr>
          <a:xfrm>
            <a:off x="5219640" y="148428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Сев"/>
          <p:cNvPicPr/>
          <p:nvPr/>
        </p:nvPicPr>
        <p:blipFill>
          <a:blip r:embed="rId3"/>
          <a:stretch/>
        </p:blipFill>
        <p:spPr>
          <a:xfrm>
            <a:off x="5219640" y="4221000"/>
            <a:ext cx="3313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: сравнить реки Северной Америки с реками других материков ,сделайте вывод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«Крупнейшие реки м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386080"/>
                <a:gridCol w="2808360"/>
                <a:gridCol w="3035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,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бассей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км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Кагер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20 ( с Миссур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азо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Мараньон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10 ( с Иртыш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40 ( с Аргунь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н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е океаны несут свои воды реки Северной Америки?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ссейн какого океана больше?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овы основные источники питания рек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с картами атласа, заполните блок – схе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5"/>
          <p:cNvGrpSpPr/>
          <p:nvPr/>
        </p:nvGrpSpPr>
        <p:grpSpPr>
          <a:xfrm>
            <a:off x="682560" y="2492280"/>
            <a:ext cx="7868880" cy="3425040"/>
            <a:chOff x="682560" y="2492280"/>
            <a:chExt cx="7868880" cy="3425040"/>
          </a:xfrm>
        </p:grpSpPr>
        <p:cxnSp>
          <p:nvCxnSpPr>
            <p:cNvPr id="152" name="_s1028"/>
            <p:cNvCxnSpPr>
              <a:stCxn id="153" idx="0"/>
              <a:endCxn id="154" idx="0"/>
            </p:cNvCxnSpPr>
            <p:nvPr/>
          </p:nvCxnSpPr>
          <p:spPr>
            <a:xfrm flipV="1">
              <a:off x="7317000" y="4207320"/>
              <a:ext cx="3600" cy="494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7" idx="0"/>
            </p:cNvCxnSpPr>
            <p:nvPr/>
          </p:nvCxnSpPr>
          <p:spPr>
            <a:xfrm flipV="1" rot="16200000">
              <a:off x="4475160" y="4881960"/>
              <a:ext cx="286200" cy="214920"/>
            </a:xfrm>
            <a:prstGeom prst="bentConnector3">
              <a:avLst>
                <a:gd name="adj1" fmla="val 4017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60" idx="1"/>
            </p:cNvCxnSpPr>
            <p:nvPr/>
          </p:nvCxnSpPr>
          <p:spPr>
            <a:xfrm flipV="1">
              <a:off x="1845360" y="4346280"/>
              <a:ext cx="3240" cy="28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1"/>
            <p:cNvCxnSpPr>
              <a:stCxn id="154" idx="1"/>
              <a:endCxn id="162" idx="1"/>
            </p:cNvCxnSpPr>
            <p:nvPr/>
          </p:nvCxnSpPr>
          <p:spPr>
            <a:xfrm rot="5400000">
              <a:off x="5946840" y="2053080"/>
              <a:ext cx="76680" cy="2662560"/>
            </a:xfrm>
            <a:prstGeom prst="bentConnector5">
              <a:avLst>
                <a:gd name="adj1" fmla="val -152830"/>
                <a:gd name="adj2" fmla="val 50087"/>
                <a:gd name="adj3" fmla="val 406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1032"/>
            <p:cNvCxnSpPr>
              <a:stCxn id="157" idx="1"/>
              <a:endCxn id="162" idx="2"/>
            </p:cNvCxnSpPr>
            <p:nvPr/>
          </p:nvCxnSpPr>
          <p:spPr>
            <a:xfrm flipH="1" flipV="1" rot="5400000">
              <a:off x="4262760" y="3670560"/>
              <a:ext cx="640080" cy="143640"/>
            </a:xfrm>
            <a:prstGeom prst="bentConnector3">
              <a:avLst>
                <a:gd name="adj1" fmla="val 178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_s1033"/>
            <p:cNvCxnSpPr>
              <a:stCxn id="160" idx="0"/>
              <a:endCxn id="162" idx="0"/>
            </p:cNvCxnSpPr>
            <p:nvPr/>
          </p:nvCxnSpPr>
          <p:spPr>
            <a:xfrm flipH="1" flipV="1" rot="5400000">
              <a:off x="3180240" y="2087640"/>
              <a:ext cx="140040" cy="280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_s1034"/>
            <p:cNvSpPr/>
            <p:nvPr/>
          </p:nvSpPr>
          <p:spPr>
            <a:xfrm>
              <a:off x="3420360" y="2492280"/>
              <a:ext cx="2468520" cy="93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5"/>
            <p:cNvSpPr/>
            <p:nvPr/>
          </p:nvSpPr>
          <p:spPr>
            <a:xfrm>
              <a:off x="682560" y="3562560"/>
              <a:ext cx="232596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6"/>
            <p:cNvSpPr/>
            <p:nvPr/>
          </p:nvSpPr>
          <p:spPr>
            <a:xfrm>
              <a:off x="3277080" y="4062600"/>
              <a:ext cx="246852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082920" y="334692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8"/>
            <p:cNvSpPr/>
            <p:nvPr/>
          </p:nvSpPr>
          <p:spPr>
            <a:xfrm>
              <a:off x="682560" y="4632840"/>
              <a:ext cx="2325960" cy="999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3491640" y="5132880"/>
              <a:ext cx="246528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6082920" y="470196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Organization Chart 4"/>
          <p:cNvGrpSpPr/>
          <p:nvPr/>
        </p:nvGrpSpPr>
        <p:grpSpPr>
          <a:xfrm>
            <a:off x="179280" y="1600200"/>
            <a:ext cx="8964000" cy="4997160"/>
            <a:chOff x="179280" y="1600200"/>
            <a:chExt cx="8964000" cy="4997160"/>
          </a:xfrm>
        </p:grpSpPr>
        <p:cxnSp>
          <p:nvCxnSpPr>
            <p:cNvPr id="167" name="_s2052"/>
            <p:cNvCxnSpPr>
              <a:stCxn id="168" idx="0"/>
              <a:endCxn id="169" idx="0"/>
            </p:cNvCxnSpPr>
            <p:nvPr/>
          </p:nvCxnSpPr>
          <p:spPr>
            <a:xfrm flipV="1" rot="16200000">
              <a:off x="7443000" y="4222440"/>
              <a:ext cx="564120" cy="147240"/>
            </a:xfrm>
            <a:prstGeom prst="bentConnector3">
              <a:avLst>
                <a:gd name="adj1" fmla="val 201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_s2053"/>
            <p:cNvCxnSpPr>
              <a:stCxn id="171" idx="0"/>
              <a:endCxn id="172" idx="0"/>
            </p:cNvCxnSpPr>
            <p:nvPr/>
          </p:nvCxnSpPr>
          <p:spPr>
            <a:xfrm flipV="1" rot="16200000">
              <a:off x="4546080" y="5037120"/>
              <a:ext cx="353160" cy="205920"/>
            </a:xfrm>
            <a:prstGeom prst="bentConnector3">
              <a:avLst>
                <a:gd name="adj1" fmla="val 32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_s2054"/>
            <p:cNvCxnSpPr>
              <a:stCxn id="174" idx="0"/>
              <a:endCxn id="175" idx="1"/>
            </p:cNvCxnSpPr>
            <p:nvPr/>
          </p:nvCxnSpPr>
          <p:spPr>
            <a:xfrm flipH="1" flipV="1" rot="5400000">
              <a:off x="1461960" y="4383720"/>
              <a:ext cx="402840" cy="56880"/>
            </a:xfrm>
            <a:prstGeom prst="bentConnector3">
              <a:avLst>
                <a:gd name="adj1" fmla="val 3184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_s2055"/>
            <p:cNvCxnSpPr>
              <a:stCxn id="169" idx="1"/>
              <a:endCxn id="177" idx="1"/>
            </p:cNvCxnSpPr>
            <p:nvPr/>
          </p:nvCxnSpPr>
          <p:spPr>
            <a:xfrm rot="5400000">
              <a:off x="6147720" y="1405800"/>
              <a:ext cx="107640" cy="2900880"/>
            </a:xfrm>
            <a:prstGeom prst="bentConnector5">
              <a:avLst>
                <a:gd name="adj1" fmla="val -153020"/>
                <a:gd name="adj2" fmla="val 50080"/>
                <a:gd name="adj3" fmla="val 4063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2056"/>
            <p:cNvCxnSpPr>
              <a:stCxn id="172" idx="1"/>
              <a:endCxn id="177" idx="2"/>
            </p:cNvCxnSpPr>
            <p:nvPr/>
          </p:nvCxnSpPr>
          <p:spPr>
            <a:xfrm flipH="1" flipV="1" rot="5400000">
              <a:off x="4281120" y="3248640"/>
              <a:ext cx="809640" cy="131760"/>
            </a:xfrm>
            <a:prstGeom prst="bentConnector3">
              <a:avLst>
                <a:gd name="adj1" fmla="val 141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_s2057"/>
            <p:cNvCxnSpPr>
              <a:stCxn id="175" idx="0"/>
              <a:endCxn id="177" idx="0"/>
            </p:cNvCxnSpPr>
            <p:nvPr/>
          </p:nvCxnSpPr>
          <p:spPr>
            <a:xfrm flipH="1" flipV="1" rot="5400000">
              <a:off x="3214800" y="1386000"/>
              <a:ext cx="13320" cy="3060360"/>
            </a:xfrm>
            <a:prstGeom prst="bentConnector3">
              <a:avLst>
                <a:gd name="adj1" fmla="val 555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7" name="_s2058"/>
            <p:cNvSpPr/>
            <p:nvPr/>
          </p:nvSpPr>
          <p:spPr>
            <a:xfrm>
              <a:off x="3407040" y="1600200"/>
              <a:ext cx="2689200" cy="13100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9"/>
            <p:cNvSpPr/>
            <p:nvPr/>
          </p:nvSpPr>
          <p:spPr>
            <a:xfrm>
              <a:off x="424800" y="2923200"/>
              <a:ext cx="2533680" cy="1287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тлантического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3275640" y="3719520"/>
              <a:ext cx="2689200" cy="124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Сев.Ледовит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61"/>
            <p:cNvSpPr/>
            <p:nvPr/>
          </p:nvSpPr>
          <p:spPr>
            <a:xfrm>
              <a:off x="6307200" y="2803320"/>
              <a:ext cx="2689200" cy="1211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ихого 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2"/>
            <p:cNvSpPr/>
            <p:nvPr/>
          </p:nvSpPr>
          <p:spPr>
            <a:xfrm>
              <a:off x="179280" y="4613400"/>
              <a:ext cx="2912760" cy="1934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. Св. Лаврен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роткие порожистые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гатые энергоресурса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меющие постоянный ст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63"/>
            <p:cNvSpPr/>
            <p:nvPr/>
          </p:nvSpPr>
          <p:spPr>
            <a:xfrm>
              <a:off x="3484800" y="5317200"/>
              <a:ext cx="2685600" cy="110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. Макенз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неговое питани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долго замерзают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азличия в сто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64"/>
            <p:cNvSpPr/>
            <p:nvPr/>
          </p:nvSpPr>
          <p:spPr>
            <a:xfrm>
              <a:off x="6454080" y="4578480"/>
              <a:ext cx="2689200" cy="2018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. Колорадо, Юк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урные, многоводны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откие,бога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идроэнергией, доли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зкие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убокие( Большой каньо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ой каньон на реке Колора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бина 1800м и длиной свыше 320 км, врезанный в пласты осадочных пород плато того наз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MCj02290950000[1]"/>
          <p:cNvPicPr/>
          <p:nvPr/>
        </p:nvPicPr>
        <p:blipFill>
          <a:blip r:embed="rId2"/>
          <a:stretch/>
        </p:blipFill>
        <p:spPr>
          <a:xfrm>
            <a:off x="2627280" y="328464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источники пита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Diagram 5"/>
          <p:cNvGrpSpPr/>
          <p:nvPr/>
        </p:nvGrpSpPr>
        <p:grpSpPr>
          <a:xfrm>
            <a:off x="564120" y="2107080"/>
            <a:ext cx="8228520" cy="3556080"/>
            <a:chOff x="564120" y="2107080"/>
            <a:chExt cx="8228520" cy="3556080"/>
          </a:xfrm>
        </p:grpSpPr>
        <p:sp>
          <p:nvSpPr>
            <p:cNvPr id="185" name="_s3076"/>
            <p:cNvSpPr/>
            <p:nvPr/>
          </p:nvSpPr>
          <p:spPr>
            <a:xfrm flipV="1">
              <a:off x="3308400" y="2106720"/>
              <a:ext cx="2740320" cy="1185840"/>
            </a:xfrm>
            <a:custGeom>
              <a:avLst/>
              <a:gdLst>
                <a:gd name="textAreaLeft" fmla="*/ 983160 w 2740320"/>
                <a:gd name="textAreaRight" fmla="*/ 1757160 w 2740320"/>
                <a:gd name="textAreaTop" fmla="*/ 425520 h 1185840"/>
                <a:gd name="textAreaBottom" fmla="*/ 7603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леднико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77"/>
            <p:cNvSpPr/>
            <p:nvPr/>
          </p:nvSpPr>
          <p:spPr>
            <a:xfrm flipV="1">
              <a:off x="1936080" y="3291840"/>
              <a:ext cx="5484240" cy="1184040"/>
            </a:xfrm>
            <a:custGeom>
              <a:avLst/>
              <a:gdLst>
                <a:gd name="textAreaLeft" fmla="*/ 1206000 w 5484240"/>
                <a:gd name="textAreaRight" fmla="*/ 4278240 w 5484240"/>
                <a:gd name="textAreaTop" fmla="*/ 260280 h 1184040"/>
                <a:gd name="textAreaBottom" fmla="*/ 923760 h 11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дожде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78"/>
            <p:cNvSpPr/>
            <p:nvPr/>
          </p:nvSpPr>
          <p:spPr>
            <a:xfrm flipV="1">
              <a:off x="564120" y="4476960"/>
              <a:ext cx="8228520" cy="1185840"/>
            </a:xfrm>
            <a:custGeom>
              <a:avLst/>
              <a:gdLst>
                <a:gd name="textAreaLeft" fmla="*/ 1428480 w 8228520"/>
                <a:gd name="textAreaRight" fmla="*/ 6800040 w 8228520"/>
                <a:gd name="textAreaTop" fmla="*/ 205920 h 1185840"/>
                <a:gd name="textAreaBottom" fmla="*/ 9799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смешан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дождевое и снегово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верная Америка богата озе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йдите на карте и назовите и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а распространены неравномерно. Большая часть их расположена в пределах Канадского кристаллического щ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озер имеют ледниковое и ледниково – тектоническое происхо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ль западной окраины щита располагаются такие озера,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нинпег (на языке индейцев «вода»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Медвеж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Невольничье, Атаба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их образовались в результате разломов земной коры, затем углублены лед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Виннипег"/>
          <p:cNvPicPr/>
          <p:nvPr/>
        </p:nvPicPr>
        <p:blipFill>
          <a:blip r:embed="rId2"/>
          <a:stretch/>
        </p:blipFill>
        <p:spPr>
          <a:xfrm>
            <a:off x="4932360" y="1628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08:51Z</dcterms:created>
  <dc:creator>user-1</dc:creator>
  <dc:description/>
  <dc:language>en-US</dc:language>
  <cp:lastModifiedBy>User</cp:lastModifiedBy>
  <dcterms:modified xsi:type="dcterms:W3CDTF">2012-05-28T16:05:22Z</dcterms:modified>
  <cp:revision>79</cp:revision>
  <dc:subject/>
  <dc:title>«Внутренние воды Северной Америки».</dc:title>
</cp:coreProperties>
</file>