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8C06-7BEA-4ED7-B36D-4FEF5B1B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10DC-74DE-460D-B1E6-CCBA2F2F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F485-EABD-4F3C-AC2A-0CF32BC0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8C86-385A-480B-BE51-4756D488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5CB8-5139-4021-AA44-473E9D64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A036-0FEF-4630-9F0D-80825FF8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A932-5C8D-4A5A-B4E8-D08481D4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C53D-FBF5-464E-81EC-9A7216DB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1433-4DB3-4D4B-9936-DF8D6314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455B-3455-4F7B-8564-10C64784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603C-00B3-4CA1-B5EA-49A14A73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6121-1D98-4B15-A318-BD7CFBD9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621B-EE30-4896-9DFA-23135571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7985-F76C-48C3-A6B3-6E22D248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6892-72FF-4E94-9F53-2A1C6FA9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3BC6-7C0E-4AEA-BA6A-83517D21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3A3E-0A23-4902-9C94-6674E841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A0030-4744-444D-A8D9-1F26CBD0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711D9-3C12-4132-A3A5-F5D59391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E47F0-407B-4210-8311-C4B2DF45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01C44-94B6-412E-9FFB-CC121807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07705-D144-42B6-A0B6-848EE05F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45C7-A6B3-4F11-A965-03BB7E6B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77059-7B15-4442-9297-05424A61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0F477-F591-4620-B352-B6EB446D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9BCC1-9141-4FB0-BE38-9D5DE416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51B82-774C-403F-9E74-2493EDCC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A9E35-C7B0-459C-A025-36E85B37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24B9D-D650-473E-B4EF-D88F185E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EC266-F7A7-4B89-AF66-EB137CDB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BF5F5-8B07-441A-BAFC-B1447472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B280E-0BD8-4231-99AE-DDE806C0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D290C-021C-42E7-A077-02D966B8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B8CA-BFAC-4537-B5C6-3F503590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F2B4B-9370-4EA3-8D90-C21865D3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C994D-E419-4F06-94F5-31C02AA6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B6483-6C7D-4A74-A4E0-1A21ABE0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709D0-FF25-4241-8B9E-F82078FB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FD224-ED04-4DA6-A44F-8EC5F7CB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6F30F-79A1-437C-B4B6-60549D2C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F8F0A-9D4C-47E1-9A75-D9DC4986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7A846-CF6F-469B-8D79-D50C863C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46543-DA43-4DFF-82DB-EE0BC6EF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85FF9-373A-4BC8-B237-373D4F46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0CE1-611F-4FEC-B8F2-4C7D34A7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67ED4-A5A2-4CDA-9E22-5B2FA340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27378-11AF-4C89-B9CE-92EE8986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DEA21-57C9-434C-A26C-BA737837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42FA3-5370-4C19-BC7F-13BA180B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D99ED-91CA-4B08-9BAB-4A53447C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5B2DD-DE35-419B-A069-0A5E1568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FC80A-008C-4691-8B63-99D5E03A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4ADA9-3EB1-4376-B289-A3CD9A7E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4088C-7DAC-4D56-AB12-574EE8FE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1086A-7F67-4E79-A010-2A51C0E0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3239-88D3-4477-B838-EE8A5CB1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FC21B-2476-4971-9E0E-8C67F975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CE256-8FE3-4A75-AA25-E6AD70EE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B0225-CB8B-4A34-8A2E-8C51C2FC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F62BE-75C8-4A70-A11A-247F3D8A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E5908-CCA3-4C4B-8473-0325E93C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DE31D-3319-4789-9E0B-158A2C20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C0E35-13A9-4850-A722-C5A5647E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22953-1F2A-4539-96FD-4D9223D3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0C01A-395B-4268-8BDF-1361A964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6F0F4-8F68-434E-8FC6-C1C90892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8971-8362-4007-A556-B06A8C4C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7ED8C-C383-490B-9E0C-2256EEF0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5E31B-9D09-4FA4-83B9-81A88FCE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D13C1-DF3B-4401-8DB4-8E89BE9C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A4F08-F188-41FE-8405-F069BBBD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13741-2E0B-4AA1-B683-FAC04BD7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832F0-0383-4008-86A8-3481F5F7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73236-F636-4167-BAF8-EB48361A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2F5CE-91B3-4CD3-B25B-BBB7AFB0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54AB8-4CBB-4F73-A88E-8BEA1C47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96D2C-43BA-4DD6-B990-B3A42263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ACED-38BA-4D28-B5B8-CEB49482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793EC-B642-463E-ABCA-4F3B22D4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34294-DACC-4922-967B-385C20DD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6E4C6-BA2E-4B11-8E82-D53B3BA6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DE028-9E5A-4269-B0DB-9EEC3301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E8AC1-8D4D-403D-9635-6A4171EA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AAC6F-61BD-4709-84DF-F7A60029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7297D-E331-4BF7-8380-3BD0DEEF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48132-EA9F-4780-9417-E06036C1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4B3C1-5664-478F-A471-572640ED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A26C1-0107-495B-A090-A8F1A012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F3F2-203E-477D-916F-9D7DD2B3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35EE0-499C-4313-BE68-21C3C00A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AB927-A37E-4DDA-8C7B-5042B192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F7350-6F0C-45D7-8854-63772534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2F330-5D0C-41F3-A8E8-3BDC3B4D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160EC-1F80-40C4-ACE9-28FAFD54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D6F3B-D11C-44DF-BC40-1E3CB586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9848B-0760-43FB-92F2-379E98D9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F8C0-6DD7-4819-8ED7-13606B19EF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8056-BA7F-409E-8EA4-7675E9C3200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E8DE-BEC2-4655-8ABE-F204EF1093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7FBB-5C69-4F3F-91EF-C3621712AC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228E-E008-4FE6-9F7A-89C00057AE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703E-43C5-441D-9B3E-14B75C726A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C8CC-2F2F-4728-BE5A-6AAE360164FC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8C7D-2C9D-46B9-8F1F-EC43B565BCA9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66640" y="1195560"/>
            <a:ext cx="8454960" cy="159696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1920960" y="3413160"/>
            <a:ext cx="6978600" cy="153036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/>
          <p:cNvSpPr/>
          <p:nvPr/>
        </p:nvSpPr>
        <p:spPr>
          <a:xfrm>
            <a:off x="2758320" y="550080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ГБОУ СПО ТОМУ № 1 Узловая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201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208080" y="281160"/>
            <a:ext cx="82407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-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это нарушение развития половых желез вызванное аномалией половых хромосом. Развитие половых желез нарушается уже в раннем периоде развития зародыша. Этот синдром встречается с частотой одна на три тысячи родившихся девочек. Во время деления половых клеток родителей нарушается расхождение половых хромосом в результате чего вместо нормального количества Х-хромосом (а в норме у женщины их две), зародыш получает только одну Х-хромосому. Набор хромосом получается неполным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Рисунок 3" descr="default.jpeg"/>
          <p:cNvPicPr/>
          <p:nvPr/>
        </p:nvPicPr>
        <p:blipFill>
          <a:blip r:embed="rId2"/>
          <a:stretch/>
        </p:blipFill>
        <p:spPr>
          <a:xfrm>
            <a:off x="5357880" y="3857760"/>
            <a:ext cx="29541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285480" y="213840"/>
            <a:ext cx="8358120" cy="62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У ребенка с синдромом </a:t>
            </a:r>
            <a:r>
              <a:rPr b="0" lang="en-US" sz="1600" spc="-1" strike="noStrike">
                <a:solidFill>
                  <a:srgbClr val="ffff00"/>
                </a:solidFill>
                <a:latin typeface="Century Gothic"/>
              </a:rPr>
              <a:t>Шерешевского-Тернера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возникает первичное недоразвитие половых органов. Вместо яичников образуются тяжи из соединительной ткани, матка недоразвита. Этот синдром может сочетаться с недоразвитием других органов. Уже при рождении девочки обнаруживают утолщение кожных складок на затылке, типичный отек кистей рук и стоп. Часто ребенок рождается маленьким, с низкой массой тел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entury Gothic"/>
              </a:rPr>
              <a:t>    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Century Gothic"/>
              </a:rPr>
              <a:t>Внешний вид ребенк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рост маленький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искривление рук в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бласти локтевых суставов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ттопыренные уши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маленькая нижняя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челюсть                               короткая шей с крыло –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видными складками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52" name="Прямая со стрелкой 6"/>
          <p:cNvCxnSpPr/>
          <p:nvPr/>
        </p:nvCxnSpPr>
        <p:spPr>
          <a:xfrm flipH="1">
            <a:off x="1499400" y="2427840"/>
            <a:ext cx="715320" cy="4294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3" name="Прямая со стрелкой 31"/>
          <p:cNvCxnSpPr/>
          <p:nvPr/>
        </p:nvCxnSpPr>
        <p:spPr>
          <a:xfrm>
            <a:off x="5072040" y="2499840"/>
            <a:ext cx="572400" cy="500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4" name="Прямая со стрелкой 33"/>
          <p:cNvCxnSpPr/>
          <p:nvPr/>
        </p:nvCxnSpPr>
        <p:spPr>
          <a:xfrm flipH="1">
            <a:off x="1713960" y="2643120"/>
            <a:ext cx="9291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5" name="Прямая со стрелкой 37"/>
          <p:cNvCxnSpPr/>
          <p:nvPr/>
        </p:nvCxnSpPr>
        <p:spPr>
          <a:xfrm>
            <a:off x="4143240" y="2571840"/>
            <a:ext cx="572400" cy="17150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6" name="Прямая со стрелкой 39"/>
          <p:cNvCxnSpPr/>
          <p:nvPr/>
        </p:nvCxnSpPr>
        <p:spPr>
          <a:xfrm flipH="1">
            <a:off x="3498480" y="2642760"/>
            <a:ext cx="2160" cy="1073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57" name="Рисунок 40" descr="tmp4795-57.jpg"/>
          <p:cNvPicPr/>
          <p:nvPr/>
        </p:nvPicPr>
        <p:blipFill>
          <a:blip r:embed="rId1"/>
          <a:stretch/>
        </p:blipFill>
        <p:spPr>
          <a:xfrm>
            <a:off x="6429240" y="4143240"/>
            <a:ext cx="2500560" cy="24289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1" descr="endokrinologiya-18_0001.gif"/>
          <p:cNvPicPr/>
          <p:nvPr/>
        </p:nvPicPr>
        <p:blipFill>
          <a:blip r:embed="rId2"/>
          <a:stretch/>
        </p:blipFill>
        <p:spPr>
          <a:xfrm>
            <a:off x="6858000" y="1857240"/>
            <a:ext cx="1612800" cy="171468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42" descr="terner2.jpg"/>
          <p:cNvPicPr/>
          <p:nvPr/>
        </p:nvPicPr>
        <p:blipFill>
          <a:blip r:embed="rId3"/>
          <a:stretch/>
        </p:blipFill>
        <p:spPr>
          <a:xfrm>
            <a:off x="571680" y="4857840"/>
            <a:ext cx="2071440" cy="1771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-219240" y="281160"/>
            <a:ext cx="936972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428760" y="1928880"/>
          <a:ext cx="8229600" cy="4137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             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Симптом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Частота, % общего числ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              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больны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ленький ро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ожденная лимфеде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рыловидные склад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зкий рост волос на ш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площенная грудная клет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роткая ше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льгусное искрив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менение ногтей на стопах и кистя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ысокое нёб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3" descr=""/>
          <p:cNvPicPr/>
          <p:nvPr/>
        </p:nvPicPr>
        <p:blipFill>
          <a:blip r:embed="rId1"/>
          <a:stretch/>
        </p:blipFill>
        <p:spPr>
          <a:xfrm>
            <a:off x="566640" y="262080"/>
            <a:ext cx="766944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0" y="142848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реконструктивная                                                                         психотерапевтичес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хирургия (врождён-                                                                                ское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ые пороки               пластическая                гормональные пре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внутренних          хирургия (удаление          параты (эстрогены,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рганов)             крыловидных складок          гормон роста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и т.д.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64" name="Прямая со стрелкой 6"/>
          <p:cNvCxnSpPr/>
          <p:nvPr/>
        </p:nvCxnSpPr>
        <p:spPr>
          <a:xfrm flipH="1">
            <a:off x="1571400" y="1571760"/>
            <a:ext cx="714960" cy="6433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5" name="Прямая со стрелкой 12"/>
          <p:cNvCxnSpPr/>
          <p:nvPr/>
        </p:nvCxnSpPr>
        <p:spPr>
          <a:xfrm flipH="1">
            <a:off x="2928960" y="1500120"/>
            <a:ext cx="643320" cy="12866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6" name="Прямая со стрелкой 14"/>
          <p:cNvCxnSpPr/>
          <p:nvPr/>
        </p:nvCxnSpPr>
        <p:spPr>
          <a:xfrm>
            <a:off x="4713840" y="1428840"/>
            <a:ext cx="429480" cy="13579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7" name="Прямая со стрелкой 16"/>
          <p:cNvCxnSpPr/>
          <p:nvPr/>
        </p:nvCxnSpPr>
        <p:spPr>
          <a:xfrm>
            <a:off x="6356880" y="1357200"/>
            <a:ext cx="786600" cy="8582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pic>
        <p:nvPicPr>
          <p:cNvPr id="368" name="Рисунок 19" descr="p_2594122.jpg"/>
          <p:cNvPicPr/>
          <p:nvPr/>
        </p:nvPicPr>
        <p:blipFill>
          <a:blip r:embed="rId2"/>
          <a:stretch/>
        </p:blipFill>
        <p:spPr>
          <a:xfrm>
            <a:off x="4857840" y="428616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20" descr="b543284a543285.jpg"/>
          <p:cNvPicPr/>
          <p:nvPr/>
        </p:nvPicPr>
        <p:blipFill>
          <a:blip r:embed="rId3"/>
          <a:stretch/>
        </p:blipFill>
        <p:spPr>
          <a:xfrm>
            <a:off x="571680" y="4286160"/>
            <a:ext cx="30333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214200" y="428400"/>
            <a:ext cx="8715600" cy="60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бщий анализ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крови                                                                                             УЗИ матки и яичников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суточное выделение  с              определение полового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мочой эстрогенов и                  хроматина и кариотип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гонадотропинов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консультация у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гинеколог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72" name="Прямая со стрелкой 6"/>
          <p:cNvCxnSpPr/>
          <p:nvPr/>
        </p:nvCxnSpPr>
        <p:spPr>
          <a:xfrm flipH="1">
            <a:off x="1571760" y="1356120"/>
            <a:ext cx="643320" cy="4294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3" name="Прямая со стрелкой 8"/>
          <p:cNvCxnSpPr/>
          <p:nvPr/>
        </p:nvCxnSpPr>
        <p:spPr>
          <a:xfrm flipH="1">
            <a:off x="2642400" y="1428480"/>
            <a:ext cx="429480" cy="11437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 flipH="1">
            <a:off x="3928320" y="1285560"/>
            <a:ext cx="1080" cy="214380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929120" y="1285920"/>
            <a:ext cx="286560" cy="12866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>
            <a:off x="6215040" y="1285560"/>
            <a:ext cx="572400" cy="5720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pic>
        <p:nvPicPr>
          <p:cNvPr id="377" name="Рисунок 17" descr="uzi_matka.gif"/>
          <p:cNvPicPr/>
          <p:nvPr/>
        </p:nvPicPr>
        <p:blipFill>
          <a:blip r:embed="rId2"/>
          <a:stretch/>
        </p:blipFill>
        <p:spPr>
          <a:xfrm>
            <a:off x="714240" y="4071960"/>
            <a:ext cx="1886040" cy="190512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18" descr="1283871556.jpeg"/>
          <p:cNvPicPr/>
          <p:nvPr/>
        </p:nvPicPr>
        <p:blipFill>
          <a:blip r:embed="rId3"/>
          <a:stretch/>
        </p:blipFill>
        <p:spPr>
          <a:xfrm>
            <a:off x="5286240" y="4286160"/>
            <a:ext cx="276408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28400" y="1285920"/>
            <a:ext cx="78008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Для людей синдромом Шерешевского-Тернера результаты обследования будут следующими: в анализе крови - снижение количества эстрогенов и повышение гормонов гипофиза (гонадотропинов), особенно фоллитропина. Повышенное суточное выделение с мочой гонадотропинов и снижение эстрогенов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и ультразвуковом исследовании не находят яичников, матка имеет недоразвитый вид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и рентгеновском обследовании находят остеопороз (разрежение костной ткани) и различные аномалии развития костного скелет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ередко у людей, страдающих данным синдромом, будут встречаться такие заболевания, как сахарный диабет, воспаления толстого кишечника и желудочно-кишечные кровотечения, зоб и тириоидиты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кончательно подтверждает диагноз генетическое исследование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85520" y="2499840"/>
            <a:ext cx="7715160" cy="1668600"/>
          </a:xfrm>
          <a:prstGeom prst="rect">
            <a:avLst/>
          </a:prstGeom>
          <a:ln w="12600">
            <a:solidFill>
              <a:srgbClr val="eaeaea"/>
            </a:solidFill>
            <a:round/>
          </a:ln>
          <a:effectLst>
            <a:outerShdw dist="36147" dir="2700000" blurRad="0" rotWithShape="0">
              <a:srgbClr val="c0c0c0">
                <a:alpha val="8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0:40:16Z</dcterms:created>
  <dc:creator>Neo</dc:creator>
  <dc:description/>
  <dc:language>en-US</dc:language>
  <cp:lastModifiedBy>User</cp:lastModifiedBy>
  <dcterms:modified xsi:type="dcterms:W3CDTF">2012-05-29T08:59:05Z</dcterms:modified>
  <cp:revision>36</cp:revision>
  <dc:subject/>
  <dc:title>Синдром Шерешеского-Тернера.</dc:title>
</cp:coreProperties>
</file>