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AD3A-BD21-45F6-9978-C6D9CC499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4E89-12FB-4FAF-B004-81BC2200A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0765-BB94-4B78-93DF-E6E35E780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2A91-720A-497F-AA16-3F2A924FE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FCA3-BCF3-4A8A-A77B-43713D7A7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0CE5-58EC-4F8E-A5F4-0FA983D1B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EAC4-2E82-4B5D-A860-24AA663A9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4D71-DDF9-45F8-8281-4388664EA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52EB-3C55-4FA0-9652-EE4000A7D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75F7-7C01-46EA-BD4D-30EC0453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B0EC-0D27-4BD0-B29E-8EEC19817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7E9A-EEBD-4C07-8826-344ECD2A9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5A4C4-91C5-4E6A-8763-0AC5856028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B0E05-6FE4-4309-BDD6-DF09DC82B4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НАСЕКОМЫ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E48BB-D27A-47FD-BA9F-6CE3405C26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ечности для хват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многих насекомых имеются хватательные конечности, которые используют для борьбы с соперниками или для ловчи добычи. Сильными передними конечностями богомол крепко держит добычу, когда её поед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3"/>
          <p:cNvPicPr/>
          <p:nvPr/>
        </p:nvPicPr>
        <p:blipFill>
          <a:blip r:embed="rId1"/>
          <a:stretch/>
        </p:blipFill>
        <p:spPr>
          <a:xfrm>
            <a:off x="4865760" y="1600200"/>
            <a:ext cx="3601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3EFFB-FB76-4435-83CC-DB00D80330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ожные нож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обно другим насекомым, гусеницы имеют три пары ног на груди. Кроме того, у них есть пять пар ложных ножек на брюшке. Эти ложные ножки представляют собой четыре пары брюшных мускульных выростов с маленькими крючками на концах и пару анальных ножек, снабженных присосками. Брюшные ножки и присоски помогают гусеницам прицепляться к листьям и стебл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1332000" y="3500280"/>
            <a:ext cx="691344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FFA86-9662-4D51-AD03-584D160BDB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рылья и пол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аукообразные не умеют летать, а насекомые умеют. Способность летать позволяет им спасаться от хищников и совершать дальние путешествия в поисках пищи или партнера. У большинства насекомых имеются две пары крыльев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CCD46-DC0D-4265-BDF8-6435CAB31C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14716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дкрылья</a:t>
            </a:r>
            <a:br>
              <a:rPr sz="40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дние крылья жуков, например, майского жука, превратились в жесткие защитные чехлы для крыльев. Для полетов жуки пользуются только задними крыльями, которые спрятаны свернутыми под надкрыльями, пока не наступит время взлететь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3429000"/>
            <a:ext cx="24588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ие прозрачные крылья дают возможность достигать поразительно высокой скор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587640" y="2781000"/>
            <a:ext cx="224316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дкрылья поднимаются вверх и раздвигаются в стороны во время поле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Изображение 14 in Насек11 copy"/>
          <p:cNvPicPr/>
          <p:nvPr/>
        </p:nvPicPr>
        <p:blipFill>
          <a:blip r:embed="rId1"/>
          <a:stretch/>
        </p:blipFill>
        <p:spPr>
          <a:xfrm>
            <a:off x="2916360" y="3429000"/>
            <a:ext cx="38098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2B30B-DD54-4AF4-9CC4-6BD2C1B2F5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14716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сший пилотаж</a:t>
            </a:r>
            <a:br>
              <a:rPr sz="4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того чтобы быстро и ровно лететь, стрекозы машут четырьмя крыльями. А взмахивая попеременно то передними, то задними крыльями, они могут проделывать удивительные акробатические номера, быстро меняя направлена полета, неподвижно зависая в воздухе и даже летать задом напере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4220640"/>
            <a:ext cx="20988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Благодаря сети жилок крылья очень прочные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732720" y="4724280"/>
            <a:ext cx="195408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Мышцы груди заставляют крылья подниматься и опускатьс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Untitled-2 copy"/>
          <p:cNvPicPr/>
          <p:nvPr/>
        </p:nvPicPr>
        <p:blipFill>
          <a:blip r:embed="rId1"/>
          <a:stretch/>
        </p:blipFill>
        <p:spPr>
          <a:xfrm>
            <a:off x="2843280" y="2708280"/>
            <a:ext cx="39448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F36F5-0BC1-4E03-9497-481AD7A402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Жужжальца мух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мух задние крылья превращены в небольшие булавовидные придатк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ужжальца. Во время полета они поднимаются и опускаются, создавая противовес основным крыльям. Жужжальца служат стабилизаторами полета и ролями. Без них муха не могла бы лета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"/>
          <p:cNvPicPr/>
          <p:nvPr/>
        </p:nvPicPr>
        <p:blipFill>
          <a:blip r:embed="rId1"/>
          <a:stretch/>
        </p:blipFill>
        <p:spPr>
          <a:xfrm>
            <a:off x="4861080" y="1557360"/>
            <a:ext cx="38750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85F0C-AE04-460D-88D9-9378B17D53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ленистоногое с шестью конечностями и телом, разделенным на три отдел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лову, грудь и брюшко, называется насекомым. Известно более миллиона видов насекомых, населяющих все среды обитания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826920" y="1671480"/>
            <a:ext cx="7921800" cy="45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0A3B9-12FA-44E5-9ADD-3052446ADD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натомия насекомых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груди насекомого имеются три пары конечностей и две пары крыльев (насекомы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динственные беспозвоночные, которые умеют летать). В брюшке расположено сердце, пищеварительные и половые органы. На голове находятся глаза и усики, а также ро­товой аппарат, который может иметь разную форму в зависимости о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го, чем насекомое питается. Губчатый или трубчатый ротовой аппарат приспособлен для всасывания жидкой пищи, а крепкие че­люсти нужны, чтобы крошить добыч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CA9B0-2267-4349-B793-CE2FEAA834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ипы ротового аппара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395280" y="2133720"/>
            <a:ext cx="835344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6D820-4869-4C53-B5FA-B8364E73CA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иньк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403848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усеница выползает из своей старой шкур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981000"/>
            <a:ext cx="4038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бы превратиться во взрослую особь, молодое насекомое вынуждено линять - сбрасывать свой твердый наружный скеле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нескольку раз в течение жизни. Под стары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елет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зуется новый; когда насекомое готово к линьке, старый покров лопается, и насекомое выбирается наружу. У некоторых личинок насекомых, например, у гусениц, наружные оболочки мягкие. Гусеницы тоже линяют несколько раз, пока не станут взрослыми и у них не образуется твердый наружный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елет, как у бабочек и мол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4176720" cy="27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C686D-11C4-4789-A07A-5F3FFB4844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рганы чувст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насекомых и пауков есть усики и маленькие чувствительные волоски, которыми они различают запахи, вкус, вибрации и звуки. У большинства есть глаза, но, чтобы ориентироваться в окружающей среде, зрение для них менее важно, чем для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9696D-885A-4C74-9019-783901EEE7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ипы ус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38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ики помогают насекомым ориентироваться в окружающей среде. Они чувствительны к прикосновениям и вибрациям, а также к переносимым по воздуху запахам. У некоторых усиков имеются многочисленные боковые отростки, которые увеличивают поверхность, покрытую чувствительными ячейками и волосками. У паукообразных нет усиков, но их функции выполняют волоски, покрывающие те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0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4643280" y="3573360"/>
            <a:ext cx="1770120" cy="2519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6659640" y="3573360"/>
            <a:ext cx="2327040" cy="2637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"/>
          <p:cNvPicPr/>
          <p:nvPr/>
        </p:nvPicPr>
        <p:blipFill>
          <a:blip r:embed="rId3">
            <a:lum bright="-12000"/>
          </a:blip>
          <a:stretch/>
        </p:blipFill>
        <p:spPr>
          <a:xfrm>
            <a:off x="5651640" y="1052640"/>
            <a:ext cx="259236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340FA-E1FC-4559-B21E-7D0148565D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оги и дви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секомые и пауки используют свои членистые ноги для прыганья, хождения, бега и для многих других целей. У сверчков, например, на коленях рас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ложены уши, а самцы кузнечиков «поют» песни самкам, потирая крылья задними конечностями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8AB0E-973A-44E1-9244-9D894F9E12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ипы но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38163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ги насекомых различаются в соответствии с их использованием. У таракана длинные тонкие конечности приспособлены для бега, а медведка своими широкими мощными ногами роет землю. Водяные жуки плавают в воде, отталкиваясь своими похожими на весла ногами, окаймленными волосками, а волоски на ногах пчелы собирают пыльц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6516720" y="1557360"/>
            <a:ext cx="2347920" cy="3600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4211640" y="1268280"/>
            <a:ext cx="222732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02:52:47Z</dcterms:created>
  <dc:creator>Temp</dc:creator>
  <dc:description/>
  <dc:language>en-US</dc:language>
  <cp:lastModifiedBy>Азат</cp:lastModifiedBy>
  <dcterms:modified xsi:type="dcterms:W3CDTF">2011-02-20T13:12:20Z</dcterms:modified>
  <cp:revision>9</cp:revision>
  <dc:subject/>
  <dc:title>НАСЕКОМЫЕ</dc:title>
</cp:coreProperties>
</file>