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A1C-CDA8-4C8C-B546-1B875CE3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B7E-3BE8-465C-8A15-6872C2DF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D84-6249-4B24-961B-0FBDBE37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591-C44F-4114-9EE6-CB18D4D8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2AE9-3F94-49CD-A98A-F47B1B16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BF28-E910-4174-8E03-EC581DA7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905B-FF56-4D4D-A2E3-6ECAAF75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5A1E-8861-432E-A0DF-4617D453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0AD1-26C6-46F7-91F2-26A4FFA8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FF1F-DA86-467B-A980-1CD56968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C44E-EEA8-42CA-8B51-C84AE1F3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D7A-4859-4F1D-B53F-DD9AD87D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419D-C9DA-463A-8701-2D80712C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4280-CE28-4134-B7B2-9932AA5F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3C71-DFF5-4790-A460-2FCDD042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B953-7574-444F-B2AD-BE749353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1AE0-81BA-4A6A-A1A9-56B4F888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E568-A30F-4495-B327-3F34FA3A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C91-022E-4DC5-8EF4-FCB9780E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36B4-6813-4668-AB71-404924E1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F4BA-C4EE-476E-A4D4-55549DFA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09C9-D21A-4C79-930E-A5AB9B85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3BBB-F1AE-47C7-879E-E46D750C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892F-EA36-493D-BF41-3BCE1D32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8E23-8EAA-4A87-A3B1-5EFD1F52942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248A-CCF3-4775-AE78-C86A52C1958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74872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Атеросклероз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eaeaea"/>
                </a:solidFill>
                <a:uFillTx/>
                <a:latin typeface="Times New Roman"/>
              </a:rPr>
              <a:t>Эффекты ЛНП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судистый тону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омб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ритр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титромбогенная активность стенки сосуд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йк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лиферация ГМ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60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циально-культурны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ребление высококалорийной, богатой насыщенными жирами и холестерином пище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дячий образ жизн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рвный стрес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утренние факторы рис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ериальная гипертенз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перхолестеринем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е толерантности к углевод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жире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ягощенная наследствен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уг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980720"/>
            <a:ext cx="8425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еобратимые – возраст, мужской пол, генетическая предрасположеннос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братимые – курение, ГБ, Ожирени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астично обратимые – гиперлипидемия, гипергликемия, низкий уровень ЛВП, низкая физическая активность, стресс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Патологическая анатомия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нние атеросклеротические изменения в интиме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ировые поражения интимы (жировая полоса, липофиброзная бляшк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иброзная бля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304560"/>
            <a:ext cx="8280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Основные патогенетические механизмы обострения атеросклероза: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лабление фиброзной оболочки бляшки и её разры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пропорционально большое липидное ядр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омбообразование в месте разрыва капсулы бляшки или на дефекте эндотелия при выраженном стеноз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функция эндотелия (локальная и генерализованна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ффузная воспалительная реакц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0" y="2590920"/>
            <a:ext cx="6906960" cy="155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6160" y="2263680"/>
            <a:ext cx="92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83760" y="2016000"/>
            <a:ext cx="13932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р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сло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9800" y="2016000"/>
            <a:ext cx="151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иброз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15800" y="1768320"/>
            <a:ext cx="13579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еро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клеротич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73440" y="1521000"/>
            <a:ext cx="13626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ыв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и/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ещина 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омбо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1320" y="2754360"/>
            <a:ext cx="41256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46280" y="2754360"/>
            <a:ext cx="4111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79800" y="2754360"/>
            <a:ext cx="4129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18240" y="22096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3171960"/>
            <a:ext cx="175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шем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нсульт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4038480"/>
            <a:ext cx="1447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Терми-нальная ишемия н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620000">
            <a:off x="6751440" y="2378160"/>
            <a:ext cx="866520" cy="496800"/>
          </a:xfrm>
          <a:prstGeom prst="rightArrow">
            <a:avLst>
              <a:gd name="adj1" fmla="val 50000"/>
              <a:gd name="adj2" fmla="val 44348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1002400">
            <a:off x="6889320" y="3084480"/>
            <a:ext cx="1125720" cy="496800"/>
          </a:xfrm>
          <a:prstGeom prst="rightArrow">
            <a:avLst>
              <a:gd name="adj1" fmla="val 50000"/>
              <a:gd name="adj2" fmla="val 57614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33000">
            <a:off x="6824160" y="3886200"/>
            <a:ext cx="1168560" cy="496800"/>
          </a:xfrm>
          <a:prstGeom prst="rightArrow">
            <a:avLst>
              <a:gd name="adj1" fmla="val 50000"/>
              <a:gd name="adj2" fmla="val 59806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800" y="4267080"/>
            <a:ext cx="280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линически не проявл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45280" y="1703520"/>
            <a:ext cx="0" cy="50781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135200">
            <a:off x="6824160" y="4049280"/>
            <a:ext cx="498600" cy="1284480"/>
          </a:xfrm>
          <a:prstGeom prst="downArrow">
            <a:avLst>
              <a:gd name="adj1" fmla="val 50000"/>
              <a:gd name="adj2" fmla="val 65502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15960" y="5105520"/>
            <a:ext cx="2223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ердечно-сосуди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м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20640000">
            <a:off x="3286800" y="4200120"/>
            <a:ext cx="527040" cy="821880"/>
          </a:xfrm>
          <a:prstGeom prst="downArrow">
            <a:avLst>
              <a:gd name="adj1" fmla="val 50000"/>
              <a:gd name="adj2" fmla="val 39650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0" y="5943600"/>
            <a:ext cx="5321520" cy="304920"/>
          </a:xfrm>
          <a:prstGeom prst="rightArrow">
            <a:avLst>
              <a:gd name="adj1" fmla="val 50000"/>
              <a:gd name="adj2" fmla="val 130730"/>
            </a:avLst>
          </a:prstGeom>
          <a:gradFill rotWithShape="0">
            <a:gsLst>
              <a:gs pos="0">
                <a:srgbClr val="00fad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10520" y="6195960"/>
            <a:ext cx="26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величение возра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98400" y="4952880"/>
            <a:ext cx="3083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табильная стенор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еремежающая хром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1080000">
            <a:off x="4290120" y="4200120"/>
            <a:ext cx="527400" cy="822600"/>
          </a:xfrm>
          <a:prstGeom prst="downArrow">
            <a:avLst>
              <a:gd name="adj1" fmla="val 50000"/>
              <a:gd name="adj2" fmla="val 39657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5280" y="2765520"/>
            <a:ext cx="412560" cy="423720"/>
          </a:xfrm>
          <a:prstGeom prst="rightArrow">
            <a:avLst>
              <a:gd name="adj1" fmla="val 50000"/>
              <a:gd name="adj2" fmla="val 50079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33080" y="2765520"/>
            <a:ext cx="411480" cy="423720"/>
          </a:xfrm>
          <a:prstGeom prst="rightArrow">
            <a:avLst>
              <a:gd name="adj1" fmla="val 50000"/>
              <a:gd name="adj2" fmla="val 50060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13450800">
            <a:off x="7043040" y="1536840"/>
            <a:ext cx="380880" cy="1053720"/>
          </a:xfrm>
          <a:prstGeom prst="downArrow">
            <a:avLst>
              <a:gd name="adj1" fmla="val 50000"/>
              <a:gd name="adj2" fmla="val 70342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08640" y="1068480"/>
            <a:ext cx="124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естаби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ая сте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92960" y="1600200"/>
            <a:ext cx="100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ОК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77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КС- острый коронарный синдром; ПНК - преходящее нарушение кровообращ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9760" y="243000"/>
            <a:ext cx="87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Атеротромбоз: генерализованный и прогрессирующий проц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1211400"/>
            <a:ext cx="8115120" cy="5494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74000" y="24444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ГРЕГАЦИЯ ТРОМБОЦИ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04920"/>
            <a:ext cx="8209080" cy="62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Множественная </a:t>
            </a:r>
            <a:r>
              <a:rPr b="1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модификация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ЛНП – это каскад последовательных в частице липопротеида: десиалирование, потеря липидов, уменьшение размера частицы, увеличение электроотрицательного заряда, перекисное окисление липид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eaeaea"/>
                </a:solidFill>
                <a:uFillTx/>
                <a:latin typeface="Times New Roman"/>
              </a:rPr>
              <a:t>Агрегация цмЛНП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утоантител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омплемент и фибронект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ебрис, коллаген, эластин и протеинглика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23:48Z</dcterms:created>
  <dc:creator>OKB</dc:creator>
  <dc:description/>
  <dc:language>en-US</dc:language>
  <cp:lastModifiedBy>OKB</cp:lastModifiedBy>
  <dcterms:modified xsi:type="dcterms:W3CDTF">2005-11-23T19:56:11Z</dcterms:modified>
  <cp:revision>5</cp:revision>
  <dc:subject/>
  <dc:title>Атеросклероз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 </dc:title>
</cp:coreProperties>
</file>