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AFF-37F0-4D09-B3C5-C0734FEE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90D-C237-4E31-BF78-ABC9246A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37F-F852-47D1-90B7-FFE515F9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7400-9DA4-46E8-B1DA-65B6DCFB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1CDC-8E85-4853-9788-28E6FA03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9C3F-4FC7-4ADD-A337-7F75AD8A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230B-3A90-41F4-8BB0-367FFF5A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89F6-3070-4E63-929D-AE60E2A3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7E51-2F0B-47DE-AB05-A2DCCFCD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D9F5-A98A-4CDA-B338-00102701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E6C8-7777-49CD-AA9F-D0BC5A69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33E-1AA2-47F6-B9B6-8F5AD291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2B37-C9ED-4CA4-83B0-A581BFC6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E4B8-434A-474F-AC56-43248C47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D921-11E0-48E9-BE7A-16591795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B20B-3C71-46E1-AAAA-23EB1831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2A48-DF8A-4F24-A8DB-66E85C03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722-238F-4CD9-BD7F-8E182E79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4D5-ACE6-4B7E-B1BD-A438ED39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B99-9BFE-485D-8CB0-5AAD9197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171-7821-4706-BCDC-4EF3727E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FFF-54DD-4894-A4A1-910ADB8C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56F7-51B3-4BBD-AE88-3A6C085C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86B-6D5D-42E2-A383-665F9C5C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EB4C-F7E4-435F-B7D9-A3B7AAFA13E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57A8-F849-4118-B101-040CD20695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900igr.net/" TargetMode="Externa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708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ff"/>
                </a:solidFill>
                <a:latin typeface="Wide Latin"/>
              </a:rPr>
              <a:t>НЕБЕСНАЯ ГЕОМЕТРИЯ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320" y="4319640"/>
            <a:ext cx="2931840" cy="253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10360" y="189000"/>
            <a:ext cx="2933640" cy="2539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93400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516720" y="4319640"/>
            <a:ext cx="2932200" cy="253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7240" y="549360"/>
            <a:ext cx="24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Устинова Евг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ихачева П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апшин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71840" y="5105520"/>
            <a:ext cx="37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уководи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Кузьмина 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Бурцева Наталья Михайлов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5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59840" y="58680"/>
            <a:ext cx="47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Симметрия снежи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41560" cy="2971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2892240" cy="2741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019920" y="914400"/>
            <a:ext cx="2933640" cy="29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2971800" cy="268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2666880" y="2428920"/>
            <a:ext cx="3733920" cy="325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3865680"/>
            <a:ext cx="3276720" cy="2992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3881520"/>
            <a:ext cx="3124080" cy="2976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94360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00400" y="2133720"/>
            <a:ext cx="2890800" cy="3124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457200" y="762120"/>
            <a:ext cx="2946240" cy="297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2878200" cy="2492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2674800" cy="2743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6553080" y="-152280"/>
            <a:ext cx="281952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3935520"/>
            <a:ext cx="3200400" cy="2922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3124080" y="1828800"/>
            <a:ext cx="2936880" cy="2610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3657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-380880" y="0"/>
            <a:ext cx="35049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9920" cy="3589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730840" y="3106800"/>
            <a:ext cx="3413160" cy="3751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819520" y="1752480"/>
            <a:ext cx="3201840" cy="3517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334120" y="-30492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304776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3983040"/>
            <a:ext cx="3348000" cy="2874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342120" y="3860640"/>
            <a:ext cx="2801880" cy="2997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089760" y="0"/>
            <a:ext cx="3054240" cy="3357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52960" cy="3284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341964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038480" cy="3825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3471840" cy="3189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867280" y="-76320"/>
            <a:ext cx="327672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200400" cy="2724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-76320" y="40212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08720" y="4038480"/>
            <a:ext cx="2735280" cy="2819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446880" y="0"/>
            <a:ext cx="2697120" cy="2781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20364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снежные кристаллы 48 видов, разбитые на 9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личина, форма и узор снежинок зависят от температуры и вла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утренне строение снежного кристалла определяет его внешний обл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снежинки имеют 6 граней и одну ось симмет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чение кристалла, перпендикулярное оси симметрии, имеет шестиугольную фор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38224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 все-таки, загадка осталась для нас загадкой:</a:t>
            </a: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чему в природе так часто встречаются гексагональные форм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ae8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ь физическое и математическое обоснование разнообразия форм снежи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историю появления фотографий с изображениями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процесс образования и роста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ь зависимость форм снежинок от внешних условий (температура, влажность воздух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яснить разнообразие форм снежинок с точки зрения симме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илсон Бентл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ША) 15 января 1885 года сделал первый снимок  снежного кристалла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47 лет Бентли составил коллекцию фотографий снежинок (более 5000 ), снятых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53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гсо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.Рыбинск) нашел не худший способ фотографирования снежинок: снежинки надо помещать на тончайшей, почти паутинной, сетке из шелковинок, - тогда их можно снять во всех деталях, а сетку  потом заретуширов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3 году наблюдатель полярной станции на Земле Франца-Иосиф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атки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л более 300 снимков снежинок разнообразнейшей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5 год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Заморск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ил снежинки на 9 классов и 48 видов. Это – пластинки, звёзды, ежи, столбики, пушинки, запонки, призмы, группов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ннет Либрех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алифорния) составил полный справочник снежи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52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619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метил, что все снежинки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гран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у о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анализирова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нежино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622600" cy="3500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4208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7269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16360" y="0"/>
            <a:ext cx="453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РОЖДЕНИЕ КРИСТАЛ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04520" y="2749680"/>
            <a:ext cx="535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ик из пылинки и молеку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ы растет, принимая фор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естигран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49600" y="765000"/>
            <a:ext cx="5641920" cy="5840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-396720" y="14940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Зависимость форм снежинок от внешних усл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8:24:14Z</dcterms:created>
  <dc:creator>User</dc:creator>
  <dc:description/>
  <dc:language>en-US</dc:language>
  <cp:lastModifiedBy>Name</cp:lastModifiedBy>
  <dcterms:modified xsi:type="dcterms:W3CDTF">2010-09-26T09:23:16Z</dcterms:modified>
  <cp:revision>25</cp:revision>
  <dc:subject/>
  <dc:title>Форма снежин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9000000000001024140</vt:lpwstr>
  </property>
</Properties>
</file>