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3337-15E8-4996-885E-B5CC55B1FB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F416-F9F4-41A9-85FF-441183AE7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AA67-C4ED-4E2D-AA74-5B1345C03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710C-1934-4D9B-971A-70AB8ECB4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6D09-DD65-464F-A194-16416DA29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B10A-0A15-4B96-A6FB-D4BEC53535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745-971D-4C2C-BFFF-67FACE55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83C-9D2E-47BF-8E85-7B5F26A9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98B-546C-4763-8A8D-5A4B5873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BCE-2187-4EA4-8466-7E07AE89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8E7-04EF-4F4A-A089-7451FFF9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8C6-3B8D-4303-9625-59B75A6D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A4E0-2359-435D-833D-7A1BDA72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897-3629-4B8D-A2EF-F43B91A4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85D-EDB0-44EC-94ED-5FB3B0DE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432-8FB6-4B5F-ADE2-809F7707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7A8-3095-4859-A7A8-6D2309DF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EA7-911F-4C07-B0AD-41282C81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094A-B730-4DD7-8D3F-58EB54B42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6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rc 4"/>
            <p:cNvSpPr/>
            <p:nvPr/>
          </p:nvSpPr>
          <p:spPr>
            <a:xfrm>
              <a:off x="2782800" y="677880"/>
              <a:ext cx="2359080" cy="3294000"/>
            </a:xfrm>
            <a:custGeom>
              <a:avLst/>
              <a:gdLst>
                <a:gd name="textAreaLeft" fmla="*/ 0 w 2359080"/>
                <a:gd name="textAreaRight" fmla="*/ 2359440 w 235908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fill="none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</a:path>
                <a:path stroke="0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/>
  <dc:description/>
  <dc:language>en-US</dc:language>
  <cp:lastModifiedBy>А</cp:lastModifiedBy>
  <dcterms:modified xsi:type="dcterms:W3CDTF">2011-12-12T17:28:59Z</dcterms:modified>
  <cp:revision>4</cp:revision>
  <dc:subject/>
  <dc:title>Презентация PowerPoint</dc:title>
</cp:coreProperties>
</file>