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6DC-C574-4820-B38A-E54BEF47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B04-5A02-494F-8291-604B0A6B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7B8-92E1-44A7-B591-1550FED8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FCC-4AD4-42D0-8061-BB2BF36B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E15-AE40-40A9-A244-FA5E15EC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27D-D55D-43E6-BE6D-53D8A8A8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814-7A7D-4ECF-8C9C-A52648F1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079-6E49-4AA9-9F0F-51E43351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109-E018-44FA-9D06-1308224D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CF5-27D4-4603-ADEA-83CFBB95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BD0-F510-4ED1-BDC4-D9CA0EB9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58A-F6EF-42BA-B03E-B728468E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A987-C35F-4BAC-A702-9AE2B6F33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2/Sovremenni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upload.wikimedia.org/wikipedia/commons/7/78/Russian_writers_by_Levitsky_1856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 Зарождение революционного народничества и его иде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257800"/>
            <a:ext cx="6400800" cy="1600200"/>
          </a:xfrm>
          <a:prstGeom prst="rect">
            <a:avLst/>
          </a:prstGeom>
          <a:solidFill>
            <a:srgbClr val="d7a36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ы действия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2933280" y="1828080"/>
            <a:ext cx="3274920" cy="198108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3276360" cy="18288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3886200"/>
            <a:ext cx="3314880" cy="20574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бе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волю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тюр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438280"/>
            <a:ext cx="3124440" cy="198144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ы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Земля и воля» готовились начать открытое выступление в 1863 году, считая, что в этот период может возникнуть крестьянское восстание, связанное с истечением срока подписания Уставных грамо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2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– арест наиболее активных чле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34290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3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разочарование революционеров – на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осстание не оправд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50292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64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самороспуск « Земли и во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6360" y="28195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6360" y="4495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и А.И.Герцена и  Н.Г. Черныш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ли теоретической основой политического течения русской радикальной интеллигенции – народничества, которые рассматривали народ как реальную политическую силу. Они считали, что необходимо сделать эту силу сознательной и организова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5345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2819520" y="1447200"/>
            <a:ext cx="3124080" cy="14475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676520"/>
            <a:ext cx="2819520" cy="9903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нта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933640"/>
            <a:ext cx="3162240" cy="87624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523880"/>
            <a:ext cx="2819520" cy="99072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оворщиц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5240" y="38098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86200"/>
            <a:ext cx="3886200" cy="167652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257800"/>
            <a:ext cx="304776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038480"/>
            <a:ext cx="304812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ит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Файл:Bakuninfull.jpg"/>
          <p:cNvPicPr/>
          <p:nvPr/>
        </p:nvPicPr>
        <p:blipFill>
          <a:blip r:embed="rId2"/>
          <a:stretch/>
        </p:blipFill>
        <p:spPr>
          <a:xfrm>
            <a:off x="457200" y="4114800"/>
            <a:ext cx="76500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852480" cy="11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7617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мая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14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ле Прямухино, Новоторжокского уезда, Тверской губернии, Российская империя — 19 июня [1 июля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рн, Швейцария) — русский мыслитель, революционер, панславист, анархист, один из идеологов народниче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280"/>
            <a:ext cx="78487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Файл:Bakuninfull.jpg"/>
          <p:cNvPicPr/>
          <p:nvPr/>
        </p:nvPicPr>
        <p:blipFill>
          <a:blip r:embed="rId2"/>
          <a:stretch/>
        </p:blipFill>
        <p:spPr>
          <a:xfrm>
            <a:off x="304920" y="1523880"/>
            <a:ext cx="3365280" cy="4834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А. 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М.А. Бакун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амоуправление народ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нт, восстания,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л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унтар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циоло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философ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революционер. Один из идеологов народни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8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Файл:Piotr Lavrovich Lavrov.jpg"/>
          <p:cNvPicPr/>
          <p:nvPr/>
        </p:nvPicPr>
        <p:blipFill>
          <a:blip r:embed="rId2"/>
          <a:stretch/>
        </p:blipFill>
        <p:spPr>
          <a:xfrm>
            <a:off x="685800" y="1600200"/>
            <a:ext cx="3394080" cy="47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Л. 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 Л. Лав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здать свободное социалистиче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пропаг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литературный критик и публицист, брат Александры Анненской. Идеолог якобинского направления в народнич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7920" y="1752480"/>
            <a:ext cx="339120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5943600"/>
            <a:ext cx="3962520" cy="68580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Н. 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знакомимся с идеями и  развитием революционного  общественного движения 60-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ыяснить причины широкого развития  революционного дви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егодня на урок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Н. Ткачё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установление всеобщего равен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гов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оотнесите программные установки русских революционе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2502000"/>
                <a:gridCol w="5727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.А.Баку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Движущая сила революции – интеллигентный пропагандист, ведущий разъяснения среди на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.Л.Лав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еволюция возможна, ее движущая сила – партия заговорщ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.Н.Ткач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еволюция – народный бу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льшинство представителей народничества были выходцами из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разночи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9528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ошибок –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ошибка –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шибки –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ошибки –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на стр. 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25, вопросы, записи,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роста революционного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иски ориент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ия революционного народни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помещичьего землевла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еменительные условия выкупа земельного на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ременнообязанн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лительность, нерешительность, а также непоследовательность 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чины роста революцио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522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Sovremenn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99736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Файл:Russian writers by Levitsky 185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1728720"/>
            <a:ext cx="4038480" cy="391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5562720"/>
            <a:ext cx="4876920" cy="106668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ы редколлег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Современник» 185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39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юле 1862 года был арестован и помещён в Петропавловскую крепость, где провёл около 2 лет. Там написал роман: « Что делать?», ставший                          « библией» для русских революцион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5720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айл:Nikolay Chernyshevsky.jpg"/>
          <p:cNvPicPr/>
          <p:nvPr/>
        </p:nvPicPr>
        <p:blipFill>
          <a:blip r:embed="rId2"/>
          <a:stretch/>
        </p:blipFill>
        <p:spPr>
          <a:xfrm>
            <a:off x="457200" y="1676520"/>
            <a:ext cx="3333600" cy="412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486400"/>
            <a:ext cx="3886200" cy="99072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Н. Обруч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С. Рымаренк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 И. Шамшин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основания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роспуска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ология: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ро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0492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Файл:Zemlya i volya logo.png"/>
          <p:cNvPicPr/>
          <p:nvPr/>
        </p:nvPicPr>
        <p:blipFill>
          <a:blip r:embed="rId2"/>
          <a:stretch/>
        </p:blipFill>
        <p:spPr>
          <a:xfrm>
            <a:off x="304920" y="1790640"/>
            <a:ext cx="4038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,5% - учащиеся и слушатели В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% - рабо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,3% - учащиеся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,3% - служа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,6% -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чём это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 « Земли и вол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вать пар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ановить демократическую респуб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рокое применение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правие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дать крестьянам всю зем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городских и сельских самоуправляющихся об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грамма « Земли и воли»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2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