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4557B-46AA-4295-8388-CD7739BC7CEB}" type="slidenum">
              <a:rPr b="0" lang="ru-RU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0F3E5-BA66-41F1-AF07-974F1AFD9A18}" type="slidenum">
              <a:rPr b="0" lang="ru-RU" sz="1200" spc="-1" strike="noStrike">
                <a:solidFill>
                  <a:srgbClr val="0066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B024E-D01D-4C63-8C00-77925D856EB1}" type="slidenum">
              <a:rPr b="0" lang="ru-RU" sz="1200" spc="-1" strike="noStrike">
                <a:solidFill>
                  <a:srgbClr val="0066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5282B-F340-4FAE-AD77-5A9EF429BCA6}" type="slidenum">
              <a:rPr b="0" lang="ru-RU" sz="1200" spc="-1" strike="noStrike">
                <a:solidFill>
                  <a:srgbClr val="0066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DE1B2-7706-4C9B-9CC9-E4806A51017E}" type="slidenum">
              <a:rPr b="0" lang="ru-RU" sz="1200" spc="-1" strike="noStrike">
                <a:solidFill>
                  <a:srgbClr val="0066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CECC3-292E-4771-99C1-B6D4BAC9D4EF}" type="slidenum">
              <a:rPr b="0" lang="ru-RU" sz="1200" spc="-1" strike="noStrike">
                <a:solidFill>
                  <a:srgbClr val="0066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4EC7-675D-4C0D-BDD9-C7C48C8F9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5D79-B729-4F91-B036-CBCCC6DEB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B1B6-00BE-49FC-A14A-BCFC01E8C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0573-8D7C-4792-BD8D-5302DA5AC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201D-BEE1-442B-8A64-9E0F6788D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4BE5-3DF9-4C9A-B687-F33C18D25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AE12-0D90-4938-A98F-1E561972E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3FD6-1A53-45FD-A54B-50EC85A21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F4BC-F2BF-4667-A88D-26D811BDA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21FD-B9EB-4773-960A-23F7486B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50AA-15A6-4264-9F7E-2EA42915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4048-5C04-477D-90F3-48B742DCA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7685E-77CC-42D0-BAD7-50A12DFFD0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5892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Тригонометрические уравн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пределения тригонометрических функ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737280" y="1676520"/>
            <a:ext cx="43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нгенсом угла х называется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685440" y="2060640"/>
            <a:ext cx="435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отношение синуса к косинусу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80" name="Picture 7" descr=""/>
          <p:cNvPicPr/>
          <p:nvPr/>
        </p:nvPicPr>
        <p:blipFill>
          <a:blip r:embed="rId1"/>
          <a:stretch/>
        </p:blipFill>
        <p:spPr>
          <a:xfrm>
            <a:off x="5076720" y="2133720"/>
            <a:ext cx="3451320" cy="29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братные тригонометрические функ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466200" y="2637000"/>
            <a:ext cx="52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гол, принадлежащий промежутку 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397080" y="1989000"/>
            <a:ext cx="551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ктангенсомом числ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зывается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7"/>
              <p:cNvSpPr txBox="1"/>
              <p:nvPr/>
            </p:nvSpPr>
            <p:spPr>
              <a:xfrm>
                <a:off x="2268360" y="3213000"/>
                <a:ext cx="145116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5" name="Rectangle 9"/>
          <p:cNvSpPr/>
          <p:nvPr/>
        </p:nvSpPr>
        <p:spPr>
          <a:xfrm>
            <a:off x="687600" y="4365720"/>
            <a:ext cx="38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нгенс которого равен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86" name="Picture 11" descr=""/>
          <p:cNvPicPr/>
          <p:nvPr/>
        </p:nvPicPr>
        <p:blipFill>
          <a:blip r:embed="rId1"/>
          <a:stretch/>
        </p:blipFill>
        <p:spPr>
          <a:xfrm>
            <a:off x="5003640" y="2637000"/>
            <a:ext cx="392436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611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шение простейших уравнений</a:t>
            </a: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343080" y="134028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м уравнение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6"/>
              <p:cNvSpPr txBox="1"/>
              <p:nvPr/>
            </p:nvSpPr>
            <p:spPr>
              <a:xfrm>
                <a:off x="611280" y="2349360"/>
                <a:ext cx="230508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0" name="Picture 9" descr=""/>
          <p:cNvPicPr/>
          <p:nvPr/>
        </p:nvPicPr>
        <p:blipFill>
          <a:blip r:embed="rId1"/>
          <a:stretch/>
        </p:blipFill>
        <p:spPr>
          <a:xfrm>
            <a:off x="3780000" y="2205000"/>
            <a:ext cx="41860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611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шение простейших уравнений</a:t>
            </a: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343080" y="134028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м уравнение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4"/>
              <p:cNvSpPr txBox="1"/>
              <p:nvPr/>
            </p:nvSpPr>
            <p:spPr>
              <a:xfrm>
                <a:off x="468360" y="1773360"/>
                <a:ext cx="3457440" cy="18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3780000" y="2205000"/>
            <a:ext cx="41860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-252360" y="1197000"/>
            <a:ext cx="993780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611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шение простейших уравнений</a:t>
            </a: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343080" y="134028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м уравнение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4"/>
              <p:cNvSpPr txBox="1"/>
              <p:nvPr/>
            </p:nvSpPr>
            <p:spPr>
              <a:xfrm>
                <a:off x="365040" y="2349360"/>
                <a:ext cx="279900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9" name="Picture 5" descr=""/>
          <p:cNvPicPr/>
          <p:nvPr/>
        </p:nvPicPr>
        <p:blipFill>
          <a:blip r:embed="rId1"/>
          <a:stretch/>
        </p:blipFill>
        <p:spPr>
          <a:xfrm>
            <a:off x="3780000" y="2205000"/>
            <a:ext cx="41860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611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шение простейших уравнений</a:t>
            </a: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343080" y="134028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м уравнение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4"/>
              <p:cNvSpPr txBox="1"/>
              <p:nvPr/>
            </p:nvSpPr>
            <p:spPr>
              <a:xfrm>
                <a:off x="447840" y="2430360"/>
                <a:ext cx="263340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3780000" y="2205000"/>
            <a:ext cx="4186080" cy="3619440"/>
          </a:xfrm>
          <a:prstGeom prst="rect">
            <a:avLst/>
          </a:prstGeom>
          <a:ln w="0">
            <a:noFill/>
          </a:ln>
        </p:spPr>
      </p:pic>
      <p:sp>
        <p:nvSpPr>
          <p:cNvPr id="104" name="Line 9"/>
          <p:cNvSpPr/>
          <p:nvPr/>
        </p:nvSpPr>
        <p:spPr>
          <a:xfrm>
            <a:off x="6588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6210360" y="38084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06" name="Line 11"/>
          <p:cNvSpPr/>
          <p:nvPr/>
        </p:nvSpPr>
        <p:spPr>
          <a:xfrm flipH="1">
            <a:off x="5796000" y="2852640"/>
            <a:ext cx="79200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07" name="Line 12"/>
          <p:cNvSpPr/>
          <p:nvPr/>
        </p:nvSpPr>
        <p:spPr>
          <a:xfrm>
            <a:off x="5796000" y="4005360"/>
            <a:ext cx="79200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08" name="Text Box 13"/>
          <p:cNvSpPr/>
          <p:nvPr/>
        </p:nvSpPr>
        <p:spPr>
          <a:xfrm>
            <a:off x="5942520" y="3500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611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шение простейших уравнений</a:t>
            </a: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343080" y="134028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м уравнение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4"/>
              <p:cNvSpPr txBox="1"/>
              <p:nvPr/>
            </p:nvSpPr>
            <p:spPr>
              <a:xfrm>
                <a:off x="611280" y="1700280"/>
                <a:ext cx="3919320" cy="13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3780000" y="2205000"/>
            <a:ext cx="41860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етоды решения уравнений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новные тригонометрические формулы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улы при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1476360" y="3068640"/>
            <a:ext cx="3024360" cy="12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ведение к одной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ункции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4427640" y="3068640"/>
            <a:ext cx="3024000" cy="12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ложение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множители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611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шение простейших уравнений</a:t>
            </a: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343080" y="134028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м уравнение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5651640" y="3284640"/>
            <a:ext cx="3492360" cy="3019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9" name="Object 6"/>
              <p:cNvSpPr txBox="1"/>
              <p:nvPr/>
            </p:nvSpPr>
            <p:spPr>
              <a:xfrm>
                <a:off x="684360" y="1916280"/>
                <a:ext cx="5111640" cy="12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Rectangle 8"/>
          <p:cNvSpPr/>
          <p:nvPr/>
        </p:nvSpPr>
        <p:spPr>
          <a:xfrm>
            <a:off x="253800" y="4074840"/>
            <a:ext cx="562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равнение однородное,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к ка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епени слагаемых,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держащих переменные одинаковые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пределения тригонометрических функ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36560" y="1647720"/>
            <a:ext cx="409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инусом угла х называется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682920" y="2060640"/>
            <a:ext cx="3986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ордина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точки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диничной окружности,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ученной из точки (1; 0)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воротом на угол х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1"/>
          <a:stretch/>
        </p:blipFill>
        <p:spPr>
          <a:xfrm>
            <a:off x="5003640" y="1844640"/>
            <a:ext cx="338472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1" name="Object 4"/>
              <p:cNvSpPr txBox="1"/>
              <p:nvPr/>
            </p:nvSpPr>
            <p:spPr>
              <a:xfrm>
                <a:off x="611280" y="333360"/>
                <a:ext cx="5545080" cy="13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22" name="Picture 6" descr=""/>
          <p:cNvPicPr/>
          <p:nvPr/>
        </p:nvPicPr>
        <p:blipFill>
          <a:blip r:embed="rId1"/>
          <a:stretch/>
        </p:blipFill>
        <p:spPr>
          <a:xfrm>
            <a:off x="5651640" y="3284640"/>
            <a:ext cx="349236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3" name="Object 4"/>
              <p:cNvSpPr txBox="1"/>
              <p:nvPr/>
            </p:nvSpPr>
            <p:spPr>
              <a:xfrm>
                <a:off x="755640" y="549360"/>
                <a:ext cx="585936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π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3"/>
          <p:cNvSpPr/>
          <p:nvPr/>
        </p:nvSpPr>
        <p:spPr>
          <a:xfrm>
            <a:off x="343080" y="76392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м уравнение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3780000" y="2205000"/>
            <a:ext cx="4186080" cy="3619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6" name="Object 6"/>
              <p:cNvSpPr txBox="1"/>
              <p:nvPr/>
            </p:nvSpPr>
            <p:spPr>
              <a:xfrm>
                <a:off x="539640" y="1268280"/>
                <a:ext cx="609624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с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4957920" y="3238560"/>
            <a:ext cx="4186080" cy="361944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5"/>
          <p:cNvSpPr/>
          <p:nvPr/>
        </p:nvSpPr>
        <p:spPr>
          <a:xfrm>
            <a:off x="198720" y="25920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м уравнение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6"/>
              <p:cNvSpPr txBox="1"/>
              <p:nvPr/>
            </p:nvSpPr>
            <p:spPr>
              <a:xfrm>
                <a:off x="395280" y="620640"/>
                <a:ext cx="6095880" cy="14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,5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343080" y="76392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м уравнение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3780000" y="2205000"/>
            <a:ext cx="4186080" cy="3619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2" name="Object 6"/>
              <p:cNvSpPr txBox="1"/>
              <p:nvPr/>
            </p:nvSpPr>
            <p:spPr>
              <a:xfrm>
                <a:off x="684360" y="1268280"/>
                <a:ext cx="2087280" cy="127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tg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421920" y="763920"/>
            <a:ext cx="312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равенств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6012000" y="4149720"/>
            <a:ext cx="3132000" cy="2708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5" name="Object 6"/>
              <p:cNvSpPr txBox="1"/>
              <p:nvPr/>
            </p:nvSpPr>
            <p:spPr>
              <a:xfrm>
                <a:off x="539640" y="1268280"/>
                <a:ext cx="316872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-108000" y="692280"/>
            <a:ext cx="10009080" cy="41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5364000" y="2349360"/>
            <a:ext cx="3257640" cy="25387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312480" y="3357720"/>
            <a:ext cx="65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гол, принадлежащий промежутку                ,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469080" y="2781360"/>
            <a:ext cx="48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усом числ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зывается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8"/>
              <p:cNvSpPr txBox="1"/>
              <p:nvPr/>
            </p:nvSpPr>
            <p:spPr>
              <a:xfrm>
                <a:off x="1835280" y="3860640"/>
                <a:ext cx="13698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братные тригонометрические функ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613080" y="4941720"/>
            <a:ext cx="35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нус которого равен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13"/>
              <p:cNvSpPr txBox="1"/>
              <p:nvPr/>
            </p:nvSpPr>
            <p:spPr>
              <a:xfrm>
                <a:off x="1403280" y="5589720"/>
                <a:ext cx="201636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2556000" y="765000"/>
            <a:ext cx="2744640" cy="46818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1242360" y="107172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Arial"/>
              </a:rPr>
              <a:t>y=arcsinx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пределения тригонометрических функ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736200" y="1676520"/>
            <a:ext cx="43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синусом угла х называется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682920" y="2060640"/>
            <a:ext cx="3986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абсцис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точки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диничной окружности,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ученной из точки (1; 0)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воротом на угол х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1"/>
          <a:stretch/>
        </p:blipFill>
        <p:spPr>
          <a:xfrm>
            <a:off x="5724360" y="1916280"/>
            <a:ext cx="265140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-325440" y="684360"/>
            <a:ext cx="11377440" cy="47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321840" y="3357720"/>
            <a:ext cx="52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гол, принадлежащий промежутку 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469440" y="2781360"/>
            <a:ext cx="50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косинусом числ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зывается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братные тригонометрические функ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9"/>
              <p:cNvSpPr txBox="1"/>
              <p:nvPr/>
            </p:nvSpPr>
            <p:spPr>
              <a:xfrm>
                <a:off x="1692360" y="5516640"/>
                <a:ext cx="201600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Rectangle 8"/>
          <p:cNvSpPr/>
          <p:nvPr/>
        </p:nvSpPr>
        <p:spPr>
          <a:xfrm>
            <a:off x="613440" y="4941720"/>
            <a:ext cx="38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синус которого равен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10"/>
              <p:cNvSpPr txBox="1"/>
              <p:nvPr/>
            </p:nvSpPr>
            <p:spPr>
              <a:xfrm>
                <a:off x="1908000" y="4076640"/>
                <a:ext cx="107172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π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74" name="Picture 12" descr=""/>
          <p:cNvPicPr/>
          <p:nvPr/>
        </p:nvPicPr>
        <p:blipFill>
          <a:blip r:embed="rId1"/>
          <a:stretch/>
        </p:blipFill>
        <p:spPr>
          <a:xfrm>
            <a:off x="5364000" y="2205000"/>
            <a:ext cx="352764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3059280" y="1700280"/>
            <a:ext cx="2900160" cy="40608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883080" y="1143000"/>
            <a:ext cx="167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Arial"/>
              </a:rPr>
              <a:t>y=arccosx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2T12:03:29Z</dcterms:created>
  <dc:creator>Николай Бирюков / Nikolai Biryukov</dc:creator>
  <dc:description/>
  <dc:language>en-US</dc:language>
  <cp:lastModifiedBy>Питерская</cp:lastModifiedBy>
  <dcterms:modified xsi:type="dcterms:W3CDTF">2011-12-25T10:48:46Z</dcterms:modified>
  <cp:revision>12</cp:revision>
  <dc:subject/>
  <dc:title>Тригонометрические уравнения</dc:title>
</cp:coreProperties>
</file>