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783-290B-49AE-86BE-B56674DD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D95-0637-4A74-8B04-32108609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0D7-1730-43E7-8DAC-C836C168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C69-A798-4F1D-A6D7-B5DEC21F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CAF-4EB0-45FF-B378-24DE4782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94F-5BAB-49E7-AF13-6E115665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A07-BDC9-4CD3-A122-1550DA0C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84F-08D2-46A3-9CC5-B055C77E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1D2-8D1F-4B90-A781-B6FDDBF3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B95-69EE-4FCE-BB14-13A69B7F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9F5-4188-41F7-BEDE-858EFBD2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2D3-C5E8-4C2B-8CD3-68F63614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E589-76E3-40B6-9EE2-7039DE3502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0-02-16T18:11:51Z</dcterms:modified>
  <cp:revision>3</cp:revision>
  <dc:subject/>
  <dc:title>Факториал</dc:title>
</cp:coreProperties>
</file>