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E210-715C-4428-944E-2AF9ACFC0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41DE-374D-4658-BD31-DED9D132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06E0-B35E-4118-B0AD-C7C6FC475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1302-C941-4208-8221-FD142DF3F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ABBF-AF5F-481E-8585-31368C1A0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2E18-F677-4742-89AF-1357923A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C8CE-A961-4C02-B28F-CD85AF86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BEA0-F82B-4369-894E-D05AD93F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39D0-AAB5-4CF2-9898-043279C2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58D1-E737-49E7-85CA-A25E8086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724B-F685-4ECC-804A-48105445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6162-E40D-4B61-8A89-E5BA3951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4219-76C4-44E1-8D13-88B4A641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C392-0133-4CE4-A765-633998AA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39A0-0597-4A8C-A49B-49C1BAEC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C646-4213-4EFC-9F66-F8819CD34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E7DD-F710-4EBA-A94C-CA329923F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96B2-5C94-46B0-B961-9EC29702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DFD3-E26B-4D64-9E5B-1314B540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33DF-7A1F-4EE2-9C5B-8BF75C93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6F3A-88A1-4123-8592-151586F8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261B-46A5-46B2-869A-78D50C20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38CB-B1D8-4BCA-BB8E-EDB4EB0F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9C0C-B6C2-450E-AA83-FDCF0AD0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6F48-A9C6-4927-91EF-E3CD2429536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11A3-2A03-4887-A2EC-AE03EDB2A54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stronews.prao.psn.ru/SolarSystem/Saturn/image3.jpg" TargetMode="External"/><Relationship Id="rId3" Type="http://schemas.openxmlformats.org/officeDocument/2006/relationships/hyperlink" Target="http://astronews.prao.psn.ru/SolarSystem/Saturn/saturn2_big.gif" TargetMode="External"/><Relationship Id="rId4" Type="http://schemas.openxmlformats.org/officeDocument/2006/relationships/hyperlink" Target="http://astronews.prao.psn.ru/SolarSystem/Saturn/cloud.jpg" TargetMode="External"/><Relationship Id="rId5" Type="http://schemas.openxmlformats.org/officeDocument/2006/relationships/hyperlink" Target="http://astronews.prao.psn.ru/SolarSystem/Saturn/ring_big.gif" TargetMode="External"/><Relationship Id="rId6" Type="http://schemas.openxmlformats.org/officeDocument/2006/relationships/hyperlink" Target="http://astronews.prao.psn.ru/SolarSystem/Saturn/image1.jpg" TargetMode="External"/><Relationship Id="rId7" Type="http://schemas.openxmlformats.org/officeDocument/2006/relationships/hyperlink" Target="http://astronews.prao.psn.ru/SolarSystem/Saturn/ring_sat.gif" TargetMode="External"/><Relationship Id="rId8" Type="http://schemas.openxmlformats.org/officeDocument/2006/relationships/hyperlink" Target="http://astronews.prao.psn.ru/SolarSystem/Saturn/image3.jpg" TargetMode="External"/><Relationship Id="rId9" Type="http://schemas.openxmlformats.org/officeDocument/2006/relationships/image" Target="../media/image2.jpeg"/><Relationship Id="rId10" Type="http://schemas.openxmlformats.org/officeDocument/2006/relationships/hyperlink" Target="http://astronews.prao.psn.ru/SolarSystem/Saturn/saturn2_big.gif" TargetMode="External"/><Relationship Id="rId11" Type="http://schemas.openxmlformats.org/officeDocument/2006/relationships/image" Target="../media/image3.jpeg"/><Relationship Id="rId12" Type="http://schemas.openxmlformats.org/officeDocument/2006/relationships/hyperlink" Target="http://astronews.prao.psn.ru/SolarSystem/Saturn/cloud.jpg" TargetMode="External"/><Relationship Id="rId13" Type="http://schemas.openxmlformats.org/officeDocument/2006/relationships/image" Target="../media/image4.jpeg"/><Relationship Id="rId14" Type="http://schemas.openxmlformats.org/officeDocument/2006/relationships/hyperlink" Target="http://astronews.prao.psn.ru/SolarSystem/Saturn/ring_big.gif" TargetMode="External"/><Relationship Id="rId15" Type="http://schemas.openxmlformats.org/officeDocument/2006/relationships/image" Target="../media/image5.jpeg"/><Relationship Id="rId16" Type="http://schemas.openxmlformats.org/officeDocument/2006/relationships/image" Target="../media/image6.jpeg"/><Relationship Id="rId17" Type="http://schemas.openxmlformats.org/officeDocument/2006/relationships/hyperlink" Target="http://astronews.prao.psn.ru/SolarSystem/Saturn/image1.jpg" TargetMode="External"/><Relationship Id="rId18" Type="http://schemas.openxmlformats.org/officeDocument/2006/relationships/image" Target="../media/image7.jpeg"/><Relationship Id="rId19" Type="http://schemas.openxmlformats.org/officeDocument/2006/relationships/hyperlink" Target="http://astronews.prao.psn.ru/SolarSystem/Saturn/ring_sat.gif" TargetMode="External"/><Relationship Id="rId20" Type="http://schemas.openxmlformats.org/officeDocument/2006/relationships/image" Target="../media/image8.jpeg"/><Relationship Id="rId2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 u="sng">
                <a:solidFill>
                  <a:srgbClr val="b2b2b2"/>
                </a:solidFill>
                <a:uFillTx/>
                <a:latin typeface="comic"/>
              </a:rPr>
              <a:t>Сатурн  и  его  «  глаз «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63640" y="3573360"/>
            <a:ext cx="5715000" cy="246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-4648320" y="-97267680"/>
          <a:ext cx="9144000" cy="3668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C</a:t>
                      </a:r>
                      <a:r>
                        <a:rPr b="0" lang="ru-RU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атурн - шестая от Солнца и вторая по величине планета Солнечной системы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-4833360" y="-96901560"/>
            <a:ext cx="625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 Unicode MS"/>
              </a:rPr>
              <a:t>Орбита: 1 429 400 000 км (9,54 АЕ) от Солнца</a:t>
            </a:r>
            <a:r>
              <a:rPr b="0" lang="en-US" sz="1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US" sz="1000" spc="-1" strike="noStrike">
                <a:solidFill>
                  <a:srgbClr val="ffff99"/>
                </a:solidFill>
                <a:latin typeface="Arial Unicode MS"/>
              </a:rPr>
              <a:t>Диаметр: 120 536 км (экватор)</a:t>
            </a:r>
            <a:r>
              <a:rPr b="0" lang="en-US" sz="1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US" sz="1000" spc="-1" strike="noStrike">
                <a:solidFill>
                  <a:srgbClr val="ffff99"/>
                </a:solidFill>
                <a:latin typeface="Arial Unicode MS"/>
              </a:rPr>
              <a:t>Масса: 5.68е26 кг</a:t>
            </a:r>
            <a:r>
              <a:rPr b="0" lang="en-US" sz="1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-4648320" y="-96656400"/>
          <a:ext cx="182520" cy="1860199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86019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</a:t>
                      </a:r>
                      <a:r>
                        <a:rPr b="0" lang="ru-RU" sz="18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В</a:t>
                      </a:r>
                      <a:r>
                        <a:rPr b="0" lang="ru-RU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Римской мифологии Сатурн - бог сельского хозяйства. Соответствующий ему Греческий бог, Кронус, был сыном Урана и Геи и отцом Зевса (Юпитера)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</a:t>
                      </a:r>
                      <a:r>
                        <a:rPr b="0" lang="ru-RU" sz="18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С</a:t>
                      </a:r>
                      <a:r>
                        <a:rPr b="0" lang="ru-RU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атурн был известен с доисторических времен. Галилей первым наблюдал его в телескоп в 1610 году. Ранние наблюдения Сатурна были усложнены предположением, согласно которому Земля проходит через плоскость колец Сатурна каждые несколько лет, когда Сатурн пересекает ее орбиту. Только в 1659 году Кристиан Гюйгенс правильно вывел геометрию колец. Кольца Сатурна оставались уникальными для Солнечной системы до 1977 года, когда были обнаружены очень слабые кольца вокруг Урана и вскоре после этого вокруг Юпитера и Нептуна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-13114440" y="91287720"/>
            <a:ext cx="35374320" cy="109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  </a:t>
            </a:r>
            <a:r>
              <a:rPr b="0" lang="ru-RU" sz="5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                  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ервым кораблем, летавшим к Сатурну, был Pioneer 11 в 1979 году, и позднее - Voyager, 1 и Voyager 2. Cassini, который сейчас находится на пути к нему, прибудет туда в 2004 го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Д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же в малый телескоп можно заметить, что Сатурн явно сплющен; его экваториальный и полярный диаметры различаются почти на 10 % (120,536 км и 108,728 км). Это - результат быстрого вращения и жидкого состояния. Другие газовые планеты тоже сплющены, но не так сильн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турн имеет самую низкую плотность среди всех планет, его удельный вес составляет всего 0.7 - меньше, чем у вод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добно Юпитеру, Сатурн состоит приблизительно на 75 % из водорода и на 25 % из гелия со следами воды, метана, аммиака и камня, что соответствует составу исконной Солнечной Туманности, из которой была сформирована Солнечная систем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  </a:t>
            </a:r>
            <a:r>
              <a:rPr b="0" lang="ru-RU" sz="54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            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 своему внутреннему строению Сатурн подобен Юпитеру и состоит из скалистого ядра, жидкого металлического водородного слоя и молекулярного водородного слоя. Присутствуют также следы различных льд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нутри Сатурна - горячее ядро с температурой 12000 K, и он излучает в космос большее количество энергии, чем получает от Солнца. Основная часть дополнительной энергии сгенерирована механизмом Келвина - Гельмгольца, как в Юпитере. Но этого недостаточно, чтобы объяснить видимую яркость Сатурна; должен присутствовать некоторый дополнительный механизм внутри Сатур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  </a:t>
            </a:r>
            <a:r>
              <a:rPr b="0" lang="ru-RU" sz="60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 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лосы, так выделяющиеся на Юпитере, на Сатурне намного более слабые. Они намного более широки ближе к экватору. У Сатурна также существуют долговечные пятна (красное пятно в центре изображения слева) и другие особенности, общие с Юпитер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Д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ва основных кольца (А и B) и одно слабое кольцо (C) могут наблюдаться с Земли. Промежуток между кольцами А и B известен как раздел Cassini. Изображения Voyager показывают четыре дополнительных слабых кольца. Кольца Сатурна, в отличие от колец других планет, являются очень яркими (альбедо 0.2 - 0.6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  </a:t>
            </a:r>
            <a:r>
              <a:rPr b="0" lang="ru-RU" sz="63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Х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тя с Земли кольца выглядят непрерывными, фактически они состоят из бесчисленных малых частичек, каждая из которых имеет свою собственную независимую орбиту. Расстояние между ними колеблется от сантиметра до нескольких метр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льца Сатурна необычайно тонки: хотя их диаметр - 250,000 км или чуть больше, их толщина составляет 1.5 км. Они состоят в основном из льда и частиц горных пород, покрытых ледяной корк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ru-RU" sz="90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Н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иболее удаленное кольцо Сатурна, называемое F-кольцом, является сложной структурой, составленной из отдельных малых колец, вдоль которых видны "узлы". Эти узлы состоят из скоплений материала, составляющего кольца (слева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роисхождение колец Сатурна и других планет неизвестно, возможно, они возникли путем разрушения больших спутников. Кольцевые системы не устойчивы, они должны восстанавливаться постоянно продолжающимися процесс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к и другие планеты группы Юпитера, Сатурн имеет значительное магнитное пол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турн легко увидеть в ночном небе невооруженным глазом. Хотя он не такой яркий, как Юпитер, его просто идентифицировать как планету, так как он не "мерцает", как звезды. Кольца и большие спутники можно наблюдать в небольшой телескоп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  </a:t>
            </a:r>
            <a:r>
              <a:rPr b="0" lang="ru-RU" sz="55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  </a:t>
            </a:r>
            <a:r>
              <a:rPr b="0" lang="ru-RU" sz="66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                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У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Сатурна 18 спутников, имеющих свои наименования. Из тех спутников, скорости вращения которых известны, все, кроме Фебы и Гиперона, вращаются синхронно. Три пары спутников - Мимас - Тезис, Енцелад - Диона и Титан - Гиперон - взаимодействуют гравитационно таким образом, чтобы поддержать устойчивые связи между их орбитами. В дополнение к этим 18 спутникам по крайней мере еще дюжине были присвоены временные обозначения, но теперь считается, что вряд ли все они реальны и являются спутниками Сатурна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-4492800" y="89409600"/>
            <a:ext cx="1428840" cy="838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-4492800" y="91849680"/>
            <a:ext cx="1905120" cy="857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-4492800" y="93770280"/>
            <a:ext cx="1266840" cy="952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-4492800" y="95508720"/>
            <a:ext cx="1428840" cy="100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6"/>
          <a:stretch/>
        </p:blipFill>
        <p:spPr>
          <a:xfrm>
            <a:off x="-4492800" y="9756792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-4492800" y="100861920"/>
            <a:ext cx="1143000" cy="885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-4492800" y="101700000"/>
            <a:ext cx="2857680" cy="1047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Титан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итан - самый крупный из известных спутников Сатурна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рбита: 1 221 830 км от Сатурн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иаметр: 5 150 к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асса: 1.35е23 к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   В греческой мифологии Титаны были семейством гигантов, детьми Урана и Геи, которые стремились управлять небесами, но были свергнуты и вытеснены Зевс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итан был открыт Гюйгенсом в 1655 год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80036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Гиперон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иперон - шестой из известных спутников Сатурна.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бита: 1 481 100 км от Нептун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метр: 286 км (410x260x220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сса: 1.77e19 кг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   В греческой мифологии Гиперон был титаном, сыном Геи и Урана и отцом Гелиоса. Открыт Бондом и Ласселем в 1848 год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Тритону летал только один космический корабль, Voyager 2, в августе 1989 года. Почти все, что мы знаем об этом спутнике, мы знаем благодаря этому полет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-за того, что орбита Тритона носит попятный характер, приливные взаимодействия между Нептуном и Тритоном уменьшают энергию Тритона, результатом чего является понижение его орбиты. Поэтому когда-нибудь, в далеком будущем, Тритон или разрушится (возможно, с формированием кольца вокруг Нептуна), или столкнется со своей планет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1581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«Глаз» Сатур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-5283360"/>
            <a:ext cx="9144000" cy="474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глаз « Сатурна – это  пыльная  буря, которая  продолжается  на Сатурне  уже  более 400 лет. Эта пыльная  буря ничто  иное, как  солитон. Это  очень мощная  длинная волна, энергия которой не может  исчезнуть сразу , и поэтому идёт по затухающей , каждый раз возвращаясь, но уже с меньшей энерги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47640" y="1224000"/>
            <a:ext cx="576108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одробнее о «глазе»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Глаз»-это пыльная буря, которая не проходит уже около 400 лет. А эта буря ничто иное, как солитон. Это длинная мощная волна, энергия которой не может исчезнуть  сразу, и поэтому идёт по затухающей. Каждый раз возвращаясь, но уже с меньшим количеством энерг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нутреннее  строение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своему внутреннему строению Сатурн подобен Юпитеру и состоит из скалистого ядра, жидкого металлического водородного слоя и молекулярного водородного слоя. Присутствуют также следы различных льд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утри Сатурна - горячее ядро с температурой 12000 K, и он излучает в космос большее количество энергии, чем получает от Солнца. Основная часть дополнительной энергии сгенерирована механизмом Келвина - Гельмгольца, как в Юпитере. Но этого недостаточно, чтобы объяснить видимую яркость Сатурна; должен присутствовать некоторый дополнительный механизм внутри Сатур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Творц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стерова Елена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аркова  Дарь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 Б клас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5 г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.Слободской, Кировская обла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Краткие  свед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Cатурн - шестая от Солнца и вторая по величине планета Солнечной системы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бита: 1 429 400 000 км (9,54 АЕ) от Солнц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метр: 120 536 км (экватор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сса: 5.68е26 кг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00720" y="3703680"/>
            <a:ext cx="410364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Кольца   Сатур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4365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сть два основных кольца, видимых с Земли. Расстояние между ними колеблется от нескольких см. до нескольких метров. Кольца Сатурна тонки: хотя их диаметр 250.000 км., а толщина 1.5 км. Они состоят из льда и горных пород , покрытых льдом. Происхождение колец  неизвестно , возможно, они возникли путём разрушения спутников. Кольца неустойчивы, они должны  восстанавливаться постоянно продолжающимися процессам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295272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Его  спутник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Сатурна 18 спутников, имеющих свои наименования. Из тех спутников, скорости вращения которых известны, все, кроме Фебы и Гиперона, вращаются синхронно. Три пары спутников - Мимас - Тезис, Енцелад - Диона и Титан - Гиперон - взаимодействуют гравитационно таким образом, чтобы поддержать устойчивые связи между их орбитами. В дополнение к этим 18 спутникам по крайней мере еще дюжине были присвоены временные обозначения, но теперь считается, что вряд ли все они реальны и являются спутниками Сатур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Немного о крупнейших спутниках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н - ближайший из всех известных спутников Сатурна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бита: 133 583 км от Сатур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метр: 22 км Масса: ?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Был обнаружен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rk R Showalter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990 г на фотографиях, сделанных кораблём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y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71640" y="4581360"/>
            <a:ext cx="160164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Атлас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тлас - второй из известных спутников Сатурна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бита: 137 670 км от Сатур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метр: 30 км (40 x 20 км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сса: ?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       Атлас был титаном, братом Прометея, приговоренным Зевсом к тому, чтобы держать небеса на своих плечах.        Атлас был обнаружен R. Terrile в 1980 году на фотографиях, сделанных Voyag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рометей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метей - третий из известных спутников Сатурна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рбита: 139 350 км от Сатур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аметр: 91 км (145 x 85 x 62 км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сса: 2.7е17 кг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       Прометей был титаном, который похитил огонь с Олимпа и отнес его людям, за что Зевс жестоко наказал его.        Прометей был открыт в 1980 году Коллинзом и др. на фотографиях, сделанных кораблем Voyager.      На поверхности Прометея есть ряд горных кряжей, долин и отдельных кратеров диаметром около 20 к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андор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ндора - четвертый из известных спутников Сатур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бита: 141 700 км от Сатурн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аметр: 84 км (114 x 84 x 62 км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сса: 2.2е17 к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       В Греческой мифологии Пандора был первой женщиной, подаренная Зевсом человечеству в наказание за то, что Прометей похитил огонь. Она из любопытства открыла ящик, содержащий все болезни, которые могли принести бедствия людям, и выпустила все зло на свободу.        Пандора, как и Прометей, была обнаружена в 1980 году Коллинзом и др. на фотографиях, сделанных кораблем Voy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05:14:11Z</dcterms:created>
  <dc:creator>Гость</dc:creator>
  <dc:description/>
  <dc:language>en-US</dc:language>
  <cp:lastModifiedBy>Name</cp:lastModifiedBy>
  <dcterms:modified xsi:type="dcterms:W3CDTF">2010-09-23T12:06:13Z</dcterms:modified>
  <cp:revision>11</cp:revision>
  <dc:subject/>
  <dc:title>Спутники Сатур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2000000000001024140</vt:lpwstr>
  </property>
</Properties>
</file>