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806F-9BBE-47C4-A9C8-0F1070FDC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A5E6-6467-4CAE-B735-1B3E2640C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B593-8475-450E-8797-CB4E25534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167E-B5E5-49E0-BC5A-83F6CD42E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CDCD7-4F48-4178-B9E6-23A3453BD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FD370-2A56-4792-94CA-CC3323C29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99EBD-C027-48B0-A18F-AEE25EB6A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D410C-22DC-483D-9C09-B5AC18D8C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EA42A-61F5-4A59-BB67-0E0A4DBD9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D175D-0560-46C3-BC2B-826613EB3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22530-379F-47A1-A653-B4BF8258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6A97-ABF8-401B-9D46-21B991D68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CB896-8B2E-4FEE-B3C0-FAC5D823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938B6-76F5-4C3B-9F7A-B6DBC690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7A0E2-9AA8-4978-AE2B-B1FE352E3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2340F-C211-4871-86C1-1B59E3357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7829B-E2EA-4BBD-8638-38E49A7CE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C59C-4D68-4A2F-BD89-1799E17D9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CB76-D9A6-4F03-9689-81B7DEBDC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0049-D1A0-4AE6-ADBB-8D201D555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C368-3EA1-4899-A204-8261A0B33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175B-D02B-4D56-82FA-8EE96159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9F2C-8341-4FF7-8A9E-0BF68FCE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B18B-C0D9-4D23-8066-28C7191F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F447B-D620-4C6F-9ED0-28842E806C22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62785-A092-44CE-A28D-B5231507D93A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6920" y="1412640"/>
            <a:ext cx="77724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Arial"/>
              </a:rPr>
              <a:t>Планеты  Солнечной  системы</a:t>
            </a:r>
            <a:endParaRPr b="0" lang="en-US" sz="9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8" name="">
            <a:hlinkClick r:id="rId1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Нептун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утки  составляют  около  16  ча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мпература  поверхности  около  -210  граду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меет  8 спутников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Тритон  движется  в  обратную  сторону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Плутон 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дна  из  маленьких  планет (меньше  Луны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меет  1  спутник – Хар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Планета  и  спутник  близки  по  своим  размерам,  их  часто  называют двойной  планет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Итоговый  тест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  Ближайшая  к  Солнцу  планет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ар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ен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еркур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8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  Сколько  спутников  имеет  Марс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ше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  Марса  нет  спутни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  Какие  из  планет  Солнечной  системы  пригодны  для  жизн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ар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еркур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ем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  Сколько  планет  входит  в  состав  Солнечной  систем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сем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евя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еся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  Какая  из  планет  Солнечной  системы  самая  больша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Юпит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атур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р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   У  какой  из  планет  наибольшее количество  спутников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атур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Юпит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р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.   Какой  по  счету  от  солнца  идет  Земл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тор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етверт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реть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Ответы  на  тест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  Меркур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  Д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  Зем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  Девя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  Юпит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   Сатур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.   Треть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10800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Меркурий 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Ближайшая  к  Солнцу  плане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Самая  маленькая  планет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диаметр – 4880 км (1/3  земного  диаметра), масса  в  20  раз  меньше  земной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тмосфера  отсутству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мпература  колеблется  от  -180  до  500  граду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утки  составляют  приблизительно  60  земных,  а  год  около  3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Венера 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лижайшая  к  Земле  плане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кружена  мощной атмосферой,  состоящей  в  основном  из  углекислого  газа  (9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ень  составляет  около  117 земных  сут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мпература  поверхности  планеты  и  нижних  слоев  атмосферы  около  480  граду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стоянные  вет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ериод  обращения  вокруг  оси  около  243  суток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по  часовой  стрелк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Земля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Планета,  на  которой  мы  жив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тмосфера  е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да  е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Спутник  один - Лу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Марс 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седняя  с  Землёй  плане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ньше  Земли  примерно  в 2  раза  по  диаметру  и  примерно  в  9  раз  по  масс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иод  обращения  вокруг  Солнца  около  2  земных  лет,  а  вокруг своей  оси примерно  как  на  Земл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мпература  колеблется  от  0  до -100 граду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Имеет 2 спутник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-  Фобос (страх)  и  Деймос (ужас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Юпитер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Самая  большая планет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больше  Земли  в  1310  раз  по  диаметру  и  в  318  раз  по  масс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мпература  составляет  около  -140  граду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тмосфера  состоит  из  смеси  газов водорода, гелия,  метана  и  аммиа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утки  составляют  приблизительно  9ч 55ми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  тени  жарче,  чем  на  освещенном  Солнцем  мес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меет  16  спутников (Ио, Европа, Ганимед,  Каллисто – самые  крупны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Сатурн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Окружен  7  кольцами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состоящими  из  отдельных  частиц  и  пы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утки  составляют  около  10ч 15м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мпература  поверхности  планеты  около  -170 граду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меет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3  спутн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Самый  крупный  спутник – Титан – окружен  плотной  атмосфер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Уран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д  равен  приблизительно  84  г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ращается,  как  бы  лёжа  на  бо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мпература  около  -130 граду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меет  15  спутников (самые  крупные:  Миранда,  Ариэль,  Титания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9T15:40:28Z</dcterms:created>
  <dc:creator>User</dc:creator>
  <dc:description/>
  <dc:language>en-US</dc:language>
  <cp:lastModifiedBy>Name</cp:lastModifiedBy>
  <dcterms:modified xsi:type="dcterms:W3CDTF">2010-09-23T12:06:10Z</dcterms:modified>
  <cp:revision>8</cp:revision>
  <dc:subject/>
  <dc:title>Спутники плане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a03000000000001024140</vt:lpwstr>
  </property>
</Properties>
</file>