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FC7F-B5BB-4811-B8D3-532BD76E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9E00-9476-45CB-8F2C-B00497EB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2F3-E6BC-4A88-A0AC-E9CA68CF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F21-46A4-415B-A315-6A42EAB9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E77CB-3959-4612-8A01-00C3DD14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AB869-613F-45F8-9022-F5F84CD0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A05EF-2B9F-4906-9CE9-F73B0D30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5F6C5-1FFC-46FB-9A62-EC947F75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F5E0C-82B6-42EB-B224-7221209A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7445F-5491-47AC-9DCC-12C157E6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3485B-7445-4CD0-870D-814B96C2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BC7-EB4B-457C-8854-636DAA14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56719-E598-439A-BC90-96E59C25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F823E-4B4F-4347-944C-7607B794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594B4-76BA-4E33-938A-B6770564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3F9BC-78B0-4E0F-A4DB-FB4113BB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7347E-E479-42F2-8F75-A6EA2EB7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F626-C8D9-406F-BAAB-3DDBA2D9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14A0-0983-4311-B62E-8F84AF26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DC5-71F8-4DF0-9FD6-3DEC3B90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B8B1-1A81-4C66-8F8D-8D312E85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80E-3823-4D9D-9C1A-0E85900E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5D08-E783-4B35-959B-0EA6CC51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A3F-9BB3-4E13-B186-789646C5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D872-CDCA-4395-BFD0-5CA159A9402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C6F6-C5C1-4B31-A4B9-BCF22B1F92A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09520"/>
            <a:ext cx="77724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76360" y="5091120"/>
            <a:ext cx="64008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тор: Махов Алекс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рембольская ОО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92360" y="1401840"/>
            <a:ext cx="5616360" cy="20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блачное небо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6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монову Н.С. - за предоставленные фотограф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моновой А.Н. - за помощь в подборке материала и выборе дизай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03280" y="692280"/>
            <a:ext cx="640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ражаем благодар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знать какие бывают обл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во их стро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76360" y="620640"/>
            <a:ext cx="575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ЛИ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5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03280" y="1904760"/>
            <a:ext cx="3683160" cy="62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лако представляет собой взвесь в воздухе мелких и мельчайших капелек воды. Наряду с водяными капельками в облаке могут находиться также мелкие кристаллики льда. Облако может целиком состоять из таких кристалл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4321080" cy="376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403280" y="620640"/>
            <a:ext cx="63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лачное не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 advTm="5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88000" y="1905120"/>
            <a:ext cx="3898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и образуются близко от земной поверхности и представляют собой белесые или серые  однородные горизонтальные полосы (сло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42920" y="549360"/>
            <a:ext cx="7274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74508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32000" y="1905120"/>
            <a:ext cx="4032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Имеют обычно вид покрывающих часть небосвода волнистых гряд. Их нижняя граница 2…5 км, толщина примерно такая же, как у слоистых облаков. Высококучевые облака состоят обычно целиком из ледяных кристалликов. Осадки из этих облаков не выпадают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16000" y="404640"/>
            <a:ext cx="6912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кокуч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4248360" cy="3168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19280" y="1988640"/>
            <a:ext cx="340524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и темно-серые, плотные, иногда почти черные, с размытой нижней границей. Эти облака могут обкладывать весь небосвод, покрывая его темными пятнами; именно с такими облаками мы и связываем представление о пасмурной пого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71640" y="404640"/>
            <a:ext cx="76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исто-дожд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3380040" cy="367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16000" y="1905120"/>
            <a:ext cx="3970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плетение нежных белых нитей, тонкие белые полосы, которые, сливаясь, образуют силуэты перьев, хвостов и крыльев птиц, рыбьих скелетов и т.п. Высота нижней границы перистых облаков 6…10 км, толщина облаков порядка 1 км. Облака состоят из кристалликов и не дают осад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71640" y="620640"/>
            <a:ext cx="712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р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5640" y="2428920"/>
            <a:ext cx="3384720" cy="2728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ака бывают разны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лоист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ысококучев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лоисто-дождев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ерист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ака состоят из мельчайших капелек воды и кристалликов ль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24000" y="692280"/>
            <a:ext cx="432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узна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лат В.Л. Оптические явления в природе. -  Москва: Просвещение, 1974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расов Л.В. Физика в природе.- Москва: Просвещение, 198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тская энциклопедия, том 1. – Москва: Издательство Академии Педагогических наук, 1958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партович Б.Б., Криворучко Э.Н., Соловьёва Л.И. С любовью к природе. – Москва: Педагогика, 197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уждина Т.Д. Энциклопедия для малышей: Мир животных и растений -  Ярославль: Академия развития, 200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урнал «Юный натуралист», № 1, 200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32000" y="692280"/>
            <a:ext cx="65530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формационные ресур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advTm="5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0:25:58Z</dcterms:created>
  <dc:creator>Ученик</dc:creator>
  <dc:description/>
  <dc:language>en-US</dc:language>
  <cp:lastModifiedBy>Name</cp:lastModifiedBy>
  <dcterms:modified xsi:type="dcterms:W3CDTF">2010-09-23T12:05:43Z</dcterms:modified>
  <cp:revision>14</cp:revision>
  <dc:subject/>
  <dc:title>Об облак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2000000000001024140</vt:lpwstr>
  </property>
</Properties>
</file>