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9FBF-9526-47DF-9FB0-C43F765F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7ABD-155A-4763-9F0F-3BE54BCE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2A4D-7BF7-4FAD-9082-2E4B903B3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87FE-674F-41C9-A6CC-6D7C0E97E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2408-796A-45BB-9066-0FFD0CEC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F17F-B8CF-4B41-BA2E-330A81B0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95C6-6BCA-4115-AAC7-D7953191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FFB5-B2A8-4D80-AA5A-D294D12B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09D5-E0DD-4801-9460-5630DF5E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A335-AD08-480B-B040-CBD8A526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62CA-6E9E-4B08-B182-43CF846D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5C95-DF84-41F0-A652-93B34477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422F-F2F0-436D-A10F-2DBCF2C7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EBDC-BF06-447D-8CB2-24F147F6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3A00-5C44-4315-B8F6-2643B79F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5C10-729B-496C-9E73-098B547B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82E4-022A-453B-9F44-B6B1C1706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7FF5-4FF5-4AB2-99F1-978DD814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A6F1-898C-4CFD-9610-90C2FC96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57CE-8B63-401E-A7CC-6FFDCF77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71D0-2B8B-4619-8C41-E2BAB502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3CD0-97D0-4CE2-96C1-34A3E3F8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BEC5-80CD-489A-B5AA-B5C9EE8E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D62A-C4E6-4651-B19D-7BCDE840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5286-2966-422B-BF24-1A0EDD78E886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8B3E-79CE-4DB4-98D7-01CDC53077A3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466200"/>
            <a:ext cx="7772400" cy="60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400" spc="-1" strike="noStrike">
                <a:solidFill>
                  <a:srgbClr val="000000"/>
                </a:solidFill>
                <a:latin typeface="Old English Text MT"/>
              </a:rPr>
              <a:t>Планета Земля</a:t>
            </a:r>
            <a:br>
              <a:rPr sz="12400"/>
            </a:br>
            <a:endParaRPr b="0" lang="en-US" sz="1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58920" y="4637160"/>
            <a:ext cx="640080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>
            <a:hlinkClick r:id="rId1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Экология – наука о природном доме. Экология изучает взаимное влияние организмов друг с другом и с неживой природо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езультате деятельности человека наш природный дом оказался в опасности.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993080" cy="381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амая больша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из планет земной групп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5444640"/>
            <a:ext cx="8459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Земля вращается вокруг своей оси, делая один оборот за 24 часа. А вокруг солнца – за 1 год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меет атмосферу. У Земли есть спутник – Лун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22" b="0"/>
          <a:stretch/>
        </p:blipFill>
        <p:spPr>
          <a:xfrm>
            <a:off x="539640" y="1341360"/>
            <a:ext cx="8136000" cy="395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8680" y="369360"/>
            <a:ext cx="79549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Горы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5229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орные цепи тянутся на многие тысячи километров. Самые высокие горы – более молодые. Они с заостренными снежными  вершинам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ревние горы сегодня невысокие. Такими они стали под действием ветра, дождя, снега и льд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620120" cy="374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 Земле свыше 96 % воды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Это океаны (Тихий, Атлантический, Индийский, Северный Ледовитый), много морей, рек, озер, болот, подземных вод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620120" cy="374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52240" y="304560"/>
            <a:ext cx="800244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Времена г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5445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мена времен года происходит благодаря наклону земной оси. Солнце поднимается зимой не так высоко. А чем выше Солнце в небе, тем больше дают тепла его лучи. Поэтому зимой холоднее, чем лето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632720" cy="392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Природные зоны</a:t>
            </a:r>
            <a:r>
              <a:rPr b="0" lang="en-US" sz="6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530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реди природных зон можно выделить несколько, которые занимают большую ее часть. Их распространение зависит от климата, больше всего от распространения тепла и влаг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761080" cy="384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Природные зоны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Это тундра, тайга, пустыня, джунгли, лес (смешанный, широколиственный, влажный тропический), равнин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777080" cy="388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Живая прир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Развитие жизни на Земле началось около 3,5 млрд. лет назад. Ученые делят живую природу на бактерии, простейшие, грибы, растения, животны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993080" cy="392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Живая прир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558936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Живые существа заселили все природные зоны, почву и даже воду. Роль человека – сохранить их. Главный закон для нас – не навредить живой природе!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064720" cy="416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07:26:30Z</dcterms:created>
  <dc:creator>*</dc:creator>
  <dc:description/>
  <dc:language>en-US</dc:language>
  <cp:lastModifiedBy>Name</cp:lastModifiedBy>
  <dcterms:modified xsi:type="dcterms:W3CDTF">2010-09-23T12:06:07Z</dcterms:modified>
  <cp:revision>17</cp:revision>
  <dc:subject/>
  <dc:title>Планета Зем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6000000000001024140</vt:lpwstr>
  </property>
</Properties>
</file>