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9142-CCAA-495A-8D25-FFD993FE6C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60C2-C59A-4305-B9C5-D5DF087A3C05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88B4-E0A3-45C7-B32F-844BCC8B32A7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C21C-A156-4D20-8B87-CADE7118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65A-F32A-4E2E-8CE0-66774939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188-9BC2-49E6-899F-33BCDCB5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358-469C-44EC-BD18-421324E4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8AEF-5B56-4E30-96E2-C3E0797A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5560-E58A-45C1-AAC8-C512C381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D63F-6699-4B40-B6F2-1105AF56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E4A8-DB08-4CBC-B7AC-137BD468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7347-67EE-4376-9DF0-6281584C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FDED-5021-4F84-A542-CF5685AC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535B-D746-4CB7-B942-53351E79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8050-8713-498C-A681-99669814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47D7-53DD-4EBD-8E47-F4DBCA1D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96B9-A4B4-4959-99B9-030AB62B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D3D0-B6F5-4721-8FB5-B94D7BEF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9D7F-5BBF-4116-84AA-8B307664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9CFE-A231-4FD0-8A2B-199C20A6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B6BE-B4CB-4784-BF18-5E6FD4BF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CA3-098C-4C23-BD09-C5D9992B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610-41BB-4F0A-A0E0-E07DA189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549-1BB1-4F71-ADEF-E3651FF0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A94-AAC2-40B3-98F1-2E75C58F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3FE-DC76-497C-A302-A92EA8DC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265-2DD7-4EEB-8BD3-4DBD91F2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DFAB-5B33-4ABA-8F9A-33F790D599DE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prstGeom prst="pie">
            <a:avLst/>
          </a:pr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1A0E-5101-4FF3-8DD0-C9C05804F0F4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Кисти, краски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4c2b"/>
                </a:solidFill>
                <a:latin typeface="Times New Roman"/>
              </a:rPr>
              <a:t>Натюрморт</a:t>
            </a:r>
            <a:endParaRPr b="0" lang="en-US" sz="9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Picture 5" descr="Художник"/>
          <p:cNvPicPr/>
          <p:nvPr/>
        </p:nvPicPr>
        <p:blipFill>
          <a:blip r:embed="rId2"/>
          <a:stretch/>
        </p:blipFill>
        <p:spPr>
          <a:xfrm>
            <a:off x="2362320" y="1828800"/>
            <a:ext cx="4174920" cy="4286160"/>
          </a:xfrm>
          <a:prstGeom prst="rect">
            <a:avLst/>
          </a:prstGeom>
          <a:ln w="0">
            <a:noFill/>
          </a:ln>
        </p:spPr>
      </p:pic>
      <p:sp>
        <p:nvSpPr>
          <p:cNvPr id="93" name="Скругленный прямоугольник 6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5" descr="Кисти, краски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6804000" y="2708280"/>
            <a:ext cx="1752480" cy="1523880"/>
          </a:xfrm>
          <a:prstGeom prst="rect">
            <a:avLst/>
          </a:prstGeom>
          <a:gradFill rotWithShape="0">
            <a:gsLst>
              <a:gs pos="0">
                <a:srgbClr val="48674b"/>
              </a:gs>
              <a:gs pos="50000">
                <a:srgbClr val="9cdea1"/>
              </a:gs>
              <a:gs pos="100000">
                <a:srgbClr val="48674b"/>
              </a:gs>
            </a:gsLst>
            <a:lin ang="5400000"/>
          </a:gradFill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c2b"/>
                </a:solidFill>
                <a:latin typeface="Times New Roman"/>
              </a:rPr>
              <a:t>Что такое натюрморт?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Натюрморт - это изображение неодушевлённых предметов в живописи или графике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8" name="Picture 12" descr="Арбуз 2"/>
          <p:cNvPicPr/>
          <p:nvPr/>
        </p:nvPicPr>
        <p:blipFill>
          <a:blip r:embed="rId2"/>
          <a:stretch/>
        </p:blipFill>
        <p:spPr>
          <a:xfrm>
            <a:off x="6781680" y="2666880"/>
            <a:ext cx="1428840" cy="1381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Яблоко"/>
          <p:cNvPicPr/>
          <p:nvPr/>
        </p:nvPicPr>
        <p:blipFill>
          <a:blip r:embed="rId3"/>
          <a:stretch/>
        </p:blipFill>
        <p:spPr>
          <a:xfrm>
            <a:off x="7467480" y="3124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Сыр"/>
          <p:cNvPicPr/>
          <p:nvPr/>
        </p:nvPicPr>
        <p:blipFill>
          <a:blip r:embed="rId4"/>
          <a:stretch/>
        </p:blipFill>
        <p:spPr>
          <a:xfrm>
            <a:off x="6781680" y="297180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Гамбургер 2"/>
          <p:cNvPicPr/>
          <p:nvPr/>
        </p:nvPicPr>
        <p:blipFill>
          <a:blip r:embed="rId5"/>
          <a:stretch/>
        </p:blipFill>
        <p:spPr>
          <a:xfrm>
            <a:off x="7620120" y="2971800"/>
            <a:ext cx="51408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Яйцо"/>
          <p:cNvPicPr/>
          <p:nvPr/>
        </p:nvPicPr>
        <p:blipFill>
          <a:blip r:embed="rId6"/>
          <a:stretch/>
        </p:blipFill>
        <p:spPr>
          <a:xfrm>
            <a:off x="7162920" y="350532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75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c2b"/>
                </a:solidFill>
                <a:latin typeface="Times New Roman"/>
              </a:rPr>
              <a:t>Из истории натюрморта.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атюрморт возник ещё в эпоху античности , но как самостоятельный  жанр он начал развиваться только в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XVII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еке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Его расцвет начался в Голландии, где Реформация, запретив художникам писать картины на религиозные темы, вынудила их искать новые направл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3995640" y="522936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Франс Снейдерс. Фламандская школа. Рыбная лавк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Picture 16" descr="фл франс снейдерс рыбная лавка"/>
          <p:cNvPicPr/>
          <p:nvPr/>
        </p:nvPicPr>
        <p:blipFill>
          <a:blip r:embed="rId2"/>
          <a:stretch/>
        </p:blipFill>
        <p:spPr>
          <a:xfrm>
            <a:off x="3780000" y="1628640"/>
            <a:ext cx="4968720" cy="300852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75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475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75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c2b"/>
                </a:solidFill>
                <a:latin typeface="Times New Roman"/>
              </a:rPr>
              <a:t>Голландский натюрмор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44211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 натюрмортах, относящихся к началу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XVII столетия, предметы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расставлены в строгом порядке, словно экспонаты в музейной витрине. В подобных картинах дета ли наделены символическим значением. Яблоки напоминают о грехопадении Адама, а вино град — об искупительной жертве Христа. Раковина — оболочка, оставленная, когда то жившим в ней существом, увядшие цветы — символ смерти. Бабочка, родившаяся из кокона, означает воскресение.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 Таковы, например, полотна Балтазара ван дер Аста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Picture 6" descr="Балтазар ван дер Аст"/>
          <p:cNvPicPr/>
          <p:nvPr/>
        </p:nvPicPr>
        <p:blipFill>
          <a:blip r:embed="rId2"/>
          <a:stretch/>
        </p:blipFill>
        <p:spPr>
          <a:xfrm>
            <a:off x="4572000" y="2060640"/>
            <a:ext cx="4249800" cy="27842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4716360" y="4869000"/>
            <a:ext cx="38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Балтазар ван дер Аст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Натюрморт с цветами яблон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75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4956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Голландский натюрморт XVII в. поражает богатством тем. В каждом художественном центре страны живописцы предпочитали свои композиции: в Утрехте — из цветов и плодов, в Гааге — из рыбы. В Харлеме писали скромные завтраки, в Амстердаме — роскошные десерты, а в университетском Лейдене — книги и другие предметы для занятий науками или традиционные символы мирской суеты — череп, свечу, песочные часы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Picture 4" descr="Питер Клас завтрак с ветчиной"/>
          <p:cNvPicPr/>
          <p:nvPr/>
        </p:nvPicPr>
        <p:blipFill>
          <a:blip r:embed="rId1"/>
          <a:stretch/>
        </p:blipFill>
        <p:spPr>
          <a:xfrm>
            <a:off x="4500720" y="1557360"/>
            <a:ext cx="4321080" cy="2738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4859280" y="458136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Питер Клас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Завтрак с ветчиной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У художников следующего поколения веши уже не напоминают об отвлечённых истинах, а служат для создания самостоятельных художественных образов. В их картинах привычные предметы обретают особую, не замеченную прежде красоту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Питер Клас  тонко и умело подчёркивает своеобразие каждого блюда, бокала, горшка, найдя для любого из них идеальное соседство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 натюрмортах его земляка Виллема Класа Хеды  царит живописный беспорядок. Чаше всего он писал «прерванные завтраки». Смятая скатерть, перепутанные предметы сервировки, еда, к которой едва притронулись, — всё здесь напоминает о недавнем присутствии человека. Картины ожив лены многообразными световыми пятнами и разноцветными тенями на стекле, металле, полотне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" name="Picture 4" descr="Виллем Клас Хеда"/>
          <p:cNvPicPr/>
          <p:nvPr/>
        </p:nvPicPr>
        <p:blipFill>
          <a:blip r:embed="rId1"/>
          <a:stretch/>
        </p:blipFill>
        <p:spPr>
          <a:xfrm>
            <a:off x="4805280" y="1197000"/>
            <a:ext cx="4230720" cy="4319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932360" y="5877000"/>
            <a:ext cx="38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иллем Клас Хед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Завтрак с крабо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381024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о второй половине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XVII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. голландский натюрморт, подобно пейзажу, стал более зрелищным, сложным и многокрасочным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а картинах Абрахама ван Бейерна и Виллема Калфа изображены грандиозные пирамиды из дорогой посуды и экзотических фруктов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Picture 4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ВиллемКалф десерт о1659"/>
          <p:cNvPicPr/>
          <p:nvPr/>
        </p:nvPicPr>
        <p:blipFill>
          <a:blip r:embed="rId2"/>
          <a:stretch/>
        </p:blipFill>
        <p:spPr>
          <a:xfrm>
            <a:off x="4211640" y="1125360"/>
            <a:ext cx="3857760" cy="4680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4140360" y="609300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иллем Калф. Десерт. Ок.1659г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c2b"/>
                </a:solidFill>
                <a:latin typeface="Times New Roman"/>
              </a:rPr>
              <a:t>Фламандская школа живопис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380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</a:rPr>
              <a:t>Манера фламандского художника Яна Фейта более изысканна, чем у его учителя Снейдерса. Подчёркнуто скромные по композиции и размерам произведения Фейта интересны гармонией сдержанного света, тонких оттенков коричневых, зеленоватых и светло-серых тонов. Это несравненная чуткость живописца сближает его с голландскими мастерами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5" name="Picture 4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фл ян фейт нат с соб"/>
          <p:cNvPicPr/>
          <p:nvPr/>
        </p:nvPicPr>
        <p:blipFill>
          <a:blip r:embed="rId2"/>
          <a:stretch/>
        </p:blipFill>
        <p:spPr>
          <a:xfrm>
            <a:off x="4284720" y="1989000"/>
            <a:ext cx="4535280" cy="3527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427640" y="587700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Ян Фейт. Натюрморт с собако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75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2:29:47Z</dcterms:created>
  <dc:creator>Аня</dc:creator>
  <dc:description/>
  <dc:language>en-US</dc:language>
  <cp:lastModifiedBy>Name</cp:lastModifiedBy>
  <dcterms:modified xsi:type="dcterms:W3CDTF">2011-02-03T12:42:36Z</dcterms:modified>
  <cp:revision>28</cp:revision>
  <dc:subject>Натюрморт</dc:subject>
  <dc:title>Голландский натюрмор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50000000000010243000207f6000400038000</vt:lpwstr>
  </property>
</Properties>
</file>