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83C0-C9B5-4B16-B4A4-3D3EE2300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5412-BFE2-440B-9805-971867C83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2837-770B-48DC-A0C5-815E1DDE9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CC9A-8038-4EFC-A046-D61E4A902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1C68A-A4B4-4CF5-BD59-2F84AECA2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774DF-6264-46FF-ACFB-1448FC119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BE6CB-B918-4581-BC4A-E02694B1D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37E61-C4D6-4BF4-A228-0365B314E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8EBC8-21C0-4D01-9F2D-0BE94B147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7FB7A-C786-483F-BE75-D450B0C62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A7663-4ED7-4507-B25A-A5B3E57CD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B5E5-072A-4718-8E55-D2F9658BB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41B0B-CD72-4315-B8E4-815F7DF86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5F165-564B-43F8-A5BF-8476897A8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83800-4883-47F7-8ACE-B5EA02114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C875F-2EAD-4AB6-ADF3-D2EDCFDC8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BDDFA-42EA-440C-B85E-09601E8BD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188A5-91EF-4189-AB1A-BB3A2510D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5E7E7-9C4F-4CCE-ABC0-778B835E9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494F7-033A-4FD3-814F-E43DF9229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D77F2-80C3-4485-82DF-BDDC82098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A36A0-2976-41B1-BE82-ABB71EEC4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4DB4-6740-4274-82B0-30D6404BB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2E411-C45C-41FA-BD34-7B5C26AA8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0CBE7-5A9C-4093-8740-818AC3753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7A810-BC3F-4357-8A89-C479D4BD3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3D505-8469-479C-947F-3AFEF936A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EC8CC-6709-4AF9-8A58-A4D88DA0A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0645E-FB52-40C4-A073-8ED350C45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375D6-0A48-4E2B-8BB2-8289E6E20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8021F-BD55-47BC-86CE-55A6A7424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6541E-5870-474B-A938-F4F938F86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4B3B9-E74A-4425-9DCF-2D065C8E1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CC6C-4E6D-4B9C-9A1E-0AFD8F032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3DAE25-F287-4619-8551-70EE8B59C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23717-939A-4FAA-A3E3-186550C00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FA0C9-0B32-4C86-80AE-F4E2119F5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73878-CF6C-4CF3-92C0-9B70BD826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82671-521D-42C0-9141-2FB475296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84483-CDC3-4DE4-8BAC-C5F7E9DAC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117C5-A2A8-4798-BFD1-857A69BEC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FBE98-400D-4286-9E20-BD93303FA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C8521-B7EE-439D-9E66-E2876F555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D2DFFC-443E-4FE4-BC68-2BB2835A9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0C15-7DB9-4687-B675-2CA98BFE5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2AA0AF-39A6-4916-865D-1BAB30112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AFE98C-8A4F-4231-B682-F6896667C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DC585E-1A0F-44D2-B542-7031FC721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F2FDBD-1A3C-452E-881E-8AC2696F0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60BD39-2A53-45B6-B5F1-F031E6CFC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A6F7D-389A-4B91-B95E-F37F5B913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75F5F3-60B0-4A02-BEE2-23099EAFD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39F5F5-90DE-46D6-9E96-C8ADAD816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F9F179-1FEA-4C92-B933-D46B561E6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DE0ABD-7BA9-4B2A-886D-1804B63E9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88A0-6236-4857-978A-C14077610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6E5558-1A3D-4EBD-A009-351D824FD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106FBF-E6DA-43B1-A35E-E2A80068E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6380EA-4A30-4F96-ACDC-066E022FB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B1E602-F475-46E8-9CD2-BCB0A88DB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8833CB-3D77-4BC7-8C8F-6266751E5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E5C664-4422-4303-BF1D-D7F3D9167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3F07B7-C709-4007-806C-4C3CD22A6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2A31E4-FC13-493F-A6A1-3B7D31BE1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EEBFC9-35A4-422E-B626-814FE5571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49BE25-7623-44B8-807E-D7A930AD3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A7F0-71D1-498E-A279-C386C5227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455345-778A-444F-B95F-B9B68EA5F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87BDE3-8E50-487A-84C7-C73D7CBCC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25FDE0-9E7B-437D-9E97-7E3228245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235903-C2CB-43D5-AF98-1D68AE798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D27704-6EA1-4120-AECA-B20A3E51B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53D2EC-0192-41A5-8248-28C05477B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214777-779E-4C3F-99BE-818C9729B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3E36C0-70DC-46F8-85A2-35F78F25A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04C4B1-D296-4134-B1B4-BCFFF13A2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3EBFCF-9041-4A33-A95A-5479D08D4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071F-8122-48E7-BDC9-55C55E19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95BD00-A07F-4AFE-BC33-BCF49A3C6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A15BC4-F7BC-4C22-B5A3-85BA9E991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C55518-7D55-4A72-99AC-B70B01FB4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778DB7-BAC5-4EB4-BB31-549B9B27E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AF069E-9691-4917-848E-73EA59BE2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0320-340D-4E31-94EF-241615EF1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61.xml"/><Relationship Id="rId35" Type="http://schemas.openxmlformats.org/officeDocument/2006/relationships/slideLayout" Target="../slideLayouts/slideLayout62.xml"/><Relationship Id="rId36" Type="http://schemas.openxmlformats.org/officeDocument/2006/relationships/slideLayout" Target="../slideLayouts/slideLayout63.xml"/><Relationship Id="rId37" Type="http://schemas.openxmlformats.org/officeDocument/2006/relationships/slideLayout" Target="../slideLayouts/slideLayout64.xml"/><Relationship Id="rId38" Type="http://schemas.openxmlformats.org/officeDocument/2006/relationships/slideLayout" Target="../slideLayouts/slideLayout65.xml"/><Relationship Id="rId39" Type="http://schemas.openxmlformats.org/officeDocument/2006/relationships/slideLayout" Target="../slideLayouts/slideLayout66.xml"/><Relationship Id="rId40" Type="http://schemas.openxmlformats.org/officeDocument/2006/relationships/slideLayout" Target="../slideLayouts/slideLayout67.xml"/><Relationship Id="rId41" Type="http://schemas.openxmlformats.org/officeDocument/2006/relationships/slideLayout" Target="../slideLayouts/slideLayout68.xml"/><Relationship Id="rId42" Type="http://schemas.openxmlformats.org/officeDocument/2006/relationships/slideLayout" Target="../slideLayouts/slideLayout69.xml"/><Relationship Id="rId43" Type="http://schemas.openxmlformats.org/officeDocument/2006/relationships/slideLayout" Target="../slideLayouts/slideLayout70.xml"/><Relationship Id="rId44" Type="http://schemas.openxmlformats.org/officeDocument/2006/relationships/slideLayout" Target="../slideLayouts/slideLayout71.xml"/><Relationship Id="rId4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73.xml"/><Relationship Id="rId32" Type="http://schemas.openxmlformats.org/officeDocument/2006/relationships/slideLayout" Target="../slideLayouts/slideLayout74.xml"/><Relationship Id="rId33" Type="http://schemas.openxmlformats.org/officeDocument/2006/relationships/slideLayout" Target="../slideLayouts/slideLayout75.xml"/><Relationship Id="rId34" Type="http://schemas.openxmlformats.org/officeDocument/2006/relationships/slideLayout" Target="../slideLayouts/slideLayout76.xml"/><Relationship Id="rId35" Type="http://schemas.openxmlformats.org/officeDocument/2006/relationships/slideLayout" Target="../slideLayouts/slideLayout77.xml"/><Relationship Id="rId36" Type="http://schemas.openxmlformats.org/officeDocument/2006/relationships/slideLayout" Target="../slideLayouts/slideLayout78.xml"/><Relationship Id="rId37" Type="http://schemas.openxmlformats.org/officeDocument/2006/relationships/slideLayout" Target="../slideLayouts/slideLayout79.xml"/><Relationship Id="rId38" Type="http://schemas.openxmlformats.org/officeDocument/2006/relationships/slideLayout" Target="../slideLayouts/slideLayout80.xml"/><Relationship Id="rId39" Type="http://schemas.openxmlformats.org/officeDocument/2006/relationships/slideLayout" Target="../slideLayouts/slideLayout81.xml"/><Relationship Id="rId40" Type="http://schemas.openxmlformats.org/officeDocument/2006/relationships/slideLayout" Target="../slideLayouts/slideLayout82.xml"/><Relationship Id="rId41" Type="http://schemas.openxmlformats.org/officeDocument/2006/relationships/slideLayout" Target="../slideLayouts/slideLayout83.xml"/><Relationship Id="rId42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DD145-A770-4CE0-A221-5A2CC84A86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42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E49C5-E42D-4ED2-9D0B-6AE60AC8B4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87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ftr" idx="8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C659A-F0CA-4DB3-9F91-CC9EEEE9EE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E9352-AC07-4CA6-96FC-B21D5FBE2F3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40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50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7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67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70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71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73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1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5D079-984B-430D-A3A5-535FE28D219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24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28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3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234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238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3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282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288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289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91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9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8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0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1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3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4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05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306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7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8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9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0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1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2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4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5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6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7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8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9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0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1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2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3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4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325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16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17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18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8A4E0-0819-467D-9874-7282AFEA01A2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4"/>
    <p:sldLayoutId id="2147483715" r:id="rId35"/>
    <p:sldLayoutId id="2147483716" r:id="rId36"/>
    <p:sldLayoutId id="2147483717" r:id="rId37"/>
    <p:sldLayoutId id="2147483718" r:id="rId38"/>
    <p:sldLayoutId id="2147483719" r:id="rId39"/>
    <p:sldLayoutId id="2147483720" r:id="rId40"/>
    <p:sldLayoutId id="2147483721" r:id="rId41"/>
    <p:sldLayoutId id="2147483722" r:id="rId42"/>
    <p:sldLayoutId id="2147483723" r:id="rId43"/>
    <p:sldLayoutId id="2147483724" r:id="rId44"/>
    <p:sldLayoutId id="2147483725" r:id="rId4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378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1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382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383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384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385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6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87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393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6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7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8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9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0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01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402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3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4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5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6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7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8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9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0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1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2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3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4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5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6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7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8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9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0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21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dt" idx="19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ftr" idx="20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sldNum" idx="21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8D9D6-53C1-4222-ACEF-63CC2B5ABDF6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1"/>
    <p:sldLayoutId id="2147483728" r:id="rId32"/>
    <p:sldLayoutId id="2147483729" r:id="rId33"/>
    <p:sldLayoutId id="2147483730" r:id="rId34"/>
    <p:sldLayoutId id="2147483731" r:id="rId35"/>
    <p:sldLayoutId id="2147483732" r:id="rId36"/>
    <p:sldLayoutId id="2147483733" r:id="rId37"/>
    <p:sldLayoutId id="2147483734" r:id="rId38"/>
    <p:sldLayoutId id="2147483735" r:id="rId39"/>
    <p:sldLayoutId id="2147483736" r:id="rId40"/>
    <p:sldLayoutId id="2147483737" r:id="rId41"/>
    <p:sldLayoutId id="2147483738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964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нглия – родина парламентариз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>
            <a:off x="1547640" y="155736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Англия – родина парламентар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3203640" y="476280"/>
            <a:ext cx="2676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ff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ОУ "Майская гимназия"</a:t>
            </a:r>
            <a:endParaRPr b="0" lang="en-US" sz="1800" spc="1" strike="noStrike">
              <a:ln w="9360">
                <a:solidFill>
                  <a:srgbClr val="66ff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6443640" y="6381720"/>
            <a:ext cx="229572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ff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учитель Путятин С.Н.</a:t>
            </a:r>
            <a:endParaRPr b="0" lang="en-US" sz="1800" spc="1" strike="noStrike">
              <a:ln w="9360">
                <a:solidFill>
                  <a:srgbClr val="66ff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3" name=""/>
          <p:cNvSpPr/>
          <p:nvPr/>
        </p:nvSpPr>
        <p:spPr>
          <a:xfrm>
            <a:off x="2268360" y="260280"/>
            <a:ext cx="568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268360" y="260280"/>
            <a:ext cx="5543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ори (консерваторы) отстаивали нерушимость королевских прав и существующих поряд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24000" y="5373720"/>
            <a:ext cx="568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Виги (либералы) активно защищали права парламента и выступали за реформы в экономической и политической жизни стра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9" name=""/>
          <p:cNvSpPr/>
          <p:nvPr/>
        </p:nvSpPr>
        <p:spPr>
          <a:xfrm>
            <a:off x="3492360" y="189000"/>
            <a:ext cx="504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Потерявшая поддержку большинства партия теряла право на власть, и правительство подавало в отставку.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Новое правительство формировалось из членов партии, получившей на выборах большинство мест в парламен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2627280" y="3141720"/>
            <a:ext cx="5545080" cy="260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 1707 году парламент узаконил унию между Англией и Шотландией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Государство стало называться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Великобритани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696080" cy="43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акая династия правила в Англии накануне революции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акое событие считается началом революции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азовите противоборствующие стороны в гражданской войн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 результате какого события в Англии установилась парламентарная монархия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Проверь себя!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980640"/>
            <a:ext cx="769608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Что стало главным итогом революции в политической сфере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акая партийная система сложилась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аким способом в Англии формируется правительство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ак и почему изменилось название государства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d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898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898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898" fill="hold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898" fill="hold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898" fill="hold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263520" y="1052280"/>
            <a:ext cx="738648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2f1311"/>
                </a:solidFill>
                <a:uFillTx/>
                <a:latin typeface="Arial"/>
              </a:rPr>
              <a:t>Изучая данную тему, мы пришли к выводу о том, что Англия – родина парламентаризма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ccff"/>
                </a:solidFill>
                <a:latin typeface="Arial"/>
              </a:rPr>
              <a:t>Поскольку мы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выяснили причины революции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узнали о реформах Долгого парламента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поняли, что такое гражданская война и чем она закончилась в Англии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определили, что такое «реставрация» в политическом смысле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выяснили в чем смысл двухпартийной политической системы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узнали как формируется правительство Великобритании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1403280" y="189000"/>
            <a:ext cx="48243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ыводы: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ичины революции в Англ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417492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фликт королевской династии Стюартов с английским парламентом и пуританской церковь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держка королем цеховых огранич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знокрадство и взяточничество чиновников (и короля в том числе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дажа монопол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нешняя политика Яков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2"/>
          <a:stretch/>
        </p:blipFill>
        <p:spPr>
          <a:xfrm>
            <a:off x="4572000" y="1125360"/>
            <a:ext cx="4321080" cy="5372280"/>
          </a:xfrm>
          <a:prstGeom prst="rect">
            <a:avLst/>
          </a:prstGeom>
          <a:ln w="0">
            <a:noFill/>
          </a:ln>
        </p:spPr>
      </p:pic>
      <p:sp>
        <p:nvSpPr>
          <p:cNvPr id="481" name=""/>
          <p:cNvSpPr/>
          <p:nvPr/>
        </p:nvSpPr>
        <p:spPr>
          <a:xfrm>
            <a:off x="1187280" y="2205000"/>
            <a:ext cx="741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чало револю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932360" y="1125000"/>
            <a:ext cx="374328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40 го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созыв парламента – начало револю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ff"/>
                </a:solidFill>
                <a:latin typeface="Arial"/>
              </a:rPr>
              <a:t>Реформы Долгого парламен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мена чрезвычайных суд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вобода печа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влечение к суду королевских министр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ff"/>
                </a:solidFill>
                <a:uFillTx/>
                <a:latin typeface="Arial"/>
              </a:rPr>
              <a:t>Главно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акон о том, что палата общин не может быть распущена по воле короля без ее собственного соглас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42 го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начало войны между королем и парламен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2"/>
          <a:stretch/>
        </p:blipFill>
        <p:spPr>
          <a:xfrm>
            <a:off x="179280" y="1052640"/>
            <a:ext cx="4680000" cy="56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4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4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4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4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4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4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4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4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4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Гражданская война между королем и парламент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43164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«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Кавалеры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»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-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сторонники корол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рупная землевладельческая зна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дворные чиновни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нгликанская церков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3164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Круглоголовые»- сторонники       парламен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упечество, предпринимател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овое дворянств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ермер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емесленные мастера и подмастерь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95280" y="3716280"/>
            <a:ext cx="813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84360" y="3789360"/>
            <a:ext cx="799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79280" y="3500280"/>
            <a:ext cx="8785440" cy="21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14 июня 1645 года – битва при Нейзби – бегство короля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24 июня 1646 года – сдача Оксфорда – полная победа парламен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Дальнейшие событ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395280" y="5157720"/>
          <a:ext cx="8569440" cy="1224000"/>
        </p:xfrm>
        <a:graphic>
          <a:graphicData uri="http://schemas.openxmlformats.org/drawingml/2006/table">
            <a:tbl>
              <a:tblPr/>
              <a:tblGrid>
                <a:gridCol w="4284720"/>
                <a:gridCol w="428472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c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Реформы парламента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c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Деятельность левеллеров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buClr>
                          <a:srgbClr val="0000c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Казнь короля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c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Установление республики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c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Подавление народных движений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c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Протекторат Кромвеля.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осстановление монарх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8373960" cy="30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Arial"/>
              </a:rPr>
              <a:t>В 1660 году в Англии совершилась реставрация (восстановление) династии Стюартов. Король подписал документ, в котором признавал все привилегии нового дворянства и буржуазии, полученные ими в ходе револю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Осенью 1688 года произошел дворцовый переворот, названный «славной революцией», который положил конец борьбе между парламентом и корол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2"/>
          <a:stretch/>
        </p:blipFill>
        <p:spPr>
          <a:xfrm>
            <a:off x="179280" y="3500280"/>
            <a:ext cx="8713800" cy="3168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898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898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898" fill="hold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9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Footlight MT Light"/>
              </a:rPr>
              <a:t>Парламент вручил новому королю Вильгельму </a:t>
            </a:r>
            <a:r>
              <a:rPr b="0" lang="en-US" sz="3200" spc="-1" strike="noStrike">
                <a:solidFill>
                  <a:srgbClr val="008080"/>
                </a:solidFill>
                <a:latin typeface="Footlight MT Light"/>
              </a:rPr>
              <a:t>III</a:t>
            </a:r>
            <a:r>
              <a:rPr b="0" lang="ru-RU" sz="3200" spc="-1" strike="noStrike">
                <a:solidFill>
                  <a:srgbClr val="008080"/>
                </a:solidFill>
                <a:latin typeface="Footlight MT Light"/>
              </a:rPr>
              <a:t> (Оранскому) </a:t>
            </a:r>
            <a:r>
              <a:rPr b="0" i="1" lang="ru-RU" sz="3200" spc="-1" strike="noStrike">
                <a:solidFill>
                  <a:srgbClr val="008080"/>
                </a:solidFill>
                <a:latin typeface="Footlight MT Light"/>
              </a:rPr>
              <a:t>«Декларацию прав</a:t>
            </a:r>
            <a:r>
              <a:rPr b="0" lang="ru-RU" sz="3200" spc="-1" strike="noStrike">
                <a:solidFill>
                  <a:srgbClr val="008080"/>
                </a:solidFill>
                <a:latin typeface="Footlight MT Light"/>
              </a:rPr>
              <a:t>», в которой закреплялись права и обязанности парламента (</a:t>
            </a:r>
            <a:r>
              <a:rPr b="1" lang="ru-RU" sz="3200" spc="-1" strike="noStrike">
                <a:solidFill>
                  <a:srgbClr val="009900"/>
                </a:solidFill>
                <a:latin typeface="Footlight MT Light"/>
              </a:rPr>
              <a:t>законодательной власти</a:t>
            </a:r>
            <a:r>
              <a:rPr b="0" lang="ru-RU" sz="3200" spc="-1" strike="noStrike">
                <a:solidFill>
                  <a:srgbClr val="008080"/>
                </a:solidFill>
                <a:latin typeface="Footlight MT Light"/>
              </a:rPr>
              <a:t>) и короля и его министров (</a:t>
            </a:r>
            <a:r>
              <a:rPr b="1" lang="ru-RU" sz="3200" spc="-1" strike="noStrike">
                <a:solidFill>
                  <a:srgbClr val="009900"/>
                </a:solidFill>
                <a:latin typeface="Footlight MT Light"/>
              </a:rPr>
              <a:t>исполнительной власти</a:t>
            </a:r>
            <a:r>
              <a:rPr b="0" lang="ru-RU" sz="3200" spc="-1" strike="noStrike">
                <a:solidFill>
                  <a:srgbClr val="008080"/>
                </a:solidFill>
                <a:latin typeface="Footlight MT Light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335772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ff"/>
                </a:solidFill>
                <a:latin typeface="Arial"/>
              </a:rPr>
              <a:t>В Англии установилась </a:t>
            </a: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парламентарная монархия</a:t>
            </a:r>
            <a:r>
              <a:rPr b="0" lang="en-US" sz="3200" spc="-1" strike="noStrike">
                <a:solidFill>
                  <a:srgbClr val="cc00ff"/>
                </a:solidFill>
                <a:latin typeface="Arial"/>
              </a:rPr>
              <a:t> – такой порядок управления, при котором правительство несет ответственность перед парламентом, а не  корол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становлени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палаты общин об объявлении себя верховной властью английского государ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января 1649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Извлечен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становлено, что общины Англии, заседающие в парламент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объявляют, что народ, ходящий под Богом, является источником всякой законной вла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и также объявляют, что общины Англии, заседающие в парламенте, будучи избраны и представляя народ, являются высшей властью в государств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и также объявляют, что то, что постановлено или объявлено как закон общинами, заседающими в парламенте, имеет силу закона и обязательно для народа, хотя бы король или пэры не дали на это своего соглас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768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3" dur="768" fill="hold"/>
                                        <p:tgtEl>
                                          <p:spTgt spid="4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5" dur="768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7" dur="768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324000" y="333360"/>
            <a:ext cx="864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11280" y="260280"/>
            <a:ext cx="82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95280" y="18900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Итоги и историческое значение английской буржуазной револю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68360" y="1844640"/>
            <a:ext cx="8136000" cy="44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нглийская буржуазная революция уничтожила абсолютиз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Англии стал быстро развиваться капиталистический уклад в сельском хозяйстве, начался переворот в промышленном производстве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стране стало складываться правовое государство, гражданское обще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нглийская революция, ее идеи республиканского устройства, народоправия, равенства всех перед законом оказали влияние на историю других европейских стр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9" name=""/>
          <p:cNvSpPr/>
          <p:nvPr/>
        </p:nvSpPr>
        <p:spPr>
          <a:xfrm>
            <a:off x="539640" y="476280"/>
            <a:ext cx="82803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XVIII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веке сложился такой порядок, когда король назначал министров из партии, имеющей в парламенте большинство. Таких партий было две: тори и виг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Чем они различалис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3T15:00:01Z</dcterms:created>
  <dc:creator>Диденко Андрей Александрович</dc:creator>
  <dc:description/>
  <dc:language>en-US</dc:language>
  <cp:lastModifiedBy>MAMA</cp:lastModifiedBy>
  <dcterms:modified xsi:type="dcterms:W3CDTF">2009-11-23T13:10:17Z</dcterms:modified>
  <cp:revision>53</cp:revision>
  <dc:subject/>
  <dc:title>Слайд 1</dc:title>
</cp:coreProperties>
</file>