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31E7-1015-4D00-9AC6-87BB83102C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7FE4-F40F-4D8E-B57B-164CA0A2C6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2305-9386-4780-A772-C273CE5BA9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7BFD-6C38-4F8B-93E6-BA9E59B411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B1D0-560C-4A5C-8ADE-6B8C42D4BC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FFBA-CFBC-4A52-8218-F1DE7CED63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5C19-3CFF-4BB9-9D47-8A456903BA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5F4C-37B8-410B-A898-DAFDCDDE3C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A88B-39D2-487C-979B-7C564AAE70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BE78-FE92-4B0E-B18D-F963E5DBA0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06CF-918B-4139-AFE1-88B017BAE1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3882-BD91-4903-A061-0453FAE423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A624-8C85-46AF-8EA2-553387CC9A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171-A07A-448F-8CD9-92DF31DE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B5E-D656-4BEE-ABAB-A4614933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9FF-4E2C-44F0-B2B5-2BC73AC4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1C0-6DAC-4749-A0DB-B32F836F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FF56-4B39-49A7-9001-EB4504F0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41A3-199E-4F16-8C04-644E3330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48AD-CE2A-42C7-BBC6-1E43B5D6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2D19-098E-472C-A551-CB3DE967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F658-3B21-4934-990E-664469DE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99DF-F93F-4F73-A03C-9F6733C2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E840-542A-4680-8AC2-88B3A79B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FDD-9AD9-48E2-A6C0-E1D130BC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85A5-96AE-470B-9916-267C26FF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2416-A905-4209-8280-101FB61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2299-159C-4E07-8D76-29926263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5207-D0B0-4918-A64B-ECCB7382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F7CC-46FD-4A66-885E-17CA8E0B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6FA5-C5DF-4B0D-8B11-50511E6D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33F68-657A-4C3E-93FD-BD99FB11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6C28-6A6B-4F95-9402-3A688748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82E9-059D-4FE2-AA03-C73FCC20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474A-5921-4A94-8534-759A3B54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E05-9E3C-4C49-8AA3-14E70311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7FC4-18DC-499F-B381-840FC022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8D3A9-8C8E-47D0-837A-8FCD9389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9A93-4CF9-4E75-9D33-5018ACF5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D5810-E239-48C9-BD14-08C1D6CB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706D7-37FA-4C66-B879-47D8A054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A507-6F9C-4232-9440-820129EA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75AE-839F-410E-BFEA-287E2F12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D3AF4-F885-4BDF-8E67-AB0607BA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4291-EF14-47F1-9A8A-B5420BB3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0ED0E-57AB-4B17-A36A-FCE68B8C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FBF-9FC7-4F81-946B-EBBF8406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5336-753F-4631-B788-BD462DAD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7642F-794E-43D3-B8DD-DAA1FC20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4FDA2-2AC6-4DF7-859B-DA17E6F2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B4F2-1690-4A4F-919D-8C7CEADC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72D0E-9955-4E98-94EC-70438392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BECC-DB2B-4C10-AA4C-1A804D0F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FD74A-9D22-4CA3-B7E1-263275FC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DFB9-3F3E-4258-AF0B-43A1CC98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9802-7944-4790-B347-58DBB684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44731-0C97-41A7-B7F7-1C27B6EA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35B-4A14-4B3D-A6C7-B06DE075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973CE-077B-4445-AE7F-A3B6EED7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836A3-7992-4356-BF34-C138478F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A511-7FF8-4C97-914C-4F229458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EB36C-37A3-48B1-A0FB-A5CC2BA4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31687-AF2D-43D9-954B-4DA92186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FB90-E3AF-4216-8E0F-EF10AA80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18B41-6F63-4199-8335-D65BFDAC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D303B-74D6-412F-8839-4281260A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C52F2-77F0-4299-8E7F-40D88C74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88AF6-2A65-4A69-9E21-7788F072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FEF-B490-4DD7-8432-189382E4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A3AAC-2716-4E99-85D9-C3E7A1A7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314C6-24C0-421A-A39C-8A137F9C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2C8F-CE7C-4DB7-9B7B-25A6AA14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1062-98F7-48A4-83BB-109A3497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55195-FC0E-4B85-A378-FEF40FC1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B1B9-F4C1-4213-B0C8-EC98B069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B9488-657A-4A13-B039-3F86F87D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A2C5-0CF1-4CC1-B870-2B3FB056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9D186-4B9F-428B-9BFB-6FE2B83A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8B562-1F8D-4693-924E-3CC1E38B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B72-C452-41EA-BD6E-44DA807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E7EBB-CB9D-4CA7-898B-A23E6948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A7F55-C6A7-4812-AC84-46C100E1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AE941-A9B6-44DE-A328-96B9CC28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E470B-0F68-46B2-928C-E61792C0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A4F26-9969-4066-BA19-32A6501B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6CD3B-3B7A-492B-95C1-322430F1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31229-48CD-483C-8BFE-EE34713D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AC3C3-1AAE-45E6-9484-729C473A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A3F31-4349-4F51-8504-F2A8A192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935AC-AE8B-4F03-9D75-C27EBAF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0C9-4644-4A8E-BD64-AFAC4516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2BCA1-8F16-4E9E-A465-CF005FDE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1B3F9-0FA2-4E27-A01D-8B40E062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3B5CE-EF9B-47BA-B5B3-85255FD4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1DC5D-D514-4CAD-9859-12E51AA3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867CA-E8E7-4AD5-8B9C-7EE9A6E3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45C-118C-42A1-B240-E6536B5D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77CA-BAB1-464A-8489-DADE9091680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9EB8-7869-491A-A7EB-91802AA71D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5E51-F92A-4765-8074-16BAB2C7DDA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D3A1-68A5-43B9-9B9C-B729C87855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B80A-B1AA-49E2-811B-F1106BEA717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A7F8-0C23-43BB-851F-AF466344C4F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FDB4-1917-44BD-B3FF-1CC7ED19E5F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866B-6DFD-4A36-A643-E8E0E96A20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A635-12A4-4DA8-8CBA-6A8832060C1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EDC0-A7E1-4059-89B3-140DE252834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6EA3-368F-477D-8B43-7C14F9F9852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9AA4-BC5E-464E-8A42-112DE577AE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BA52-EC66-4FDF-A340-8A575CEBD16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AADD-9ED0-440C-A73C-E035EEDBBD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School101\Desktop\вирусы\i.jpeg"/>
          <p:cNvPicPr/>
          <p:nvPr/>
        </p:nvPicPr>
        <p:blipFill>
          <a:blip r:embed="rId2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222.jpeg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995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590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ГБОУ СПО «АМТ» преподаватель Струкова Елена Алексеевна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171360" y="2205000"/>
            <a:ext cx="8972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ы безопасности информации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 виды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Picture 10" descr="2"/>
          <p:cNvPicPr/>
          <p:nvPr/>
        </p:nvPicPr>
        <p:blipFill>
          <a:blip r:embed="rId9"/>
          <a:stretch/>
        </p:blipFill>
        <p:spPr>
          <a:xfrm>
            <a:off x="7291440" y="0"/>
            <a:ext cx="185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1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69228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03280" y="2420640"/>
            <a:ext cx="7499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7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549360"/>
            <a:ext cx="60004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267920"/>
            <a:ext cx="7667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497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404640"/>
            <a:ext cx="81010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47628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179280" y="27082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1.jpeg"/>
          <p:cNvPicPr/>
          <p:nvPr/>
        </p:nvPicPr>
        <p:blipFill>
          <a:blip r:embed="rId4"/>
          <a:stretch/>
        </p:blipFill>
        <p:spPr>
          <a:xfrm>
            <a:off x="179280" y="4941720"/>
            <a:ext cx="776520" cy="827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F:\2.jpeg"/>
          <p:cNvPicPr/>
          <p:nvPr/>
        </p:nvPicPr>
        <p:blipFill>
          <a:blip r:embed="rId5"/>
          <a:stretch/>
        </p:blipFill>
        <p:spPr>
          <a:xfrm>
            <a:off x="179280" y="3716280"/>
            <a:ext cx="908280" cy="9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F:\3.jpeg"/>
          <p:cNvPicPr/>
          <p:nvPr/>
        </p:nvPicPr>
        <p:blipFill>
          <a:blip r:embed="rId6"/>
          <a:stretch/>
        </p:blipFill>
        <p:spPr>
          <a:xfrm>
            <a:off x="0" y="155736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28800" y="14292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щеобразов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нать основы электронных коммуника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ы угроз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спит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коммуникативных свойств лич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толерант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сетев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и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познавательного интере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навыков общения в се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оворить об угрозах информационно-технического характера, можно выделить такие элементы как кража информации, вредоносное ПО, хакерские атаки, СПАМ, халатность сотрудников, аппаратные и программные сбои, финансовое мошенничество, кража обору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гласно статистике применительно к этим угрозам, можно привести следующие данные (по результатам исследований, проведённых в России компанией InfoWath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информации – 64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доносное ПО – 6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керские атаки – 48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ам – 4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латность сотрудников – 4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аратные и программные сбои – 21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оборудования – 6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нансовое мошенничество – 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видно, из приведенных данных, наиболее распространены кража информации и вредоносное П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99640" y="105228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-457200"/>
            <a:ext cx="4973760" cy="2054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46160"/>
            <a:ext cx="65912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57120" y="691920"/>
            <a:ext cx="87868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файлообменные (P2P) и IRC-сети, LAN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5"/>
          <p:cNvSpPr/>
          <p:nvPr/>
        </p:nvSpPr>
        <p:spPr>
          <a:xfrm>
            <a:off x="684360" y="40194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IRC-сообщениях, файл в каталоге обмена P2P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539640" y="3645000"/>
            <a:ext cx="1397160" cy="113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/>
  <dc:description/>
  <dc:language>en-US</dc:language>
  <cp:lastModifiedBy>КарМаН</cp:lastModifiedBy>
  <dcterms:modified xsi:type="dcterms:W3CDTF">2012-07-06T13:10:13Z</dcterms:modified>
  <cp:revision>28</cp:revision>
  <dc:subject/>
  <dc:title>Слайд 1</dc:title>
</cp:coreProperties>
</file>