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0D1-ED8C-43D0-825A-16C15B26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B6A-CA3A-4A9D-AC2E-80D1B63A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BCB2-C08C-49C5-91CD-8004D89C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A7F-B605-488D-8774-DE0E77FC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2F0-9CCA-420E-99BA-E299BC17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B4B-6B35-4C8A-B0E3-947F27B0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2C9-B6DD-4EC3-B30E-8D070879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BC6-CEF6-4CC5-B67D-B02A669D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177-C286-49D4-90F6-E9F97FF6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FEA-5EF0-41BD-BEEE-A4F51B4C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75B-8618-46E2-BC69-2DBE6C73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A4C4-A17E-4907-98B4-5A945DFB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4983-8FBD-4D26-9549-26C9CAB5F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99"/>
                </a:solidFill>
                <a:latin typeface="Georgia"/>
              </a:rPr>
              <a:t>Вложенные цикл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621320" y="5300640"/>
            <a:ext cx="4321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f3207"/>
                </a:solidFill>
                <a:latin typeface="Comic Sans MS"/>
              </a:rPr>
              <a:t>Бородина Т.А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БОУ СОШ №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. Сызрани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remove" presetClass="emph" presetID="5" presetSubtype="3" repeatCount="1000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var   i, j : byte;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j := 1 to 10 do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writeln (i ,’*‘, j ,‘=‘, i * j);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readln;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r   i, j : integer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j := 1 to 10 do write (i * j :5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;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readln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Arial"/>
              </a:rPr>
              <a:t>Если телом цикла является циклическая структура, то такие циклы называются </a:t>
            </a:r>
            <a:r>
              <a:rPr b="1" lang="ru-RU" sz="8000" spc="-1" strike="noStrike">
                <a:solidFill>
                  <a:srgbClr val="660033"/>
                </a:solidFill>
                <a:latin typeface="Arial"/>
              </a:rPr>
              <a:t>вложенным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Цикл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содержащий в себе другой цикл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еш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а цикл, содержащийся в теле другого цикла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утрен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ешний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утренний циклы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могут бы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ред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while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ост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repeat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араметро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for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се операторы внутреннего цикла должны полностью располагаться в теле внешнего цик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3"/>
          <p:cNvGrpSpPr/>
          <p:nvPr/>
        </p:nvGrpSpPr>
        <p:grpSpPr>
          <a:xfrm>
            <a:off x="610920" y="260280"/>
            <a:ext cx="8209080" cy="6453360"/>
            <a:chOff x="610920" y="260280"/>
            <a:chExt cx="8209080" cy="6453360"/>
          </a:xfrm>
        </p:grpSpPr>
        <p:sp>
          <p:nvSpPr>
            <p:cNvPr id="48" name="Line 7"/>
            <p:cNvSpPr/>
            <p:nvPr/>
          </p:nvSpPr>
          <p:spPr>
            <a:xfrm>
              <a:off x="4643280" y="5013360"/>
              <a:ext cx="0" cy="360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 flipH="1">
              <a:off x="1042560" y="5373720"/>
              <a:ext cx="3600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9"/>
            <p:cNvSpPr/>
            <p:nvPr/>
          </p:nvSpPr>
          <p:spPr>
            <a:xfrm>
              <a:off x="1042920" y="2852640"/>
              <a:ext cx="0" cy="2521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0"/>
            <p:cNvSpPr/>
            <p:nvPr/>
          </p:nvSpPr>
          <p:spPr>
            <a:xfrm>
              <a:off x="1042920" y="2852640"/>
              <a:ext cx="646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>
              <a:off x="7740720" y="2852640"/>
              <a:ext cx="6476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>
              <a:off x="8388360" y="2852640"/>
              <a:ext cx="0" cy="2952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4572000" y="6237360"/>
              <a:ext cx="0" cy="476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 flipH="1">
              <a:off x="610920" y="5805360"/>
              <a:ext cx="77770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5"/>
            <p:cNvGrpSpPr/>
            <p:nvPr/>
          </p:nvGrpSpPr>
          <p:grpSpPr>
            <a:xfrm>
              <a:off x="1547640" y="620640"/>
              <a:ext cx="6111720" cy="1242720"/>
              <a:chOff x="1547640" y="620640"/>
              <a:chExt cx="6111720" cy="1242720"/>
            </a:xfrm>
          </p:grpSpPr>
          <p:sp>
            <p:nvSpPr>
              <p:cNvPr id="57" name="AutoShape 16"/>
              <p:cNvSpPr/>
              <p:nvPr/>
            </p:nvSpPr>
            <p:spPr>
              <a:xfrm>
                <a:off x="1547640" y="620640"/>
                <a:ext cx="6111720" cy="1242720"/>
              </a:xfrm>
              <a:prstGeom prst="hexagon">
                <a:avLst>
                  <a:gd name="adj" fmla="val 122950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7"/>
              <p:cNvSpPr/>
              <p:nvPr/>
            </p:nvSpPr>
            <p:spPr>
              <a:xfrm>
                <a:off x="2879280" y="85320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i = N1, N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8"/>
            <p:cNvGrpSpPr/>
            <p:nvPr/>
          </p:nvGrpSpPr>
          <p:grpSpPr>
            <a:xfrm>
              <a:off x="1619280" y="3770280"/>
              <a:ext cx="6111360" cy="1242720"/>
              <a:chOff x="1619280" y="3770280"/>
              <a:chExt cx="6111360" cy="1242720"/>
            </a:xfrm>
          </p:grpSpPr>
          <p:sp>
            <p:nvSpPr>
              <p:cNvPr id="60" name="Rectangle 19"/>
              <p:cNvSpPr/>
              <p:nvPr/>
            </p:nvSpPr>
            <p:spPr>
              <a:xfrm>
                <a:off x="1619280" y="3770280"/>
                <a:ext cx="6111360" cy="124272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20"/>
              <p:cNvSpPr/>
              <p:nvPr/>
            </p:nvSpPr>
            <p:spPr>
              <a:xfrm>
                <a:off x="1698120" y="3848760"/>
                <a:ext cx="5954760" cy="100836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660033"/>
                    </a:solidFill>
                    <a:latin typeface="Arial"/>
                  </a:rPr>
                  <a:t>ТЕЛО ЦИКЛА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Line 21"/>
            <p:cNvSpPr/>
            <p:nvPr/>
          </p:nvSpPr>
          <p:spPr>
            <a:xfrm>
              <a:off x="4716360" y="184464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>
              <a:off x="4643280" y="26028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23"/>
            <p:cNvGrpSpPr/>
            <p:nvPr/>
          </p:nvGrpSpPr>
          <p:grpSpPr>
            <a:xfrm>
              <a:off x="1692360" y="2205000"/>
              <a:ext cx="6111360" cy="1242720"/>
              <a:chOff x="1692360" y="2205000"/>
              <a:chExt cx="6111360" cy="1242720"/>
            </a:xfrm>
          </p:grpSpPr>
          <p:sp>
            <p:nvSpPr>
              <p:cNvPr id="65" name="AutoShape 24"/>
              <p:cNvSpPr/>
              <p:nvPr/>
            </p:nvSpPr>
            <p:spPr>
              <a:xfrm>
                <a:off x="1692360" y="2205000"/>
                <a:ext cx="6111360" cy="1242720"/>
              </a:xfrm>
              <a:prstGeom prst="hexagon">
                <a:avLst>
                  <a:gd name="adj" fmla="val 122943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5"/>
              <p:cNvSpPr/>
              <p:nvPr/>
            </p:nvSpPr>
            <p:spPr>
              <a:xfrm>
                <a:off x="3024000" y="243756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j = M1, M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Line 26"/>
            <p:cNvSpPr/>
            <p:nvPr/>
          </p:nvSpPr>
          <p:spPr>
            <a:xfrm>
              <a:off x="4643280" y="342900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7"/>
            <p:cNvSpPr/>
            <p:nvPr/>
          </p:nvSpPr>
          <p:spPr>
            <a:xfrm>
              <a:off x="611280" y="1268280"/>
              <a:ext cx="0" cy="4537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611280" y="1268280"/>
              <a:ext cx="93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0"/>
            <p:cNvSpPr/>
            <p:nvPr/>
          </p:nvSpPr>
          <p:spPr>
            <a:xfrm>
              <a:off x="7667640" y="1268280"/>
              <a:ext cx="1152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8820000" y="1268280"/>
              <a:ext cx="0" cy="4969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2"/>
            <p:cNvSpPr/>
            <p:nvPr/>
          </p:nvSpPr>
          <p:spPr>
            <a:xfrm flipH="1">
              <a:off x="4572000" y="6237360"/>
              <a:ext cx="42480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Безимени-1"/>
          <p:cNvPicPr/>
          <p:nvPr/>
        </p:nvPicPr>
        <p:blipFill>
          <a:blip r:embed="rId2"/>
          <a:stretch/>
        </p:blipFill>
        <p:spPr>
          <a:xfrm>
            <a:off x="3564000" y="2306520"/>
            <a:ext cx="5113440" cy="43624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79280" y="333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 flipH="1" flipV="1">
            <a:off x="826200" y="5228640"/>
            <a:ext cx="2232360" cy="865080"/>
          </a:xfrm>
          <a:prstGeom prst="wedgeRoundRectCallout">
            <a:avLst>
              <a:gd name="adj1" fmla="val -106902"/>
              <a:gd name="adj2" fmla="val 76601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81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 flipV="1">
            <a:off x="6084720" y="1195920"/>
            <a:ext cx="2232360" cy="865080"/>
          </a:xfrm>
          <a:prstGeom prst="wedgeRoundRectCallout">
            <a:avLst>
              <a:gd name="adj1" fmla="val -70555"/>
              <a:gd name="adj2" fmla="val -186148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189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 flipV="1">
            <a:off x="6588000" y="2780640"/>
            <a:ext cx="2232000" cy="865080"/>
          </a:xfrm>
          <a:prstGeom prst="wedgeRoundRectCallout">
            <a:avLst>
              <a:gd name="adj1" fmla="val -93527"/>
              <a:gd name="adj2" fmla="val -118810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9966">
                <a:alpha val="50000"/>
              </a:srgbClr>
            </a:outerShdw>
          </a:effectLst>
        </p:spPr>
        <p:txBody>
          <a:bodyPr anchor="t">
            <a:normAutofit fontScale="80000"/>
          </a:bodyPr>
          <a:p>
            <a:pPr marL="2743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3300"/>
                </a:solidFill>
                <a:latin typeface="Arial"/>
              </a:rPr>
              <a:t>Приме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решения зада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33"/>
                </a:solidFill>
                <a:latin typeface="Arial"/>
              </a:rPr>
              <a:t>Вывод на экран таблицы умнож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28:01Z</dcterms:created>
  <dc:creator>*</dc:creator>
  <dc:description/>
  <dc:language>en-US</dc:language>
  <cp:lastModifiedBy>User</cp:lastModifiedBy>
  <dcterms:modified xsi:type="dcterms:W3CDTF">2012-08-05T20:20:24Z</dcterms:modified>
  <cp:revision>23</cp:revision>
  <dc:subject/>
  <dc:title>Вложенные циклы</dc:title>
</cp:coreProperties>
</file>