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B5A3-AB52-4055-AFCE-1F23CFAC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DC3-B308-4FB3-B897-FB065667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D7FF4-70F3-48F4-9AC4-97DA5515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30DC9-9E74-4D9F-8BCC-CB2856BF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99A10-25AC-48EB-A31F-4679B7A5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CB412-89A0-4A37-AA0A-E69A569C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71191-270F-43E1-A79D-F4F5A822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93DE2-15AF-404C-B711-37FED9F9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4078B-32A3-4DE3-842B-94FFA75C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2E7220-5C62-4926-B72C-536ABA12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AFF87-7089-404F-966A-5F967931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315E3-827D-401A-A834-E1CC7844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C618-C803-4D5C-B881-B65E663D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B16FC5-ACD8-4169-B2CC-8EDBB6E4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9CE03-7C2D-40BD-AFF8-C4C03D43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8B04AB-784C-4A90-8EDC-F7964FE0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CC7BB-0DBD-404D-857E-6A9EA0D8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651BC-5CF4-47AA-AA17-BE6750F0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B8F87-95CF-49AD-B1EC-75F055F7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DD27B7-E010-4F9B-B893-F599CADA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4FB4B-3B46-48AF-B3E5-3C5DF039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CFD2FE-37DB-42CF-9CA1-DEAB524B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5C59BD-B9EB-4A3B-BA48-D1B74E4F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E35-801F-423E-88B6-474A52F5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8F321-A591-404F-ACD1-3528D144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D3518-E4AD-4D67-B612-A7D027DF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71FCC-0331-44E1-9FCB-2DCC2206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41145-AE1E-4F74-8AD0-97E69EF0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4D624-6BAC-47E3-835B-750FB87F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9226A-6C36-43D3-AD5C-23084B31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4075C-5F2B-40D9-AB27-BD58A026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8B7F5-A444-48DE-ABE9-2E8A297D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B19A5-FBFF-4C2E-A00B-C126D060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A2B60-95C1-4D72-83FA-5F6D5B7C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9D18-CB07-4847-9D85-658C2672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01D33-86F1-44F6-A56B-21A402B0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B71BC-6468-4B32-94B9-2EEEE975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C4EA0-4EBB-4727-B2DB-0D86DA66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454392-CD77-4582-A902-64AA423E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8443FC-F385-4630-A8F4-AF20BE82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E2B40-85F3-4E1B-8A4F-4E97009A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2BD164-C4A1-47EE-8B49-4D38AADB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1AFB04-DE1A-4A4A-9CB3-F3845F0C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A77989-EAEC-494D-A856-BF446B2B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7CF1D-C24A-4B8D-89F3-C4920B17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181B-4D26-46AD-BC32-7B2131CF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98DC24-240E-4337-9259-6EE09197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C64E7-6D7D-4D5D-88F9-3E4A9DC8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3198AC-A591-47CF-8D1F-82772BE3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6A033-BED3-4F82-AF15-30444060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EFFDB7-084A-4DE2-909F-3931F8AE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7638-D3EF-4E9C-8A32-E79C2C8B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5635-6F5D-4E4B-A7A6-2FC6EEC0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FFA1-6780-4ABF-A063-26B09487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F32C-8B12-476C-A449-609F8579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763A-AC00-48FC-9948-3D924BBA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944-AFE1-42D4-927B-B93EFE0E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1027-085D-4C4F-82AA-8B08A923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E4B4-048E-499E-8EBB-41027C13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E663-F363-4185-98EE-58EE7E12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0444-DFC1-42F6-B9FA-0FF7F7B3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A4DF-5F7A-44E1-9D6F-71383725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56B66-BDBC-4769-9ED9-8A6BDFC9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DB6D7-F566-46DA-BDB4-6456CD8B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72D88-82CA-4E36-98CE-F2F4465A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68828-88B8-4BB8-8D3C-D0FF5A5F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68F87-171B-443F-9F18-62E0B74D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656-6C14-4EB4-83EA-AF79CD2D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E97BF-25E6-4731-9B05-355DB41A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64607-56A8-4CAF-A6C5-91A7F4E5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37238-C7E7-4EC3-8635-70410C78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89A4F-B30F-455E-9335-19013E37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A5C74-C963-42E4-BC0D-8F7476C4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3AD82-DCFF-4D76-A7C9-1A741DCA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CB8B1-7615-4E78-AC5E-F07C0A29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24352-0BE1-4C5C-AE1D-D902E8BD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47935-F021-44E1-80E8-7F7B8526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2F92B-E17F-42C7-9D9D-0DC322C1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801-E140-4988-ACA7-6D7165E9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748A1-C986-4D55-98C5-28C4C462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D9701-5149-4D25-A0EE-74D2BF36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6C461-47DB-49CB-87D4-148F1244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21563-C1B5-4C2B-91DD-F0242C07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DFA9A-6D1B-43F7-81C3-6B994CB2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233F9-2FAD-4590-B27F-FC1A0831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96A97-0685-4669-867C-5B1E36C6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7688D-7FA6-4A48-B1C4-10D2BBD1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987DD-86D5-46C3-969D-C2F39D7C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68840-AC83-4B11-9E2A-A205211A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7BD-2DC7-4A00-ADA9-700E3C97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CE152-E1DF-4215-8AB8-F304E3AA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25374-C01D-4D0A-9EB8-D5BB06DB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0F4DF-FB44-4A0C-8697-4D578780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FB6DE-886D-4F01-B566-367BEBE8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17EF8-1CBC-4C0A-91FB-A60F1888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3E6FB-4622-434E-831D-BF6D46C9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09A72-C82E-4D51-85EB-8F47B641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B76C8-7B3E-409A-8BF0-6A42256A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5FC88-300B-4280-8904-54876F0C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88E09-A7CD-4ACC-9BC5-7E67323D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A14-1863-485F-9834-85FEF0F9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F6778-7AC7-446D-AAF9-985BE5FA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4B65C-570E-42AF-8BD1-F7A366AD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2EB51-1F83-4393-B8EB-98E47E01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4E573-E044-46FA-94A6-7D51B4D3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8246A-2AFA-40F8-9104-54853D0B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F772F-ACF9-4180-9B01-63246298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5538B-0115-44B9-A51D-05193348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9B8EE-9AF6-40C2-91A0-4A9F7EB3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B1574-23E2-4538-9565-EFEC64A9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96C5B-6A76-4204-9B9C-52FC0649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3788-8E59-400A-8F9A-BA8AA6B4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57D27-7D41-41DC-B4C0-1F07549F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89BAF-B4FA-4787-94F4-DBF0A544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15E1D-1960-41AF-89D6-FC32C273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B4D96-C93E-4722-9CB7-1BCBBB84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FDA1E-4906-4A71-BAD4-BA2694AC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12C18-2EFD-41AB-A043-26F09A4E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0682C-F5F2-4D51-BD5F-241BB239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AFB8F-4AC4-44A0-91F8-1C9F670B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F2926-80DE-4566-9B1A-9B88C394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AF303-2B41-4B98-9984-C63A9867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0BA9-9BD0-497D-BB03-D855EA9F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BA9F3-F47A-48BC-880A-4CA4C9D6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907DF-D409-4689-B389-D5073CAA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9863C-DCA4-4444-919C-A3996A37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BC375-0031-4382-AABA-B01D7190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B69FE-276F-4954-8575-48BBC15B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96FC9-41D2-4FBB-9284-3EA68BA6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1E2B0-8592-44D7-9B40-7A326895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E66DB-F06A-4053-B78D-BA502519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79CB6-FE02-4A82-A33F-37EF697A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8CEEB-173A-4C44-90FA-63AC27D1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BA0-CCC3-44BD-AF51-9C8FE551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092D9-124B-4095-A0A4-26E55E90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D1B93-8E23-4724-A103-36447120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48462-2F9A-4909-9E44-CD8894C8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C8626-4E99-452F-AFFF-965C391F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2BA66-DF41-4B9E-857A-3A24C459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6B957-FA5B-4C10-8D9B-2D28529E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BB1AB-54DA-4143-AD73-3C030384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E7C85E-000C-4D9E-A3E6-ACC32AD5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EC8B6-7872-4D71-A247-186A09C1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E31A2-04D2-43E8-99A2-DBDD874F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D8EF-2BD8-4455-B2C4-67F76FECB25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1C32-3516-4D69-9FF5-2B59E2F02BC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D6E0-06E7-4A00-884F-23757B1A07A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F4A2-98E1-4818-B65F-83B5C8A550A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F730-9AB3-4FE1-9D15-7825179761B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50D8-2A45-4A51-BDC7-02C39875C6C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5571-472D-489F-9794-1E1F434F550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DC59-61DE-4D84-816E-81BE483775F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E568-0FA0-462D-B706-BC6522274C8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2A6B-BCC1-41B6-880D-62A63550E52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DB9D-31AF-4A44-89D5-3EECD29DE897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B15F-1897-4263-9239-34BBBCC15FF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Технология обработки числов</a:t>
            </a:r>
            <a:r>
              <a:rPr b="0" lang="ru-RU" sz="3800" spc="-1" strike="noStrike">
                <a:solidFill>
                  <a:srgbClr val="d16349"/>
                </a:solidFill>
                <a:latin typeface="Arial"/>
              </a:rPr>
              <a:t>ых </a:t>
            </a: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данных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TextBox 2"/>
          <p:cNvSpPr/>
          <p:nvPr/>
        </p:nvSpPr>
        <p:spPr>
          <a:xfrm>
            <a:off x="4419720" y="5181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чик презент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жайска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4572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Встроенные функции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6760"/>
            <a:ext cx="8504280" cy="33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ормулы могут состоять не только из арифметических операторов и адресов ячеек. Часто в вычислениях приходится использовать формулы, содержащие функции. Электронные таблицы имеют несколько сотен встроенных функций, которые подразделяются на категории: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атематические, Статистические, Финансовые, Дата и врем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так дале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Work\11а\информатика1111\3058424.jpg"/>
          <p:cNvPicPr/>
          <p:nvPr/>
        </p:nvPicPr>
        <p:blipFill>
          <a:blip r:embed="rId1"/>
          <a:stretch/>
        </p:blipFill>
        <p:spPr>
          <a:xfrm>
            <a:off x="1752480" y="4572000"/>
            <a:ext cx="5105520" cy="20001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TextBox 3"/>
          <p:cNvSpPr/>
          <p:nvPr/>
        </p:nvSpPr>
        <p:spPr>
          <a:xfrm>
            <a:off x="2057400" y="1905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троенные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4"/>
          <p:cNvSpPr/>
          <p:nvPr/>
        </p:nvSpPr>
        <p:spPr>
          <a:xfrm>
            <a:off x="838080" y="3276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емат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5"/>
          <p:cNvSpPr/>
          <p:nvPr/>
        </p:nvSpPr>
        <p:spPr>
          <a:xfrm>
            <a:off x="48769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ог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Прямая со стрелкой 7"/>
          <p:cNvCxnSpPr/>
          <p:nvPr/>
        </p:nvCxnSpPr>
        <p:spPr>
          <a:xfrm flipH="1">
            <a:off x="2666520" y="2666880"/>
            <a:ext cx="61056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45" name="Прямая со стрелкой 9"/>
          <p:cNvCxnSpPr/>
          <p:nvPr/>
        </p:nvCxnSpPr>
        <p:spPr>
          <a:xfrm>
            <a:off x="4952520" y="2666880"/>
            <a:ext cx="76284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646" name="TextBox 10"/>
          <p:cNvSpPr/>
          <p:nvPr/>
        </p:nvSpPr>
        <p:spPr>
          <a:xfrm>
            <a:off x="1752480" y="5791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атемат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дной из наиболее часто используемых операций является суммирование значений диапазона ячеек для расчета итоговых результатов. На панели инструментов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Стандартна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положена кнопка [х],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Автосуммирование,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торая используется для автоматического суммирования чисел с помощью функции СУМ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TextBox 3"/>
          <p:cNvSpPr/>
          <p:nvPr/>
        </p:nvSpPr>
        <p:spPr>
          <a:xfrm>
            <a:off x="251460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ог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нее были рассмотрены базовые логические операции (умножения, сложения, отрицания) и их таблицы истинно­сти. В электронных таблицах имеются соответствующие ло­гические функции, с помощью которых достаточно просто построить таблицы истинности логических операций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ргументами логических функций являются логические значения ИСТИНА и ЛОЖЬ. Логические значения, в свою очередь, могут быть получены как результат определения значений логических выражений. Например, для логического выражения 10&gt;5 результатом будет логическое значе­ние ИСТИНА, а для логического выражения А1&lt;А2 (где в ячейке А1 хранится число 10, а в ячейке А2 — число 5) — значение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Логическая функция «И»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, которые могут быть истинными или ложными, и задается формулой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=Щлог_знач1;лог_знач2;...)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нимает значение ИСТИНА тогда и только тогда, когда все аргументы имеют значение ИСТИН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имер, значение функции =И(10&gt;5;10&lt;5) —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22824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ИЛИ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 и задается формулой =ИЛИ(лог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_знач1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лог_знач2;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...). Принимает значение ИСТИНА, если хотя бы один из аргументов имеет значение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ИЛИ(10&gt;5;10&lt;5) —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НЕ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один аргумент и задается формулой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=НЕ(лог_знач).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инимает значение ИСТИНА, если аргумент имеет значение ЛОЖЬ, и наоборот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НЕ(10&gt;5) — ЛОЖ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строим с помощью электронных таблиц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таблицу истинности операции логического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умножения, используя логическую функцию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«И»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2" descr="C:\Work\11а\информатика1111\520dff42-178a-11dd-9641-001f2908c552_enl.jpg"/>
          <p:cNvPicPr/>
          <p:nvPr/>
        </p:nvPicPr>
        <p:blipFill>
          <a:blip r:embed="rId1"/>
          <a:stretch/>
        </p:blipFill>
        <p:spPr>
          <a:xfrm>
            <a:off x="6095880" y="3886200"/>
            <a:ext cx="2787840" cy="2787480"/>
          </a:xfrm>
          <a:prstGeom prst="rect">
            <a:avLst/>
          </a:prstGeom>
          <a:ln w="0">
            <a:noFill/>
          </a:ln>
        </p:spPr>
      </p:pic>
      <p:sp>
        <p:nvSpPr>
          <p:cNvPr id="654" name="TextBox 4"/>
          <p:cNvSpPr/>
          <p:nvPr/>
        </p:nvSpPr>
        <p:spPr>
          <a:xfrm>
            <a:off x="838080" y="6019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Сортировка и поиск данны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4560" y="137124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существлять сортировку данных, то есть производить их упорядочение. Данные (числа, текст, даты) в электронных таблицах можно сортировать по возрастанию или убыванию. При сортировке по возрастанию данные выстраиваются в следующем порядке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числа сортируются от наименьшего отрицательного до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наибольшего положительного числа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текст сортируется в следующем порядке: числа, знаки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латинский алфавит, русский алфавит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пустые ячейки всегда помещаются в конец списк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ртировки строк таблицы необходимо выбрать столбец, данные которого будут упорядочиваться. После сортировки изменяется порядок следования строк, но сохраняется их целостность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ожно проводить вложенные сортировки, то есть сортировать данные последовательно по нескольким столбцам. При вложенной сортировке строки, имеющие одинаковые значения в ячейках первого столбца, будут упорядочены по значениям в ячейках второго столбца, а строки, имеющие одинаковые значения во втором столбце, будут упорядочены по значениям третьего столбца. Так, результат вложенной сортировки таблицы (исключая первую строку), содержащей данные о компьютерах, при сортировке столбца А по возрастанию, столбца В по убыванию и столбца С по возрас­танию будет таким, как показано на рис. 10.4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3200400" y="4495680"/>
          <a:ext cx="5181480" cy="1828800"/>
        </p:xfrm>
        <a:graphic>
          <a:graphicData uri="http://schemas.openxmlformats.org/drawingml/2006/table">
            <a:tbl>
              <a:tblPr/>
              <a:tblGrid>
                <a:gridCol w="592200"/>
                <a:gridCol w="1523880"/>
                <a:gridCol w="1698840"/>
                <a:gridCol w="1366560"/>
              </a:tblGrid>
              <a:tr h="371520">
                <a:tc gridSpan="4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74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44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04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0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компьюте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ссо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мя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56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2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1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628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иск данных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электронных таблицах можно осуществлять поиск данных (строк) в соответствии с  заданными условиями. Такие условия называютс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фильтром.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результате поиска будут найдены строки, удовлетворяющие заданному фильтру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Условия задаются с помощью операций сравнения. Для числовых данных это операци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=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=) 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=). Для задания условия необхо­димо выбрать операцию сравнения и задать число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Для текстовых данных возможны операции сравнени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, начинается с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ервы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заканчивается на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оследни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содержит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символы в любой части текста). Для задания условия необходимо выбрать операцию сравнения и задать последовательность символов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Можно осуществлять поиск данных, вводя условия поиска для нескольких столбцов. В этом случае фильтр будет содержать несколько условий, которые должны выполняться одновременно. Например, если мы хотим в таблице, изображенной на рис. 10.4, найти данные о настольном компьютере с процессором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4 и памятью 128 Мб, то необходимо задать фильтр, состоящий из трех условий: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Компьютеры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Настольный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роцессор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4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амять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64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TextBox 3"/>
          <p:cNvSpPr/>
          <p:nvPr/>
        </p:nvSpPr>
        <p:spPr>
          <a:xfrm>
            <a:off x="68580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строение диаграмм и графи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Типы диаграмм и графиков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визуализировать данные, размещенные на рабочем листе, в виде диаграммы или графика. Диаграммы и графики наглядно отображают зависимости между данными, что облегчает восприятие и помогает при анализе и сравнении данны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иаграммы могут быть различных типов и соответственно представлять данные в различной форме. Для каждого набора данных важно правильно подобрать тип создаваемой диаграммы. Для наглядного сравнения различных величин используются линейчатые диаграммы. Например, с помощью линейчатой диаграммы можно наглядно представить данные о численности населения различных стран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величин частей от целого применяется круговая диаграмма. Круговая диаграмма позволяет, например, наглядно показать доли стоимости отдельных устройств компьютера в его цене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изменения величин в зависимости от времени и построения графиков функций используются диаграммы типа «график» (рис. 10.5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3" name="Picture 1" descr=""/>
          <p:cNvPicPr/>
          <p:nvPr/>
        </p:nvPicPr>
        <p:blipFill>
          <a:blip r:embed="rId1"/>
          <a:stretch/>
        </p:blipFill>
        <p:spPr>
          <a:xfrm>
            <a:off x="1905120" y="5105520"/>
            <a:ext cx="5105160" cy="125100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2"/>
          <p:cNvSpPr/>
          <p:nvPr/>
        </p:nvSpPr>
        <p:spPr>
          <a:xfrm>
            <a:off x="4416120" y="-267480"/>
            <a:ext cx="3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Л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01320" y="1447920"/>
            <a:ext cx="85042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иаграммы могут располагаться как на листе с данными (внедренные диаграммы), так и на отдельных листах. Диаграммы связаны с исходными данными на рабочем листе и обновляются при обновлении данных на рабочем лист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здания диаграмм используется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 диаграмм. Мастер диа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зволяет создавать диаграмму по шагам с помощью серии диалоговых панелей. В качестве примера рассмотрим таблицу «Цены устройств компьютера» и представим в наглядной форме долю цены каждого устройства в цене компьютер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строение графиков. Построение графиков является частным случаем  построения диаграмм. Графики выбирают в тех случаях, когда хотят отобразить изменение данных с течением времени. Графики позволяют анализировать за­кономерности изменения величин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едставим с помощью графика динамику изменения цен по годам на различные модели компьютеров (на базе процессоров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I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) — рис. 10.6.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оцесс построения графика с помощью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а диа­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аналогичен рассмотренному выш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133720" y="3733920"/>
          <a:ext cx="4419360" cy="990360"/>
        </p:xfrm>
        <a:graphic>
          <a:graphicData uri="http://schemas.openxmlformats.org/drawingml/2006/table">
            <a:tbl>
              <a:tblPr/>
              <a:tblGrid>
                <a:gridCol w="2896920"/>
                <a:gridCol w="541440"/>
                <a:gridCol w="527040"/>
                <a:gridCol w="453960"/>
              </a:tblGrid>
              <a:tr h="349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0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67" name="Picture 1" descr="C:\Work\11а\информатика1111\IT3791_03_1.jpg"/>
          <p:cNvPicPr/>
          <p:nvPr/>
        </p:nvPicPr>
        <p:blipFill>
          <a:blip r:embed="rId1"/>
          <a:stretch/>
        </p:blipFill>
        <p:spPr>
          <a:xfrm>
            <a:off x="2590920" y="228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" descr="C:\Work\11а\информатика1111\KC6302_48.jpg"/>
          <p:cNvPicPr/>
          <p:nvPr/>
        </p:nvPicPr>
        <p:blipFill>
          <a:blip r:embed="rId2"/>
          <a:stretch/>
        </p:blipFill>
        <p:spPr>
          <a:xfrm>
            <a:off x="5105520" y="1522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9" name="TextBox 6"/>
          <p:cNvSpPr/>
          <p:nvPr/>
        </p:nvSpPr>
        <p:spPr>
          <a:xfrm>
            <a:off x="6858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Надстройки в электронных таблица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526760"/>
            <a:ext cx="850428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озможности электронных таблиц не ограничиваются вычислениями по формулам и построением диаграмм и графиков. С помощью надстроек электронных таблиц можно строить геоинформационные модели (выводить на географи­ческие карты данные), приближенно с заданной точностью решать уравнения методом подбора параметра, решать задачи оптимизационного моделирования методом поиска решений и так далее. Некоторые из надстроек не устанавливаются по умолчанию и требуют установ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2" name="Picture 1" descr="C:\Work\11а\информатика1111\calc.jpg"/>
          <p:cNvPicPr/>
          <p:nvPr/>
        </p:nvPicPr>
        <p:blipFill>
          <a:blip r:embed="rId1"/>
          <a:stretch/>
        </p:blipFill>
        <p:spPr>
          <a:xfrm>
            <a:off x="1981080" y="3429000"/>
            <a:ext cx="4489560" cy="316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3"/>
          <p:cNvSpPr/>
          <p:nvPr/>
        </p:nvSpPr>
        <p:spPr>
          <a:xfrm>
            <a:off x="2743200" y="3049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d7a"/>
                </a:solidFill>
                <a:latin typeface="Georgia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380880" y="16765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калькуля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4419720" y="2209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6"/>
          <p:cNvSpPr/>
          <p:nvPr/>
        </p:nvSpPr>
        <p:spPr>
          <a:xfrm>
            <a:off x="380880" y="2666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троен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7"/>
          <p:cNvSpPr/>
          <p:nvPr/>
        </p:nvSpPr>
        <p:spPr>
          <a:xfrm>
            <a:off x="3733920" y="3276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ртировка и поиск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8"/>
          <p:cNvSpPr/>
          <p:nvPr/>
        </p:nvSpPr>
        <p:spPr>
          <a:xfrm>
            <a:off x="457200" y="4191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троение диаграмм и граф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9"/>
          <p:cNvSpPr/>
          <p:nvPr/>
        </p:nvSpPr>
        <p:spPr>
          <a:xfrm>
            <a:off x="2971800" y="50292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дстройки в электронных табли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иск реш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6760"/>
            <a:ext cx="850428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Поиск решения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является надстройкой, которая позволяет решать задачи оптимизационного моде­лирования. Процедура поиска решения позволяет найти оптимальное значение формулы, содержащейся в ячейке, которая называется целевой. Эта процедура работает с группой ячеек, прямо или косвенно связанных с формулой в целевой ячейке. Чтобы получить по формуле, содержащейся в целевой ячейке, искомый результат, процедура изменяет значения во влияющих ячейках. Чтобы сузить множество значений, используемых в модели, применяются ограничения. Эти ограничения могут содержать ссылки на другие влияющие ячей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5" name="Picture 1" descr="C:\Work\11а\инфр\5.jpg"/>
          <p:cNvPicPr/>
          <p:nvPr/>
        </p:nvPicPr>
        <p:blipFill>
          <a:blip r:embed="rId1"/>
          <a:stretch/>
        </p:blipFill>
        <p:spPr>
          <a:xfrm>
            <a:off x="1143000" y="3962520"/>
            <a:ext cx="1771560" cy="23619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C:\Work\11а\инфр\ноут.jpg"/>
          <p:cNvPicPr/>
          <p:nvPr/>
        </p:nvPicPr>
        <p:blipFill>
          <a:blip r:embed="rId2"/>
          <a:stretch/>
        </p:blipFill>
        <p:spPr>
          <a:xfrm>
            <a:off x="4648320" y="3962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дбор параметр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является одним из инструментов анализа «что, если». Этот метод используется при поиске значения аргумента функции, который обеспечивает требуемое значение функции. При подборе параметра изменяется значение в ячейке аргумента функции до тех пор, пока значение в ячейке самой функции не будет возвращать нужный результат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 качестве примера рассмотрим поиск корня уравнен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lang="ru-RU" sz="23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in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* - 0,5 = 0. Представим функцию в табличной форме, построим ее график, который позволит определить корень уравнения грубо приближенно. Для поиска решения с заданной точностью используем метод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.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Точность подбора зависит от заданной точности представления чисел в ячейках таблицы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9" name="Picture 2" descr="C:\Work\11а\информатика1111\c465b.jpg"/>
          <p:cNvPicPr/>
          <p:nvPr/>
        </p:nvPicPr>
        <p:blipFill>
          <a:blip r:embed="rId1"/>
          <a:stretch/>
        </p:blipFill>
        <p:spPr>
          <a:xfrm>
            <a:off x="7086600" y="228600"/>
            <a:ext cx="1623960" cy="121932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1219320" y="6019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46d7a"/>
                </a:solidFill>
                <a:latin typeface="Georgia"/>
              </a:rPr>
              <a:t>Электронные калькулятор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6760"/>
            <a:ext cx="85042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являются специализирован­ными программными приложениями, предназначенными для произведения вычислений. Электронные калькуляторы по своим функциональным возможностям соответствуют ап­паратным микрокалькулятора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Аппаратные микрокалькуляторы могут существенно раз­личаться по своим возможностям и областям применения. Простые микрокалькуляторы позволяют осуществлять толь­ко арифметические операции над числами и используются в быту. Инженерные микрокалькуляторы позволяют также вычислять значения различных функций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(sin, cos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 др.) и используются в процессе обучения и для инженерных расче­тов; программистские микрокалькуляторы позволяют про­водить вычисления в различных системах счисления и другие оп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гораздо удобнее, так как могут обладать возможностями всех вышеперечисленных типов ап­паратных микрокалькуляторо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C:\Work\11а\информатика1111\4537_17.jpg"/>
          <p:cNvPicPr/>
          <p:nvPr/>
        </p:nvPicPr>
        <p:blipFill>
          <a:blip r:embed="rId1"/>
          <a:stretch/>
        </p:blipFill>
        <p:spPr>
          <a:xfrm>
            <a:off x="6324480" y="4114800"/>
            <a:ext cx="2210040" cy="20048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C:\Work\11а\информатика1111\c476b.jpg"/>
          <p:cNvPicPr/>
          <p:nvPr/>
        </p:nvPicPr>
        <p:blipFill>
          <a:blip r:embed="rId2"/>
          <a:stretch/>
        </p:blipFill>
        <p:spPr>
          <a:xfrm>
            <a:off x="838080" y="4419720"/>
            <a:ext cx="2157480" cy="16192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" descr="C:\Work\11а\информатика1111\c465b.jpg"/>
          <p:cNvPicPr/>
          <p:nvPr/>
        </p:nvPicPr>
        <p:blipFill>
          <a:blip r:embed="rId3"/>
          <a:stretch/>
        </p:blipFill>
        <p:spPr>
          <a:xfrm>
            <a:off x="3657600" y="4419720"/>
            <a:ext cx="2157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й Калькулятор является стандартным приложением операционной системы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indows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дним из удачных элек­тронных калькуляторов является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umLock Calculator,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процессе работы с которым легко выбрать требуемый тип калькулятора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 помощью электронных калькуляторов можно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роизводить  арифметические  действия  над  целыми  и дробными числами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ереводить числа из одной системы счисления в другую(например, из десятичной в двоичную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математических функций  (например,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1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, 1/х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статистических функций (например, среднее арифметическое заданных чисел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финансовых  функций  (например, вычислять сумму банковского вклада с заданным процентом) и др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проводить сложные многоступенчатые вычисления с записью промежуточных результатов в ячейки памяти калькулятора. По мере необходимости такие результаты можно извлекать из памяти и использовать в дальнейших вычислениях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обмениваться числовыми данными с другими приложениями с использованием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буфера обмена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перационной систем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2" descr="C:\Work\11а\инфр\265.jpg"/>
          <p:cNvPicPr/>
          <p:nvPr/>
        </p:nvPicPr>
        <p:blipFill>
          <a:blip r:embed="rId1"/>
          <a:stretch/>
        </p:blipFill>
        <p:spPr>
          <a:xfrm>
            <a:off x="1066680" y="228600"/>
            <a:ext cx="6542280" cy="1066680"/>
          </a:xfrm>
          <a:prstGeom prst="rect">
            <a:avLst/>
          </a:prstGeom>
          <a:ln w="0">
            <a:noFill/>
          </a:ln>
        </p:spPr>
      </p:pic>
      <p:sp>
        <p:nvSpPr>
          <p:cNvPr id="622" name="TextBox 5"/>
          <p:cNvSpPr/>
          <p:nvPr/>
        </p:nvSpPr>
        <p:spPr>
          <a:xfrm>
            <a:off x="1676520" y="6019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Электронные таблиц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брабатывать большие массивы числовых данных, например результаты экспериментов, статистические данные и так далее. Наибольшее распространение получили электронные таблицы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Microsoft Excel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StarCalc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это работающее в диалоговом режиме приложение, хранящее и обрабатывающее данные в прямоугольных таблица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состоит из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олбцов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рок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Заго­ловки столбцов обозначаются буквами или сочетаниями букв (А, С, АВ и т. п.), заголовки строк — числами (1, 2, 3 и далее)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Ячейк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место пересечения столбца и строк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Каждая ячейка таблицы имеет свой собственный адрес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дрес ячейки электронной таблицы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оставляется из заго­ловка столбца и заголовка строки, например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Al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5, ЕЗ. Ячейка, с которой производятся какие-то действия, выделя­ется рамкой и называе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ктивной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 рис. активной ячейкой является ячейка СЗ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657600" y="4952880"/>
          <a:ext cx="3986280" cy="1051200"/>
        </p:xfrm>
        <a:graphic>
          <a:graphicData uri="http://schemas.openxmlformats.org/drawingml/2006/table">
            <a:tbl>
              <a:tblPr/>
              <a:tblGrid>
                <a:gridCol w="365040"/>
                <a:gridCol w="609840"/>
                <a:gridCol w="725400"/>
                <a:gridCol w="695160"/>
                <a:gridCol w="792360"/>
                <a:gridCol w="798480"/>
              </a:tblGrid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62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36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25560" rIns="25560" tIns="0" bIns="0" anchor="t">
                      <a:noAutofit/>
                    </a:bodyPr>
                    <a:p>
                      <a:pPr marL="106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6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, с которыми работает пользователь в приложении,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листами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Можно вво­дить и изменять данные одновременно на нескольких рабочих листах, а также выполнять вычисления на основе данных из нескольких листов. Документы электронных таблиц могут включать несколько рабочих листов и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книгам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сновные типы и форматы данных. В работе с электронными таблицами можно выделить три основных типа данных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, текст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формула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зависимости от решаемой задачи возникает необходимость применять различные форматы представления данных. В каждом конкретном случае важно выбрать наиболее подходящий форма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чисел по умолчанию электронные таблицы используют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во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, который отображает два десятичных знака после запятой (например, 195,2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Экспоненциаль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применяется, если число, содержащее большое количество разрядов, не умещается в ячейке (например, число 2 000 000 000 в экспоненциальном формате будет записано в следующем виде: 2,00Е+09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 умолчанию числа выравниваются в ячейке по правому краю. Это объясняется тем, что при размещении чисел друг под другом (в столбце таблицы) удобно иметь выравнивание по разрядам (единицы под единицами, десятки под десятками и так далее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1" descr="C:\Work\11а\информатика1111\Photoentirepage.jpg"/>
          <p:cNvPicPr/>
          <p:nvPr/>
        </p:nvPicPr>
        <p:blipFill>
          <a:blip r:embed="rId1"/>
          <a:stretch/>
        </p:blipFill>
        <p:spPr>
          <a:xfrm>
            <a:off x="609480" y="152280"/>
            <a:ext cx="1752840" cy="11653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" descr="C:\Work\11а\информатика1111\de754f679fdd.jpg"/>
          <p:cNvPicPr/>
          <p:nvPr/>
        </p:nvPicPr>
        <p:blipFill>
          <a:blip r:embed="rId2"/>
          <a:stretch/>
        </p:blipFill>
        <p:spPr>
          <a:xfrm>
            <a:off x="6400800" y="152280"/>
            <a:ext cx="1612800" cy="12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Текстом в электронных таблицах является последовательность символов, состоящая из букв, цифр и пробелов, например, запись «32 Мбайт» является текстовой. По умолчанию текст выравнивается в ячейке по левому краю. Это объясняется традиционным способом письма (слева направо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ула должна начинаться со знака равенства и может включать в себя числа, имена ячеек, функции и знаки математических операций. В формулу не может входить текс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пример, формула =А1+В2 обеспечивает сложение чисел, хранящихся в ячейках А1 и В2, а формула =А1*5 — умножение числа, хранящегося в ячейке А1, на 5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вводе формулы в ячейке отображается не сама формула, а результат вычислений по этой формуле. При изменении исходных значений, входящих в формулу, результат пересчитывается немедленно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данных можно использовать также специализированные форматы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енеж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(12000,00р.) удобен для бухгалтерских расчетов, форматы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ат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время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зволяют хранить значения временных данных (15.01.2002    17:45:1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1" descr="C:\Work\11а\информатика1111\clementoni_60303_1.jpg"/>
          <p:cNvPicPr/>
          <p:nvPr/>
        </p:nvPicPr>
        <p:blipFill>
          <a:blip r:embed="rId1"/>
          <a:stretch/>
        </p:blipFill>
        <p:spPr>
          <a:xfrm>
            <a:off x="3809880" y="228600"/>
            <a:ext cx="1376640" cy="1066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Относительные и абсолютные ссылки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ссылки на адреса ячеек. Существуют два основных типа ссылок: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абсолютные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зличия между относительными и абсолютными ссылками проявляются при копировании формулы из активной ячейки в другую ячейку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ссылки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адреса ячейки, вычисляемого относительно ячей­ки, в которой находится формул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перемещении или копировании формулы из актив­ной ячейки относительные ссылки автоматически обновля­ются в зависимости от нового положения формулы. Относи­тельные ссылки имеют следующий вид: А1, ВЗ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относи­тельные ссылки, из ячейки С1 в ячейку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2 обозначения столбцов и строк в формуле изменятся на один шаг вправо и вниз (рис. 10.3)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2362320" y="5105520"/>
          <a:ext cx="4572000" cy="1218960"/>
        </p:xfrm>
        <a:graphic>
          <a:graphicData uri="http://schemas.openxmlformats.org/drawingml/2006/table">
            <a:tbl>
              <a:tblPr/>
              <a:tblGrid>
                <a:gridCol w="420480"/>
                <a:gridCol w="638280"/>
                <a:gridCol w="623880"/>
                <a:gridCol w="1065240"/>
                <a:gridCol w="1157400"/>
                <a:gridCol w="666720"/>
              </a:tblGrid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9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6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52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95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1033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А1*В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В2*С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01320" y="1526760"/>
            <a:ext cx="85042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бсолютные ссылки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фиксированного адреса ячейки. При перемещении или копировании формулы абсолютные ссылки не изменяются. В абсолютных ссылках перед неизменяемыми значе­ниями адреса ячейки ставится знак доллара (например, $А$1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абсолютные ссылки, из ячейки СЗ в ячейку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4 обозначения столбцов и строк в формуле не изменятся (см. рис. 10.3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Рассмотрим действие относительных и абсолютных ссылок на примере. Пусть нам необходимо вычислить стоимость комплектующих для компьютера в рублях, если известны их цены в долларах и курс доллара. Для вычисления цены в рублях необходимо умножить цену в долларах на величину курса доллар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2" descr="C:\Work\11а\информатика1111\1250152275.jpg"/>
          <p:cNvPicPr/>
          <p:nvPr/>
        </p:nvPicPr>
        <p:blipFill>
          <a:blip r:embed="rId1"/>
          <a:stretch/>
        </p:blipFill>
        <p:spPr>
          <a:xfrm>
            <a:off x="5334120" y="4038480"/>
            <a:ext cx="3033720" cy="2654280"/>
          </a:xfrm>
          <a:prstGeom prst="rect">
            <a:avLst/>
          </a:prstGeom>
          <a:ln w="0">
            <a:noFill/>
          </a:ln>
        </p:spPr>
      </p:pic>
      <p:sp>
        <p:nvSpPr>
          <p:cNvPr id="636" name="TextBox 4"/>
          <p:cNvSpPr/>
          <p:nvPr/>
        </p:nvSpPr>
        <p:spPr>
          <a:xfrm>
            <a:off x="60948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27T15:44:30Z</dcterms:modified>
  <cp:revision>19</cp:revision>
  <dc:subject/>
  <dc:title>Слайд 1</dc:title>
</cp:coreProperties>
</file>