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17B-E92A-43D4-A798-B1AFEF08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E0C-4334-4F32-9E1C-B7DC32B5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91A-40EC-4463-A638-DF7BDAA2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85F-8BDA-48A1-B77E-4A8AC0B9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02CF-8947-4DD4-8314-E45CD23F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3991-D4FE-4F09-BD5E-2CB171C7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5F1A-0AF6-497C-BD51-6F0F5B3B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C78F-DDFE-48D3-A92C-80C5770D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977D-E663-41DC-9955-68148DEC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15E0-92A4-4D95-A7B3-27202FEC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784A-5A33-4D21-BAB2-35C1A809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F60-F74D-48D1-A333-E5C03C9C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BCAF-593F-4A73-9E78-C769F8AB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59C2-1F4F-41DC-8570-B2882634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5C0C-B7D4-4875-8633-973DC887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762F-7629-4602-8283-8EED8F30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449D-D2E9-496C-81BC-C41E3197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278-67B4-4AD0-AF22-860DD40F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3E2D-5960-4C05-8988-0D1CD4CD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D31-5003-4DC8-B660-DF9FB4A9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0C3-FF83-4330-8182-DDC1EC75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BE1-6BCC-4EA5-8080-D8DDF5CA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BDF-6C0E-4BAA-A97E-D7C47FF6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A05-2974-41BF-9991-40D02D21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07B9-BA5B-40BB-BE6C-A6D8F230DDE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FADD-E07A-4E17-990B-E7D4515A7D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дирование целых чисе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яшешник А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5 города Ржева Тверской обл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аковый разряд помещается цифра 1, а в разряды цифровой части – двоичный код его абсолютной велич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й код числа -1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2268360" y="5084640"/>
            <a:ext cx="3456000" cy="431640"/>
            <a:chOff x="2268360" y="5084640"/>
            <a:chExt cx="3456000" cy="431640"/>
          </a:xfrm>
        </p:grpSpPr>
        <p:sp>
          <p:nvSpPr>
            <p:cNvPr id="237" name="Rectangle 5"/>
            <p:cNvSpPr/>
            <p:nvPr/>
          </p:nvSpPr>
          <p:spPr>
            <a:xfrm>
              <a:off x="2268360" y="508464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270000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313200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356364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442872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399564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4860720" y="508464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5292360" y="508464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5" name="Line 13"/>
          <p:cNvSpPr/>
          <p:nvPr/>
        </p:nvSpPr>
        <p:spPr>
          <a:xfrm flipV="1">
            <a:off x="2484360" y="558972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1476360" y="580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-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т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инвертированием всех цифр двоичного кода абсолютной величины числа, включая разряд знака: нули заменяются единицами, а единицы – нуля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 модуля числа:     0 00000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ый код числа: 1 111111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788000" y="6093000"/>
            <a:ext cx="3456000" cy="431640"/>
            <a:chOff x="4788000" y="6093000"/>
            <a:chExt cx="3456000" cy="431640"/>
          </a:xfrm>
        </p:grpSpPr>
        <p:sp>
          <p:nvSpPr>
            <p:cNvPr id="250" name="Rectangle 5"/>
            <p:cNvSpPr/>
            <p:nvPr/>
          </p:nvSpPr>
          <p:spPr>
            <a:xfrm>
              <a:off x="4788000" y="609300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521964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7"/>
            <p:cNvSpPr/>
            <p:nvPr/>
          </p:nvSpPr>
          <p:spPr>
            <a:xfrm>
              <a:off x="565164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Rectangle 8"/>
            <p:cNvSpPr/>
            <p:nvPr/>
          </p:nvSpPr>
          <p:spPr>
            <a:xfrm>
              <a:off x="608328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694836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651528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11"/>
            <p:cNvSpPr/>
            <p:nvPr/>
          </p:nvSpPr>
          <p:spPr>
            <a:xfrm>
              <a:off x="7380360" y="609300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Rectangle 12"/>
            <p:cNvSpPr/>
            <p:nvPr/>
          </p:nvSpPr>
          <p:spPr>
            <a:xfrm>
              <a:off x="7812000" y="609300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полнительный код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ается образованием обратного кода с последующем прибавлением единицы к его младшему разря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ло: -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Код модуля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    0 000000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Обратный код числ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1 11111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 11111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3276720" y="6021360"/>
            <a:ext cx="3456000" cy="431640"/>
            <a:chOff x="3276720" y="6021360"/>
            <a:chExt cx="3456000" cy="431640"/>
          </a:xfrm>
        </p:grpSpPr>
        <p:sp>
          <p:nvSpPr>
            <p:cNvPr id="261" name="Rectangle 5"/>
            <p:cNvSpPr/>
            <p:nvPr/>
          </p:nvSpPr>
          <p:spPr>
            <a:xfrm>
              <a:off x="3276720" y="6021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>
              <a:off x="370836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>
              <a:off x="414036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>
              <a:off x="457200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>
              <a:off x="543708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>
              <a:off x="500400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>
              <a:off x="5869080" y="6021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6300720" y="6021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компьютер выполняет арифметические действия над целыми числ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льшинстве компьютеров операция вычитание не используется. Вместо неё производится сложение уменьшаемого с обратным или дополнительным кодом вычитаемого. Это позволяет существенно упростить конструкцию АЛ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  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              0 00000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611280" y="278136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700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2987640" y="278136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324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539640" y="5157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3203640" y="515772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771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5579640" y="479736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5867280" y="4581360"/>
            <a:ext cx="31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012000" y="522936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580000" y="5445000"/>
            <a:ext cx="43200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           0 0001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            0 00001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468360" y="2781360"/>
            <a:ext cx="790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2700360" y="2781360"/>
            <a:ext cx="25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411280" y="198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9"/>
          <p:cNvSpPr/>
          <p:nvPr/>
        </p:nvSpPr>
        <p:spPr>
          <a:xfrm flipH="1">
            <a:off x="2555640" y="3068640"/>
            <a:ext cx="2156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255600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2556000" y="3500280"/>
            <a:ext cx="172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35600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700360" y="3933720"/>
            <a:ext cx="2519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2843280" y="3933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 00001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148360" y="2565360"/>
            <a:ext cx="5032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5724360" y="234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39640" y="494172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Компьютер исправляет полученный первоначально неправильный результат (6 вместо 7) переносом единицы из знакового разряда в младший разряд сум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3               1 1111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7               1 11110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10              1 1110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611280" y="270828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203640" y="2781360"/>
            <a:ext cx="25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843280" y="2060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5651280" y="1844640"/>
            <a:ext cx="36036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5651280" y="2492280"/>
            <a:ext cx="4316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6012000" y="162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156360" y="2276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12"/>
          <p:cNvSpPr/>
          <p:nvPr/>
        </p:nvSpPr>
        <p:spPr>
          <a:xfrm flipH="1">
            <a:off x="3059280" y="3068640"/>
            <a:ext cx="2174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3059280" y="3068640"/>
            <a:ext cx="0" cy="4316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15"/>
          <p:cNvSpPr/>
          <p:nvPr/>
        </p:nvSpPr>
        <p:spPr>
          <a:xfrm>
            <a:off x="3059280" y="3500280"/>
            <a:ext cx="187308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93236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17"/>
          <p:cNvSpPr/>
          <p:nvPr/>
        </p:nvSpPr>
        <p:spPr>
          <a:xfrm>
            <a:off x="3132000" y="3933720"/>
            <a:ext cx="25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348000" y="38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11101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19"/>
          <p:cNvSpPr/>
          <p:nvPr/>
        </p:nvSpPr>
        <p:spPr>
          <a:xfrm flipH="1">
            <a:off x="5651640" y="4149720"/>
            <a:ext cx="28872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012000" y="3933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Обратный код числа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324000" y="4724280"/>
            <a:ext cx="849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олученный первоначально неправильный результат (обратный код числа -11 вместо обратного кода числа -10) компьютер исправляет переносом единицы из знакового разряда в младший разряд суммы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При переводе результата в прямой код биты цифровой части числа инвертируются: 1 0001010 = -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в одно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вить число 21 и -21 в двухбайтовой разрядной сет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боты с числами человек использует в основном две формы для их записи – естественную и экспоненциальну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11280" y="393372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оненциальная форма записи чисел используется для обозначения очень больших или очень маленьких чисе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 0,000002=0,2*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ли 1000=1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3347640" y="1268280"/>
            <a:ext cx="64764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5640" y="2637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без знак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только положи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5003640" y="1268280"/>
            <a:ext cx="72072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356000" y="2708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Целые числа со знаком (положительные и отрицательны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26920" y="4076640"/>
            <a:ext cx="72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ля хранения чисел в памяти отводится определённое количество разрядов, в совокупности представляющих собой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разрядную сетк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один или два бай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(0…25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Биты чис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9" name="Group 15"/>
          <p:cNvGrpSpPr/>
          <p:nvPr/>
        </p:nvGrpSpPr>
        <p:grpSpPr>
          <a:xfrm>
            <a:off x="2627280" y="5013360"/>
            <a:ext cx="3456000" cy="431640"/>
            <a:chOff x="2627280" y="5013360"/>
            <a:chExt cx="3456000" cy="431640"/>
          </a:xfrm>
        </p:grpSpPr>
        <p:sp>
          <p:nvSpPr>
            <p:cNvPr id="170" name="Rectangle 7"/>
            <p:cNvSpPr/>
            <p:nvPr/>
          </p:nvSpPr>
          <p:spPr>
            <a:xfrm>
              <a:off x="262728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305892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349092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392256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78764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435456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>
              <a:off x="5219640" y="5013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Rectangle 14"/>
            <p:cNvSpPr/>
            <p:nvPr/>
          </p:nvSpPr>
          <p:spPr>
            <a:xfrm>
              <a:off x="5651280" y="5013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Text Box 16"/>
          <p:cNvSpPr/>
          <p:nvPr/>
        </p:nvSpPr>
        <p:spPr>
          <a:xfrm>
            <a:off x="324000" y="5516640"/>
            <a:ext cx="63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номера разрядов   7   6    5    4   3    2   1 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364000" y="4221000"/>
            <a:ext cx="432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5076720" y="422100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4788000" y="4221000"/>
            <a:ext cx="71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4500720" y="4221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22"/>
          <p:cNvSpPr/>
          <p:nvPr/>
        </p:nvSpPr>
        <p:spPr>
          <a:xfrm flipH="1">
            <a:off x="4066920" y="422100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708360" y="422100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Line 24"/>
          <p:cNvSpPr/>
          <p:nvPr/>
        </p:nvSpPr>
        <p:spPr>
          <a:xfrm flipH="1">
            <a:off x="3276360" y="4221000"/>
            <a:ext cx="43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без зна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00000000 00000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1111111 1111111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0…6553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7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01000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8" name="Group 22"/>
          <p:cNvGrpSpPr/>
          <p:nvPr/>
        </p:nvGrpSpPr>
        <p:grpSpPr>
          <a:xfrm>
            <a:off x="684360" y="5084640"/>
            <a:ext cx="6912000" cy="431640"/>
            <a:chOff x="684360" y="5084640"/>
            <a:chExt cx="6912000" cy="431640"/>
          </a:xfrm>
        </p:grpSpPr>
        <p:grpSp>
          <p:nvGrpSpPr>
            <p:cNvPr id="189" name="Group 4"/>
            <p:cNvGrpSpPr/>
            <p:nvPr/>
          </p:nvGrpSpPr>
          <p:grpSpPr>
            <a:xfrm>
              <a:off x="4140360" y="5084640"/>
              <a:ext cx="3456000" cy="431640"/>
              <a:chOff x="4140360" y="5084640"/>
              <a:chExt cx="3456000" cy="431640"/>
            </a:xfrm>
          </p:grpSpPr>
          <p:sp>
            <p:nvSpPr>
              <p:cNvPr id="190" name="Rectangle 5"/>
              <p:cNvSpPr/>
              <p:nvPr/>
            </p:nvSpPr>
            <p:spPr>
              <a:xfrm>
                <a:off x="4140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Rectangle 6"/>
              <p:cNvSpPr/>
              <p:nvPr/>
            </p:nvSpPr>
            <p:spPr>
              <a:xfrm>
                <a:off x="4572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Rectangle 7"/>
              <p:cNvSpPr/>
              <p:nvPr/>
            </p:nvSpPr>
            <p:spPr>
              <a:xfrm>
                <a:off x="5004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5435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6300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Rectangle 10"/>
              <p:cNvSpPr/>
              <p:nvPr/>
            </p:nvSpPr>
            <p:spPr>
              <a:xfrm>
                <a:off x="5867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Rectangle 11"/>
              <p:cNvSpPr/>
              <p:nvPr/>
            </p:nvSpPr>
            <p:spPr>
              <a:xfrm>
                <a:off x="6732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7164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98" name="Group 13"/>
            <p:cNvGrpSpPr/>
            <p:nvPr/>
          </p:nvGrpSpPr>
          <p:grpSpPr>
            <a:xfrm>
              <a:off x="684360" y="5084640"/>
              <a:ext cx="3456000" cy="431640"/>
              <a:chOff x="684360" y="5084640"/>
              <a:chExt cx="3456000" cy="431640"/>
            </a:xfrm>
          </p:grpSpPr>
          <p:sp>
            <p:nvSpPr>
              <p:cNvPr id="199" name="Rectangle 14"/>
              <p:cNvSpPr/>
              <p:nvPr/>
            </p:nvSpPr>
            <p:spPr>
              <a:xfrm>
                <a:off x="68436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Rectangle 15"/>
              <p:cNvSpPr/>
              <p:nvPr/>
            </p:nvSpPr>
            <p:spPr>
              <a:xfrm>
                <a:off x="111600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Rectangle 16"/>
              <p:cNvSpPr/>
              <p:nvPr/>
            </p:nvSpPr>
            <p:spPr>
              <a:xfrm>
                <a:off x="154800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Rectangle 17"/>
              <p:cNvSpPr/>
              <p:nvPr/>
            </p:nvSpPr>
            <p:spPr>
              <a:xfrm>
                <a:off x="197964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Rectangle 18"/>
              <p:cNvSpPr/>
              <p:nvPr/>
            </p:nvSpPr>
            <p:spPr>
              <a:xfrm>
                <a:off x="284472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>
                <a:off x="241164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>
                <a:off x="3276720" y="5084640"/>
                <a:ext cx="43164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Rectangle 21"/>
              <p:cNvSpPr/>
              <p:nvPr/>
            </p:nvSpPr>
            <p:spPr>
              <a:xfrm>
                <a:off x="3708360" y="5084640"/>
                <a:ext cx="432000" cy="431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07" name="Line 23"/>
          <p:cNvSpPr/>
          <p:nvPr/>
        </p:nvSpPr>
        <p:spPr>
          <a:xfrm>
            <a:off x="6156360" y="4437000"/>
            <a:ext cx="115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5940360" y="4437000"/>
            <a:ext cx="863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5651640" y="4437000"/>
            <a:ext cx="720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5364000" y="4437000"/>
            <a:ext cx="64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148360" y="4437000"/>
            <a:ext cx="431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4932360" y="4437000"/>
            <a:ext cx="287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4643280" y="443700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39640" y="558972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15  14  13  12 11  10   9   8    7    6   5    4   3    2   1   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 занимают в памяти компьютера 1, 2 или 4 байта, при этом самый левый (старший) разряд содержит информацию о знаке числа. Знак «+» кодируется 0, а «-» -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байтовом формате значения от -128 до 12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ухбайтовом формате зна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-32 768 до 32 76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тырёхбайтовом формате значения от -2 147 483 648 д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147 483 64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411280" y="2349360"/>
            <a:ext cx="3456000" cy="431640"/>
            <a:chOff x="2411280" y="2349360"/>
            <a:chExt cx="3456000" cy="431640"/>
          </a:xfrm>
        </p:grpSpPr>
        <p:sp>
          <p:nvSpPr>
            <p:cNvPr id="222" name="Rectangle 5"/>
            <p:cNvSpPr/>
            <p:nvPr/>
          </p:nvSpPr>
          <p:spPr>
            <a:xfrm>
              <a:off x="2411280" y="2349360"/>
              <a:ext cx="431640" cy="43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284292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327492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370656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457164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413856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5003640" y="2349360"/>
              <a:ext cx="43164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435280" y="2349360"/>
              <a:ext cx="432000" cy="431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Line 13"/>
          <p:cNvSpPr/>
          <p:nvPr/>
        </p:nvSpPr>
        <p:spPr>
          <a:xfrm flipV="1">
            <a:off x="2556000" y="2852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2360" y="3141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к числа «+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ые числа со знак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пьютерной технике применяются три формы записи (кодирования) целых отрицательных чисел: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ямо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обратный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д, </a:t>
            </a: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дополнитель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1:55:53Z</dcterms:created>
  <dc:creator>Customer</dc:creator>
  <dc:description/>
  <dc:language>en-US</dc:language>
  <cp:lastModifiedBy>Алла</cp:lastModifiedBy>
  <dcterms:modified xsi:type="dcterms:W3CDTF">2012-01-04T06:49:20Z</dcterms:modified>
  <cp:revision>7</cp:revision>
  <dc:subject/>
  <dc:title>Кодирование числовой информации.</dc:title>
</cp:coreProperties>
</file>