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5DA-0154-44DA-A821-1D9F28B2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693-E8C6-41D3-A533-B273B709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D45-F127-491D-A784-554475B1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E0D-CE9E-4B78-9FA0-509962FC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DAC-EF0D-406C-BD66-EE29613D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19F-9CDF-42F7-9786-F8B29994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B60-1B80-4ADE-BD18-C5A84848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6CE-55CA-4CD8-8B95-64118948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ED2-1A66-4739-9D7B-8890D312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7BB-C448-45AA-84E3-7FF3B6C1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9A0-6954-4257-884C-BF91D19A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BFF-0B4B-436B-8EAD-66D8DC8D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4349-6124-4057-8B52-CDF14D361F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57720" y="435780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итель информатики лицея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ё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>
            <a:stCxn id="51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3"/>
          <p:cNvCxnSpPr>
            <a:endCxn id="46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>
            <a:endCxn id="48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37"/>
          <p:cNvCxnSpPr>
            <a:endCxn id="49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51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stCxn id="77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>
            <a:endCxn id="73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0"/>
          <p:cNvCxnSpPr>
            <a:endCxn id="75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>
            <a:stCxn id="83" idx="4"/>
            <a:endCxn id="77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0"/>
          <p:cNvCxnSpPr>
            <a:endCxn id="84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2"/>
          <p:cNvCxnSpPr>
            <a:stCxn id="100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5"/>
          <p:cNvCxnSpPr>
            <a:stCxn id="100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>
            <a:endCxn id="100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0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1"/>
          <p:cNvCxnSpPr>
            <a:stCxn id="99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6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7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sp>
        <p:nvSpPr>
          <p:cNvPr id="123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кабинет информатики</cp:lastModifiedBy>
  <dcterms:modified xsi:type="dcterms:W3CDTF">2011-12-16T13:25:25Z</dcterms:modified>
  <cp:revision>18</cp:revision>
  <dc:subject/>
  <dc:title>Операторные скобки Сложные условия</dc:title>
</cp:coreProperties>
</file>