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38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0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5"/>
          </p:nvPr>
        </p:nvSpPr>
        <p:spPr>
          <a:xfrm>
            <a:off x="-360" y="8685000"/>
            <a:ext cx="297036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D1B7FB-3573-48C9-9274-D4A01D04BE9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DejaVu Sans"/>
              </a:rPr>
              <a:t>Подсчитать, сколько места будет занимать одна минута цифрового стереозвука с частотой 44.1 кГц и разрядностью 16 би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Решени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исло каналов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Длительность звучания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 60 се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астота дискретизации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 44,1 * 1 000 = 44 100 Гц (44 100 1/сек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Разрядность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16 бит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Информационный объем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 2 * 60 * 44 100 * 16 = 84 672 000 бит = 10 584байт ≈ 10 Мб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DejaVu Sans"/>
              </a:rPr>
              <a:t>Подсчитать, сколько места будет занимать две минуты цифрового стереозвука с частотой 11 кГц и разрядностью 16 би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Решени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исло каналов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Длительность звучания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 2 * 60 = 120 се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астота дискретизации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11 * 1 000 = 11 000 Гц (11 000 1/сек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Разрядность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16 би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Информационный объем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 2 * 120 * 11 000 * 16 = 42 240 000 бит = 5 280 000байт ≈ 5 Мб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DejaVu Sans"/>
              </a:rPr>
              <a:t>Подсчитать, сколько места будет занимать семь минут цифрового монозвука с частотой 22 кГц и разрядностью 8 би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Решени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исло каналов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Длительность звучания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7 * 60 = 420 се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астота дискретизации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22 * 1 000 = 22 000 Гц (22 000 1/сек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Разрядность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8 би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Информационный объем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 1 * 420 * 22 000 * 8 = 73 920 000 бит = 9 240 000 байт ≈ 8,8 Мб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DejaVu Sans"/>
              </a:rPr>
              <a:t>Подсчитать, сколько места будет занимать три минуты цифрового стереозвука с частотой 32 кГц и разрядностью 8 би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Решени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исло каналов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Длительность звучания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 3 * 60 = 180 се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астота дискретизации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 32 * 1 000 = 32 000 Гц (32 000 1/сек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Разрядность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8 би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Информационный объем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 2 * 180 * 32 000 * 8 = 92 160 000 бит = 11 520 000 байт ≈ 11 Мб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DejaVu Sans"/>
              </a:rPr>
              <a:t>Какой объем данных имеет моноаудиофайл, длительность звучания которого 1 секунда, при среднем качестве звука (16 бит, 24 кГц)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Решени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исло каналов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Длительность звучания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 1 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астота дискретизации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 24 * 1 000 = 24 000 Гц (24 000 1/сек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Разрядность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 16 би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Информационный объем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 1 * 1 * 24 000 * 16 = 384 000 бит = 48 000 байт ≈ 47 кб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DejaVu Sans"/>
              </a:rPr>
              <a:t>Рассчитайте объем стереоаудиофайла длительностью 20 секунд при 20-битном кодировании и частоте дискредитации 44.1 кГц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Решени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исло каналов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Длительность звучания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 20 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астота дискретизации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 44,1 * 1 000 = 44 100 Гц (44 100 1/сек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Разрядность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 20 би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Информационный объем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 2 * 20 * 44 100 * 20 = 35 280 000 бит = 4 410 000 байт ≈ 4,2 Мб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Определите количество уровней звукового сигнала при использовании 8-битных звуковых карт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Решени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Количество возможных уровней громкости сигнал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N = 2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  <a:ea typeface="DejaVu Sans"/>
              </a:rPr>
              <a:t>I</a:t>
            </a:r>
            <a:r>
              <a:rPr b="0" lang="ru-RU" sz="1200" spc="-1" strike="noStrike" baseline="30000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N = 2</a:t>
            </a:r>
            <a:r>
              <a:rPr b="0" lang="ru-RU" sz="1200" spc="-1" strike="noStrike" baseline="30000">
                <a:solidFill>
                  <a:srgbClr val="000000"/>
                </a:solidFill>
                <a:latin typeface="Arial"/>
                <a:ea typeface="DejaVu Sans"/>
              </a:rPr>
              <a:t>8 </a:t>
            </a: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N =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25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Ответ: а. 256 уровне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Подсчитать объем файла с 10 минутной речью записанного с частотой дискретизации 11025 Гц и разрядностью кода 4 бита на 1 измерение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Решение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3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исло каналов: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  речь принято записывать в режиме моно (1 канал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3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Длительность звучания: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  10 * 60 = 600 сек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3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астота дискретизации: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  11 025 Гц (11 025 1/сек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3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Разрядность: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  4 бит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3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Информационный объем: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  1 * 600 * 11 025 * 4 = 26 460 000 бит = 3 307 500 байт ≈ 3,15 Мб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Ответ = 3,154277 Мбай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Подсчитать время звучания звукового файла объемом 3.5 Мбайт, содержащего стереозапись с частотой дискретизации 44 100 Гц и разрядностью кода 16 бит на 1 измерени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Решение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3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исло каналов: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  2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3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Длительность звучания: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  Х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3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астота дискретизации: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br>
              <a:rPr sz="1300"/>
            </a:b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44 100 Гц (44 100 1/сек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3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Разрядность: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  16 бит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3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Информационный объем: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2 * Х * 44 100 * 16 = 3,5 (Мб) </a:t>
            </a:r>
            <a:br>
              <a:rPr sz="13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DejaVu Sans"/>
              </a:rPr>
              <a:t>1 411 200*Х = 29 360 12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DejaVu Sans"/>
              </a:rPr>
              <a:t>Х = 20,8 (сек)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Ответ= 20,805 се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3. В распоряжении пользователя имеется память объемом 2,6 Мб. Необходимо записать цифровой аудиофайл с длительностью звучания 1 минута. Какой должна быть частота дискретизации и разрядность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Решение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Решение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3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исло каналов: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  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DejaVu Sans"/>
              </a:rPr>
              <a:t>X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. Пусть Х=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3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Длительность звучания: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  60 сек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3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астота дискретизации: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DejaVu Sans"/>
              </a:rPr>
              <a:t> 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3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Разрядность: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 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DejaVu Sans"/>
              </a:rPr>
              <a:t>Z (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8 или 16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DejaVu Sans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3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Информационный объем: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DejaVu Sans"/>
              </a:rPr>
              <a:t>2,6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Мб =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DejaVu Sans"/>
              </a:rPr>
              <a:t>21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DejaVu Sans"/>
              </a:rPr>
              <a:t>810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DejaVu Sans"/>
              </a:rPr>
              <a:t>38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DejaVu Sans"/>
              </a:rPr>
              <a:t>1 бит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1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DejaVu Sans"/>
              </a:rPr>
              <a:t> * 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60 *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DejaVu Sans"/>
              </a:rPr>
              <a:t>Y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 *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DejaVu Sans"/>
              </a:rPr>
              <a:t>Z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 =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DejaVu Sans"/>
              </a:rPr>
              <a:t>21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DejaVu Sans"/>
              </a:rPr>
              <a:t>810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DejaVu Sans"/>
              </a:rPr>
              <a:t>38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DejaVu Sans"/>
              </a:rPr>
              <a:t>1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br>
              <a:rPr sz="13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DejaVu Sans"/>
              </a:rPr>
              <a:t>YZ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DejaVu Sans"/>
              </a:rPr>
              <a:t> = 36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DejaVu Sans"/>
              </a:rPr>
              <a:t>506,3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При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Y=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8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 Z=45438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Гц = 45,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4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кГц ≈ 44,1 кГц (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standard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При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Y=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8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 Z=22719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Гц =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22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,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72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кГц ≈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22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,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05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кГц (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standard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Объем свободной памяти на диске — 5,25 Мб, разрядность звуковой платы — 16. Какова длительность звучания цифрового аудиофайла, записанного с частотой дискретизации 22,05 кГц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Решение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3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исло каналов: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  </a:t>
            </a:r>
            <a:br>
              <a:rPr sz="1300"/>
            </a:b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неизвестно, принимаем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3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Длительность звучания: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  Х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3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астота дискретизации: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br>
              <a:rPr sz="1300"/>
            </a:b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22,05 * 1 000 = 22 500 Гц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3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Разрядность: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  16 бит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3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Информационный объем: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5,25 Мб =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DejaVu Sans"/>
              </a:rPr>
              <a:t>44 040 192 би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1 * Х * 22500 * 16 = 5,25 (Мб) </a:t>
            </a:r>
            <a:br>
              <a:rPr sz="13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DejaVu Sans"/>
              </a:rPr>
              <a:t>360 000*Х = 44 040 19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DejaVu Sans"/>
              </a:rPr>
              <a:t>Х = 122,3 (сек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Одна минута записи цифрового аудиофайла занимает на диске 1,3 Мб, разрядность звуковой платы — 8. С какой частотой дискретизации записан звук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Решение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Решени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исло каналов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X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. Пусть Х=1</a:t>
            </a: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Длительность звучания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 60 сек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астота дискретизации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 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Разрядность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8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би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Информационный объем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1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*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60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*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Y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*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8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=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1,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3 (Мб) </a:t>
            </a:r>
            <a:br>
              <a:rPr sz="12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DejaVu Sans"/>
              </a:rPr>
              <a:t>480Y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 =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1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905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19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(бит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Х 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Arial"/>
              </a:rPr>
              <a:t>≈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 22 719 (бит/сек)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ru-RU" sz="13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 Х 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Arial"/>
              </a:rPr>
              <a:t>≈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 22,05 кБит/сек (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DejaVu Sans"/>
              </a:rPr>
              <a:t>st.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20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4134600"/>
            <a:ext cx="822816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20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134600"/>
            <a:ext cx="401508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3520" y="4134600"/>
            <a:ext cx="401508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20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4134600"/>
            <a:ext cx="264924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280" y="4134600"/>
            <a:ext cx="264924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1360" y="4134600"/>
            <a:ext cx="264924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30332-39DC-4C7A-868C-BE8B29493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20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8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8C137-D02A-40B0-9044-F2A5C143F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20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8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49B8A-FAA4-4611-864C-57E546B32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20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8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8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94731-5C64-4994-AA80-D59D97EC2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20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0E68F-9DE7-437D-A88D-C60E72363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8160" cy="933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388DF-1E40-4E5F-B20F-112D64D6A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20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8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134600"/>
            <a:ext cx="401508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D3609-4CB5-4725-8D8F-7F7D361FC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20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8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20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8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520" y="4134600"/>
            <a:ext cx="401508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A479B-E990-4773-A510-76237AC01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20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134600"/>
            <a:ext cx="822816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DD6B0-A1EC-4E84-A048-1F493EFCF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20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134600"/>
            <a:ext cx="822816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CC6A0-1AE2-4D41-8562-6080F2294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20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134600"/>
            <a:ext cx="401508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520" y="4134600"/>
            <a:ext cx="401508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C1181-7958-48AC-B797-D77DA9A85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20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134600"/>
            <a:ext cx="264924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280" y="4134600"/>
            <a:ext cx="264924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1360" y="4134600"/>
            <a:ext cx="264924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13FBC-3141-4FFF-9962-0B48FB4EE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20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8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20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8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8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20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8160" cy="933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20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8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4134600"/>
            <a:ext cx="401508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20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8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3520" y="4134600"/>
            <a:ext cx="401508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20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134600"/>
            <a:ext cx="822816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20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8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68360" y="6597720"/>
            <a:ext cx="8229600" cy="144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040" y="1523880"/>
            <a:ext cx="762156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457200" y="6243480"/>
            <a:ext cx="21319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123720" y="6243480"/>
            <a:ext cx="289404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2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1B78378C-353B-4E1E-99EA-5FFEBD2FCB2F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981080" y="3962520"/>
            <a:ext cx="6512040" cy="144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3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5000" spc="-1" strike="noStrike">
                <a:solidFill>
                  <a:srgbClr val="006633"/>
                </a:solidFill>
                <a:latin typeface="Garamond"/>
              </a:rPr>
              <a:t>Кодирование звука</a:t>
            </a:r>
            <a:endParaRPr b="1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ременная дискретизация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6633"/>
                </a:solidFill>
                <a:latin typeface="Garamond"/>
              </a:rPr>
              <a:t>Вопрос: назовите основные характеристики цифрового звука</a:t>
            </a:r>
            <a:endParaRPr b="1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ru-RU" sz="2900" spc="-1" strike="noStrike" u="sng">
                <a:solidFill>
                  <a:srgbClr val="996600"/>
                </a:solidFill>
                <a:uFillTx/>
                <a:latin typeface="Arial"/>
              </a:rPr>
              <a:t>Частота дискретизации</a:t>
            </a:r>
            <a:br>
              <a:rPr sz="2900"/>
            </a:b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(количество «ступенек» на единицу длины оси абсцисс)</a:t>
            </a:r>
            <a:br>
              <a:rPr sz="2900"/>
            </a:b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Определяет высоту тона звука</a:t>
            </a:r>
            <a:br>
              <a:rPr sz="2900"/>
            </a:b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Измеряется в 1/сек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ru-RU" sz="2900" spc="-1" strike="noStrike" u="sng">
                <a:solidFill>
                  <a:srgbClr val="996600"/>
                </a:solidFill>
                <a:uFillTx/>
                <a:latin typeface="Arial"/>
              </a:rPr>
              <a:t>Глубина дискретизации</a:t>
            </a: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900"/>
            </a:b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(на сколько частей может быть разбита одна «ступенька» на графике в высоту)</a:t>
            </a:r>
            <a:br>
              <a:rPr sz="2900"/>
            </a:b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Определяет громкость звука</a:t>
            </a:r>
            <a:br>
              <a:rPr sz="2900"/>
            </a:b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Измеряется в битах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rcRect l="6832" t="17537" r="40045" b="48029"/>
          <a:stretch/>
        </p:blipFill>
        <p:spPr>
          <a:xfrm>
            <a:off x="1190520" y="4005360"/>
            <a:ext cx="6912000" cy="251928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6633"/>
                </a:solidFill>
                <a:latin typeface="Garamond"/>
              </a:rPr>
              <a:t>Качество оцифрованного звука</a:t>
            </a:r>
            <a:endParaRPr b="1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Чем больше величина </a:t>
            </a: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частоты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глубины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дискретизации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, тем более близким к аналоговому сигналу будет приближаться цифровой звук, и тем выше будет качество звук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1185840" y="4125960"/>
            <a:ext cx="6700680" cy="2257200"/>
            <a:chOff x="1185840" y="4125960"/>
            <a:chExt cx="6700680" cy="2257200"/>
          </a:xfrm>
        </p:grpSpPr>
        <p:sp>
          <p:nvSpPr>
            <p:cNvPr id="131" name=""/>
            <p:cNvSpPr/>
            <p:nvPr/>
          </p:nvSpPr>
          <p:spPr>
            <a:xfrm flipH="1">
              <a:off x="1329840" y="6381720"/>
              <a:ext cx="655668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 flipH="1">
              <a:off x="1338120" y="6334200"/>
              <a:ext cx="652320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 flipH="1">
              <a:off x="1338120" y="6281640"/>
              <a:ext cx="6523200" cy="1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1336680" y="6230880"/>
              <a:ext cx="6523200" cy="1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1336680" y="6178680"/>
              <a:ext cx="652320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 flipH="1">
              <a:off x="1336680" y="6132600"/>
              <a:ext cx="652320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 flipH="1">
              <a:off x="1336680" y="6080040"/>
              <a:ext cx="6523200" cy="1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>
              <a:off x="1336680" y="6027840"/>
              <a:ext cx="652320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flipH="1">
              <a:off x="1336680" y="5975280"/>
              <a:ext cx="6523200" cy="1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1329840" y="5923080"/>
              <a:ext cx="655668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flipH="1">
              <a:off x="1338120" y="5875200"/>
              <a:ext cx="6523200" cy="1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 flipH="1">
              <a:off x="1338120" y="5823000"/>
              <a:ext cx="652320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1336680" y="5772240"/>
              <a:ext cx="652320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>
              <a:off x="1336680" y="5719680"/>
              <a:ext cx="6523200" cy="1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flipH="1">
              <a:off x="1336680" y="5673600"/>
              <a:ext cx="6523200" cy="1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 flipH="1">
              <a:off x="1336680" y="5621400"/>
              <a:ext cx="652320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 flipH="1">
              <a:off x="1336680" y="5568840"/>
              <a:ext cx="6523200" cy="1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 flipH="1">
              <a:off x="1336680" y="5516640"/>
              <a:ext cx="652320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 flipH="1">
              <a:off x="1322280" y="5467320"/>
              <a:ext cx="655632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flipH="1">
              <a:off x="1330200" y="5419800"/>
              <a:ext cx="652320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flipH="1">
              <a:off x="1330200" y="5367240"/>
              <a:ext cx="6523200" cy="1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>
              <a:off x="1328400" y="5316480"/>
              <a:ext cx="6522840" cy="1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1328400" y="5264280"/>
              <a:ext cx="652284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 flipH="1">
              <a:off x="1328400" y="5218200"/>
              <a:ext cx="652284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 flipH="1">
              <a:off x="1328400" y="5165640"/>
              <a:ext cx="6522840" cy="1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 flipH="1">
              <a:off x="1328400" y="5113440"/>
              <a:ext cx="652284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>
              <a:off x="1328400" y="5060880"/>
              <a:ext cx="6522840" cy="1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29840" y="4997520"/>
              <a:ext cx="655668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1338120" y="4950000"/>
              <a:ext cx="652320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1338120" y="4897440"/>
              <a:ext cx="652320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 flipH="1">
              <a:off x="1336680" y="4846680"/>
              <a:ext cx="652320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>
              <a:off x="1336680" y="4794120"/>
              <a:ext cx="6523200" cy="1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 flipH="1">
              <a:off x="1336680" y="4748040"/>
              <a:ext cx="6523200" cy="1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 flipH="1">
              <a:off x="1336680" y="4695840"/>
              <a:ext cx="652320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1336680" y="4643280"/>
              <a:ext cx="6523200" cy="1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1336680" y="4591080"/>
              <a:ext cx="652320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1185840" y="4532400"/>
              <a:ext cx="655632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1193760" y="4484520"/>
              <a:ext cx="6523200" cy="1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1193760" y="4432320"/>
              <a:ext cx="652320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1191960" y="4381560"/>
              <a:ext cx="652284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1191960" y="4329000"/>
              <a:ext cx="6522840" cy="1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1191960" y="4282920"/>
              <a:ext cx="6522840" cy="1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>
              <a:off x="1191960" y="4230720"/>
              <a:ext cx="652284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>
              <a:off x="1191960" y="4178160"/>
              <a:ext cx="6522840" cy="1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>
              <a:off x="1191960" y="4125960"/>
              <a:ext cx="652284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6" name=""/>
          <p:cNvSpPr/>
          <p:nvPr/>
        </p:nvSpPr>
        <p:spPr>
          <a:xfrm flipV="1">
            <a:off x="1332000" y="3552840"/>
            <a:ext cx="1440" cy="281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335240" y="6370560"/>
            <a:ext cx="676584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dur="indefinite" fill="hold">
                      <p:stCondLst>
                        <p:cond delay="indefinite"/>
                      </p:stCondLst>
                      <p:childTnLst>
                        <p:par>
                          <p:cTn id="9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 fill="hold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 fill="hold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 fill="hold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6633"/>
                </a:solidFill>
                <a:latin typeface="Garamond"/>
              </a:rPr>
              <a:t>Качество оцифрованного звука</a:t>
            </a:r>
            <a:endParaRPr b="1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овокупная характеристика качества цифрового звука – профессиональный термин звукорежиссеров и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J’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ев – </a:t>
            </a:r>
            <a:r>
              <a:rPr b="1" i="1" lang="ru-RU" sz="3000" spc="-1" strike="noStrike">
                <a:solidFill>
                  <a:srgbClr val="000000"/>
                </a:solidFill>
                <a:latin typeface="Arial"/>
              </a:rPr>
              <a:t>битрейт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, представляет собой произведение количества каналов на частоту и на глубину дискретизации 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Измеряется: бит </a:t>
            </a:r>
            <a:r>
              <a:rPr b="0" lang="ru-RU" sz="3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1/сек = бит/сек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6633"/>
                </a:solidFill>
                <a:latin typeface="Garamond"/>
              </a:rPr>
              <a:t>Качество оцифрованного звука</a:t>
            </a:r>
            <a:endParaRPr b="1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амое низкое качество цифрового звука (качество телефонной связи) соответствует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8 000 измерений в секунду (1/сек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8 бит глубины звука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дин канал (моно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Битрейт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ru-RU" sz="3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8 </a:t>
            </a:r>
            <a:r>
              <a:rPr b="0" lang="ru-RU" sz="3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8000 = 64000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= 62,5 кбит/се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6633"/>
                </a:solidFill>
                <a:latin typeface="Garamond"/>
              </a:rPr>
              <a:t>Качество оцифрованного звука</a:t>
            </a:r>
            <a:endParaRPr b="1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амое высокое качество цифрового звука (аудио-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D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) соответствует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48 000 измерений в секунду (1/сек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бит глубины звука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Два канала (стерео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Битрейт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48 000 </a:t>
            </a:r>
            <a:r>
              <a:rPr b="0" lang="ru-RU" sz="3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16 </a:t>
            </a:r>
            <a:r>
              <a:rPr b="0" lang="ru-RU" sz="3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2 = 1 536 000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≈ 1,5 Мбит/се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Современные аудиосистемы кроме стерео поддерживают т.н. </a:t>
            </a:r>
            <a:r>
              <a:rPr b="1" i="1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квадрозвук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 – 4 канал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Информационный объем </a:t>
            </a:r>
            <a:br>
              <a:rPr sz="3800"/>
            </a:b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звукового файла</a:t>
            </a:r>
            <a:endParaRPr b="1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Чем выше качество звука, тем больше требуется дискового пространства для его хранения и оперативной памяти для его обработки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Информационный объем определяется как произведение глубины и частоты дискретизации на длительность воспроизведения и на количество канало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или произведение битрейта на длительность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Пример 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пределить информационный объем 5-секундной стереозвуковой дорожки с глубиной кодирования 16 бит и частотой дискретизации 24 000 1/с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3000" spc="-1" strike="noStrike" u="sng">
                <a:solidFill>
                  <a:srgbClr val="000000"/>
                </a:solidFill>
                <a:uFillTx/>
                <a:latin typeface="Arial"/>
              </a:rPr>
              <a:t>Решение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16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бит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 24 000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1/сек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 5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ек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 2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(канала)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3 840 000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бит = 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468,75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кБ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Программное обеспечение для работы со звуком</a:t>
            </a:r>
            <a:endParaRPr b="1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Различают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spcBef>
                <a:spcPts val="8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Средства записи звука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spcBef>
                <a:spcPts val="8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Звуковые редакторы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spcBef>
                <a:spcPts val="8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Плееры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3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Хранение цифрового звука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85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8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В виде </a:t>
            </a:r>
            <a:r>
              <a:rPr b="1" i="1" lang="ru-RU" sz="3400" spc="-1" strike="noStrike">
                <a:solidFill>
                  <a:srgbClr val="000000"/>
                </a:solidFill>
                <a:latin typeface="Arial"/>
              </a:rPr>
              <a:t>аудиотреков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 на аудио-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D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8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В виде звуковых файлов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85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Хранение цифрового звука</a:t>
            </a: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.</a:t>
            </a:r>
            <a:br>
              <a:rPr sz="3800"/>
            </a:b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Audio Track</a:t>
            </a:r>
            <a:endParaRPr b="1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Аудиотрек представляет собой формат записи звука в виде непрерывного цифрового потока. 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Аналогично звуковым дорожкам на виниловых дисках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Звук хранится без сжатия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Аудиодорожка воспринимается компьютером, как файл с расширением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*.cda (Compact Disk Audio)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. Он хорошо воспроизводится плеером, но его нельзя скопировать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54000" y="2076480"/>
            <a:ext cx="7434360" cy="3355920"/>
          </a:xfrm>
          <a:custGeom>
            <a:avLst/>
            <a:gdLst/>
            <a:ahLst/>
            <a:rect l="l" t="t" r="r" b="b"/>
            <a:pathLst>
              <a:path w="4683" h="2114">
                <a:moveTo>
                  <a:pt x="0" y="1157"/>
                </a:moveTo>
                <a:cubicBezTo>
                  <a:pt x="54" y="989"/>
                  <a:pt x="201" y="0"/>
                  <a:pt x="322" y="158"/>
                </a:cubicBezTo>
                <a:cubicBezTo>
                  <a:pt x="473" y="183"/>
                  <a:pt x="526" y="2100"/>
                  <a:pt x="729" y="2107"/>
                </a:cubicBezTo>
                <a:cubicBezTo>
                  <a:pt x="932" y="2114"/>
                  <a:pt x="950" y="411"/>
                  <a:pt x="1076" y="418"/>
                </a:cubicBezTo>
                <a:cubicBezTo>
                  <a:pt x="1202" y="425"/>
                  <a:pt x="1185" y="1608"/>
                  <a:pt x="1271" y="1608"/>
                </a:cubicBezTo>
                <a:cubicBezTo>
                  <a:pt x="1357" y="1608"/>
                  <a:pt x="1372" y="896"/>
                  <a:pt x="1508" y="903"/>
                </a:cubicBezTo>
                <a:cubicBezTo>
                  <a:pt x="1644" y="910"/>
                  <a:pt x="1666" y="1526"/>
                  <a:pt x="1739" y="1548"/>
                </a:cubicBezTo>
                <a:cubicBezTo>
                  <a:pt x="1819" y="1571"/>
                  <a:pt x="1863" y="819"/>
                  <a:pt x="1961" y="831"/>
                </a:cubicBezTo>
                <a:cubicBezTo>
                  <a:pt x="2059" y="844"/>
                  <a:pt x="2123" y="1616"/>
                  <a:pt x="2219" y="1616"/>
                </a:cubicBezTo>
                <a:cubicBezTo>
                  <a:pt x="2315" y="1616"/>
                  <a:pt x="2413" y="480"/>
                  <a:pt x="2535" y="476"/>
                </a:cubicBezTo>
                <a:cubicBezTo>
                  <a:pt x="2657" y="471"/>
                  <a:pt x="2759" y="1915"/>
                  <a:pt x="2897" y="1914"/>
                </a:cubicBezTo>
                <a:cubicBezTo>
                  <a:pt x="3035" y="1913"/>
                  <a:pt x="3119" y="980"/>
                  <a:pt x="3231" y="976"/>
                </a:cubicBezTo>
                <a:cubicBezTo>
                  <a:pt x="3343" y="972"/>
                  <a:pt x="3346" y="1362"/>
                  <a:pt x="3413" y="1366"/>
                </a:cubicBezTo>
                <a:cubicBezTo>
                  <a:pt x="3480" y="1370"/>
                  <a:pt x="3494" y="1050"/>
                  <a:pt x="3555" y="1052"/>
                </a:cubicBezTo>
                <a:cubicBezTo>
                  <a:pt x="3616" y="1053"/>
                  <a:pt x="3640" y="1252"/>
                  <a:pt x="3685" y="1258"/>
                </a:cubicBezTo>
                <a:cubicBezTo>
                  <a:pt x="3730" y="1265"/>
                  <a:pt x="3807" y="1081"/>
                  <a:pt x="3867" y="1081"/>
                </a:cubicBezTo>
                <a:cubicBezTo>
                  <a:pt x="3927" y="1081"/>
                  <a:pt x="3945" y="1241"/>
                  <a:pt x="4048" y="1258"/>
                </a:cubicBezTo>
                <a:cubicBezTo>
                  <a:pt x="4151" y="1276"/>
                  <a:pt x="4305" y="1045"/>
                  <a:pt x="4411" y="1045"/>
                </a:cubicBezTo>
                <a:cubicBezTo>
                  <a:pt x="4517" y="1045"/>
                  <a:pt x="4626" y="1214"/>
                  <a:pt x="4683" y="1258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55640" y="3921120"/>
            <a:ext cx="77770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946080" y="1700280"/>
            <a:ext cx="1800" cy="4465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3348000" y="2715840"/>
            <a:ext cx="1800" cy="11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067280" y="2715840"/>
            <a:ext cx="1440" cy="11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48000" y="2887560"/>
            <a:ext cx="71928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48000" y="249228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844760" y="3036960"/>
            <a:ext cx="60696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932360" y="2832120"/>
            <a:ext cx="36003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88360" y="2832120"/>
            <a:ext cx="1440" cy="1071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6633"/>
                </a:solidFill>
                <a:latin typeface="Garamond"/>
              </a:rPr>
              <a:t>Непрерывная звуковая волна</a:t>
            </a:r>
            <a:endParaRPr b="1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2140920" y="1185840"/>
            <a:ext cx="3600360" cy="916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2057" y="2667"/>
                </a:moveTo>
                <a:lnTo>
                  <a:pt x="24638" y="2667"/>
                </a:lnTo>
                <a:lnTo>
                  <a:pt x="24638" y="23415"/>
                </a:lnTo>
                <a:lnTo>
                  <a:pt x="13538" y="38766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ина волны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личина обратная частоте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ем она больше, тем звук ниж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4213080" y="5265720"/>
            <a:ext cx="4322880" cy="642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381" y="3793"/>
                </a:moveTo>
                <a:lnTo>
                  <a:pt x="-2214" y="3793"/>
                </a:lnTo>
                <a:lnTo>
                  <a:pt x="-2214" y="-18018"/>
                </a:lnTo>
                <a:lnTo>
                  <a:pt x="766" y="-62006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мплитуда колебаний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ем она больше, тем звук громч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 fill="hold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" dur="500" fill="hold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0" fill="hold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 fill="hold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00" fill="hold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 fill="hold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 fill="hold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 fill="hold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500" fill="hold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 fill="hold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dur="indefinite" fill="hold">
                      <p:stCondLst>
                        <p:cond delay="indefinite"/>
                      </p:stCondLst>
                      <p:childTnLst>
                        <p:par>
                          <p:cTn id="4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 fill="hold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dur="indefinite" fill="hold">
                      <p:stCondLst>
                        <p:cond delay="indefinite"/>
                      </p:stCondLst>
                      <p:childTnLst>
                        <p:par>
                          <p:cTn id="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 fill="hold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Хранение цифрового звука.</a:t>
            </a:r>
            <a:br>
              <a:rPr sz="3800"/>
            </a:b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Звуковые файлы</a:t>
            </a:r>
            <a:endParaRPr b="1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Наиболее распространенные форматы звуковых файлов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av (wave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ma (Windows Media Audio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id (midi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p3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и др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Из них только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av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хранит несжатый звук, все остальные используют сжат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3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Сжатие звуковой информации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и сохранении звука в форматах со сжатием происходит отбрасывание не воспринимаемых человеческим ухом частот с малой амплитудой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жатие до десятков раз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отеря информации, что может привести к ухудшению качества звук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Работа со сжатым звуком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и работе со сжатым звуком файл сначала распаковывается и только потом поступает на обработку плеером или редактором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Для распаковки/сжатия аудио применяются специальные программы </a:t>
            </a:r>
            <a:r>
              <a:rPr b="1" i="1" lang="ru-RU" sz="3000" spc="-1" strike="noStrike">
                <a:solidFill>
                  <a:srgbClr val="000000"/>
                </a:solidFill>
                <a:latin typeface="Arial"/>
              </a:rPr>
              <a:t>аудиокодеки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udio </a:t>
            </a:r>
            <a:r>
              <a:rPr b="1" lang="en-US" sz="3000" spc="-1" strike="noStrike">
                <a:solidFill>
                  <a:srgbClr val="996600"/>
                </a:solidFill>
                <a:latin typeface="Arial"/>
              </a:rPr>
              <a:t>Co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r/</a:t>
            </a:r>
            <a:r>
              <a:rPr b="1" lang="en-US" sz="3000" spc="-1" strike="noStrike">
                <a:solidFill>
                  <a:srgbClr val="996600"/>
                </a:solidFill>
                <a:latin typeface="Arial"/>
              </a:rPr>
              <a:t>Dec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der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Задание 1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Звуковая плата производит кодирование аналогового звукового сигнала. Какое количество информации необходимо для кодирования каждого из 65 536 возможных уровней громкости сигнала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3000" spc="-1" strike="noStrike" u="sng">
                <a:solidFill>
                  <a:srgbClr val="000000"/>
                </a:solidFill>
                <a:uFillTx/>
                <a:latin typeface="Arial"/>
              </a:rPr>
              <a:t>Решение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400" spc="-1" strike="noStrike" baseline="30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= 65 536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400" spc="-1" strike="noStrike" baseline="30000">
                <a:solidFill>
                  <a:srgbClr val="000000"/>
                </a:solidFill>
                <a:latin typeface="Arial"/>
              </a:rPr>
              <a:t>16 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= 65 536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I = 16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dur="indefinite" fill="hold">
                      <p:stCondLst>
                        <p:cond delay="indefinite"/>
                      </p:stCondLst>
                      <p:childTnLst>
                        <p:par>
                          <p:cTn id="10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dur="indefinite" fill="hold">
                      <p:stCondLst>
                        <p:cond delay="indefinite"/>
                      </p:stCondLst>
                      <p:childTnLst>
                        <p:par>
                          <p:cTn id="1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dur="indefinite" fill="hold">
                      <p:stCondLst>
                        <p:cond delay="indefinite"/>
                      </p:stCondLst>
                      <p:childTnLst>
                        <p:par>
                          <p:cTn id="12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dur="indefinite" fill="hold">
                      <p:stCondLst>
                        <p:cond delay="indefinite"/>
                      </p:stCondLst>
                      <p:childTnLst>
                        <p:par>
                          <p:cTn id="13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dur="indefinite" fill="hold">
                      <p:stCondLst>
                        <p:cond delay="indefinite"/>
                      </p:stCondLst>
                      <p:childTnLst>
                        <p:par>
                          <p:cTn id="13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Задание 2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50752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2800" indent="0">
              <a:spcBef>
                <a:spcPts val="751"/>
              </a:spcBef>
              <a:buNone/>
              <a:tabLst>
                <a:tab algn="l" pos="0"/>
                <a:tab algn="l" pos="1012680"/>
                <a:tab algn="l" pos="1927080"/>
                <a:tab algn="l" pos="2841480"/>
                <a:tab algn="l" pos="3755880"/>
                <a:tab algn="l" pos="4670280"/>
                <a:tab algn="l" pos="5584680"/>
                <a:tab algn="l" pos="6499080"/>
                <a:tab algn="l" pos="7413480"/>
                <a:tab algn="l" pos="8327880"/>
                <a:tab algn="l" pos="9242280"/>
                <a:tab algn="l" pos="1015668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пределить информационный объем 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10-секундной звуковой дорожки при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42800" indent="-441360"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lphaLcPeriod"/>
              <a:tabLst>
                <a:tab algn="l" pos="1012680"/>
                <a:tab algn="l" pos="1927080"/>
                <a:tab algn="l" pos="2841480"/>
                <a:tab algn="l" pos="3755880"/>
                <a:tab algn="l" pos="4670280"/>
                <a:tab algn="l" pos="5584680"/>
                <a:tab algn="l" pos="6499080"/>
                <a:tab algn="l" pos="7413480"/>
                <a:tab algn="l" pos="8327880"/>
                <a:tab algn="l" pos="9242280"/>
                <a:tab algn="l" pos="1015668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Моно, 8 бит, 8 000 измерени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42800" indent="-441360"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lphaLcPeriod"/>
              <a:tabLst>
                <a:tab algn="l" pos="1012680"/>
                <a:tab algn="l" pos="1927080"/>
                <a:tab algn="l" pos="2841480"/>
                <a:tab algn="l" pos="3755880"/>
                <a:tab algn="l" pos="4670280"/>
                <a:tab algn="l" pos="5584680"/>
                <a:tab algn="l" pos="6499080"/>
                <a:tab algn="l" pos="7413480"/>
                <a:tab algn="l" pos="8327880"/>
                <a:tab algn="l" pos="9242280"/>
                <a:tab algn="l" pos="1015668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терео, 16 бит, 48 000 измерени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42800" indent="0">
              <a:spcBef>
                <a:spcPts val="751"/>
              </a:spcBef>
              <a:buNone/>
              <a:tabLst>
                <a:tab algn="l" pos="0"/>
                <a:tab algn="l" pos="1012680"/>
                <a:tab algn="l" pos="1927080"/>
                <a:tab algn="l" pos="2841480"/>
                <a:tab algn="l" pos="3755880"/>
                <a:tab algn="l" pos="4670280"/>
                <a:tab algn="l" pos="5584680"/>
                <a:tab algn="l" pos="6499080"/>
                <a:tab algn="l" pos="7413480"/>
                <a:tab algn="l" pos="8327880"/>
                <a:tab algn="l" pos="9242280"/>
                <a:tab algn="l" pos="10156680"/>
                <a:tab algn="l" pos="10333080"/>
                <a:tab algn="l" pos="10782360"/>
              </a:tabLst>
            </a:pPr>
            <a:r>
              <a:rPr b="1" i="1" lang="ru-RU" sz="3000" spc="-1" strike="noStrike" u="sng">
                <a:solidFill>
                  <a:srgbClr val="000000"/>
                </a:solidFill>
                <a:uFillTx/>
                <a:latin typeface="Arial"/>
              </a:rPr>
              <a:t>Решение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42800" indent="-441360"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lphaLcPeriod"/>
              <a:tabLst>
                <a:tab algn="l" pos="1012680"/>
                <a:tab algn="l" pos="1927080"/>
                <a:tab algn="l" pos="2841480"/>
                <a:tab algn="l" pos="3755880"/>
                <a:tab algn="l" pos="4670280"/>
                <a:tab algn="l" pos="5584680"/>
                <a:tab algn="l" pos="6499080"/>
                <a:tab algn="l" pos="7413480"/>
                <a:tab algn="l" pos="8327880"/>
                <a:tab algn="l" pos="9242280"/>
                <a:tab algn="l" pos="1015668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ru-RU" sz="3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8 </a:t>
            </a:r>
            <a:r>
              <a:rPr b="0" lang="ru-RU" sz="3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8 000 </a:t>
            </a:r>
            <a:r>
              <a:rPr b="0" lang="ru-RU" sz="3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10 = 640 000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= 78,1 (кБ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42800" indent="-441360"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lphaLcPeriod"/>
              <a:tabLst>
                <a:tab algn="l" pos="1012680"/>
                <a:tab algn="l" pos="1927080"/>
                <a:tab algn="l" pos="2841480"/>
                <a:tab algn="l" pos="3755880"/>
                <a:tab algn="l" pos="4670280"/>
                <a:tab algn="l" pos="5584680"/>
                <a:tab algn="l" pos="6499080"/>
                <a:tab algn="l" pos="7413480"/>
                <a:tab algn="l" pos="8327880"/>
                <a:tab algn="l" pos="9242280"/>
                <a:tab algn="l" pos="1015668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16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48 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10 = 15 360 000 = 1,83 (МБ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dur="indefinite" fill="hold">
                      <p:stCondLst>
                        <p:cond delay="indefinite"/>
                      </p:stCondLst>
                      <p:childTnLst>
                        <p:par>
                          <p:cTn id="16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dur="indefinite" fill="hold">
                      <p:stCondLst>
                        <p:cond delay="indefinite"/>
                      </p:stCondLst>
                      <p:childTnLst>
                        <p:par>
                          <p:cTn id="16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dur="indefinite" fill="hold">
                      <p:stCondLst>
                        <p:cond delay="indefinite"/>
                      </p:stCondLst>
                      <p:childTnLst>
                        <p:par>
                          <p:cTn id="17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dur="indefinite" fill="hold">
                      <p:stCondLst>
                        <p:cond delay="indefinite"/>
                      </p:stCondLst>
                      <p:childTnLst>
                        <p:par>
                          <p:cTn id="18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dur="indefinite" fill="hold">
                      <p:stCondLst>
                        <p:cond delay="indefinite"/>
                      </p:stCondLst>
                      <p:childTnLst>
                        <p:par>
                          <p:cTn id="18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dur="indefinite" fill="hold">
                      <p:stCondLst>
                        <p:cond delay="indefinite"/>
                      </p:stCondLst>
                      <p:childTnLst>
                        <p:par>
                          <p:cTn id="19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*Задание 3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50920" y="1599840"/>
            <a:ext cx="864216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1141560"/>
                <a:tab algn="l" pos="2055960"/>
                <a:tab algn="l" pos="2970360"/>
                <a:tab algn="l" pos="3884760"/>
                <a:tab algn="l" pos="4799160"/>
                <a:tab algn="l" pos="5713560"/>
                <a:tab algn="l" pos="6627960"/>
                <a:tab algn="l" pos="7542360"/>
                <a:tab algn="l" pos="8456760"/>
                <a:tab algn="l" pos="9371160"/>
                <a:tab algn="l" pos="102855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пределить длительность звукового файла, который может уместиться на дискете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3,5’’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1141560"/>
                <a:tab algn="l" pos="2055960"/>
                <a:tab algn="l" pos="2970360"/>
                <a:tab algn="l" pos="3884760"/>
                <a:tab algn="l" pos="4799160"/>
                <a:tab algn="l" pos="5713560"/>
                <a:tab algn="l" pos="6627960"/>
                <a:tab algn="l" pos="7542360"/>
                <a:tab algn="l" pos="8456760"/>
                <a:tab algn="l" pos="9371160"/>
                <a:tab algn="l" pos="1028556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1141560"/>
                <a:tab algn="l" pos="2055960"/>
                <a:tab algn="l" pos="2970360"/>
                <a:tab algn="l" pos="3884760"/>
                <a:tab algn="l" pos="4799160"/>
                <a:tab algn="l" pos="5713560"/>
                <a:tab algn="l" pos="6627960"/>
                <a:tab algn="l" pos="7542360"/>
                <a:tab algn="l" pos="8456760"/>
                <a:tab algn="l" pos="9371160"/>
                <a:tab algn="l" pos="102855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Учесть, что для хранения данных на дискете доступно 2 847 секторов, объемом 512 байт каждый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0240"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lphaLcPeriod"/>
              <a:tabLst>
                <a:tab algn="l" pos="1141560"/>
                <a:tab algn="l" pos="2055960"/>
                <a:tab algn="l" pos="2970360"/>
                <a:tab algn="l" pos="3884760"/>
                <a:tab algn="l" pos="4799160"/>
                <a:tab algn="l" pos="5713560"/>
                <a:tab algn="l" pos="6627960"/>
                <a:tab algn="l" pos="7542360"/>
                <a:tab algn="l" pos="8456760"/>
                <a:tab algn="l" pos="9371160"/>
                <a:tab algn="l" pos="102855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Моно, 8 бит, 8 000 измерени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0240"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lphaLcPeriod"/>
              <a:tabLst>
                <a:tab algn="l" pos="1141560"/>
                <a:tab algn="l" pos="2055960"/>
                <a:tab algn="l" pos="2970360"/>
                <a:tab algn="l" pos="3884760"/>
                <a:tab algn="l" pos="4799160"/>
                <a:tab algn="l" pos="5713560"/>
                <a:tab algn="l" pos="6627960"/>
                <a:tab algn="l" pos="7542360"/>
                <a:tab algn="l" pos="8456760"/>
                <a:tab algn="l" pos="9371160"/>
                <a:tab algn="l" pos="102855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терео, 16 бит, 48 000 измерени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dur="indefinite" fill="hold">
                      <p:stCondLst>
                        <p:cond delay="0"/>
                      </p:stCondLst>
                      <p:childTnLst>
                        <p:par>
                          <p:cTn id="20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 fill="hold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dur="indefinite" fill="hold">
                      <p:stCondLst>
                        <p:cond delay="indefinite"/>
                      </p:stCondLst>
                      <p:childTnLst>
                        <p:par>
                          <p:cTn id="21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dur="indefinite" fill="hold">
                      <p:stCondLst>
                        <p:cond delay="indefinite"/>
                      </p:stCondLst>
                      <p:childTnLst>
                        <p:par>
                          <p:cTn id="2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dur="indefinite" fill="hold">
                      <p:stCondLst>
                        <p:cond delay="indefinite"/>
                      </p:stCondLst>
                      <p:childTnLst>
                        <p:par>
                          <p:cTn id="2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dur="indefinite" fill="hold">
                      <p:stCondLst>
                        <p:cond delay="indefinite"/>
                      </p:stCondLst>
                      <p:childTnLst>
                        <p:par>
                          <p:cTn id="22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*Задание 3. Решение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468360" y="1916280"/>
          <a:ext cx="8291520" cy="4065480"/>
        </p:xfrm>
        <a:graphic>
          <a:graphicData uri="http://schemas.openxmlformats.org/drawingml/2006/table">
            <a:tbl>
              <a:tblPr/>
              <a:tblGrid>
                <a:gridCol w="585720"/>
                <a:gridCol w="1069920"/>
                <a:gridCol w="398520"/>
                <a:gridCol w="1197000"/>
                <a:gridCol w="276120"/>
                <a:gridCol w="1379520"/>
                <a:gridCol w="1800360"/>
                <a:gridCol w="1584360"/>
              </a:tblGrid>
              <a:tr h="760320">
                <a:tc gridSpan="2">
                  <a:txBody>
                    <a:bodyPr lIns="90000" rIns="90000" tIns="644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ектор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644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ъем сектор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644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местимость дискеты, би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60680">
                <a:tc gridSpan="2">
                  <a:txBody>
                    <a:bodyPr lIns="90000" rIns="90000" tIns="69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847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69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2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69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847 </a:t>
                      </a: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</a:t>
                      </a: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512 </a:t>
                      </a: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</a:t>
                      </a: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8 = 11 661 312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3000">
                <a:tc gridSpan="8">
                  <a:txBody>
                    <a:bodyPr lIns="90000" rIns="90000" tIns="69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99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3000">
                <a:tc>
                  <a:txBody>
                    <a:bodyPr lIns="90000" rIns="90000" tIns="69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налов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луби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асто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итрей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лит-ть, се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58880">
                <a:tc>
                  <a:txBody>
                    <a:bodyPr lIns="90000" rIns="90000" tIns="69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)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69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9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69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00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9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 00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9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2,2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59600">
                <a:tc>
                  <a:txBody>
                    <a:bodyPr lIns="90000" rIns="90000" tIns="69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)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69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9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69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 00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9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536 00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9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6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dur="indefinite" fill="hold">
                      <p:stCondLst>
                        <p:cond delay="indefinite"/>
                      </p:stCondLst>
                      <p:childTnLst>
                        <p:par>
                          <p:cTn id="2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2000" fill="hold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Задание 4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Подсчитать, сколько места будет занимать одна минута цифрового стереозвука с частотой 44.1 кГц и разрядностью 16 бит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43280" y="1484280"/>
            <a:ext cx="417672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Решени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исло каналов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Длительность звучания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60 сек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астота дискретизации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44,1 * 1 000 = 44 100 Гц (44 100 1/сек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Разрядность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16 би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Информационный объем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2 * 60 * 44 100 * 16 =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= 84 672 000 бит =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= 10 584байт ≈ 10 Мб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dur="indefinite" fill="hold">
                      <p:stCondLst>
                        <p:cond delay="indefinite"/>
                      </p:stCondLst>
                      <p:childTnLst>
                        <p:par>
                          <p:cTn id="23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6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1000" fill="hold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dur="indefinite" fill="hold">
                      <p:stCondLst>
                        <p:cond delay="indefinite"/>
                      </p:stCondLst>
                      <p:childTnLst>
                        <p:par>
                          <p:cTn id="24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3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0" fill="hold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Задание 5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Подсчитать, сколько места будет занимать две минуты цифрового стереозвука с частотой 11 кГц и разрядностью 16 бит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42920" y="1484280"/>
            <a:ext cx="42498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Решени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исло каналов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Длительность звучания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2 * 60 = 120 сек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астота дискретизации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11 * 1 000 =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= 11 000 Гц (11 000 1/сек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Разрядность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16 би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Информационный объем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2 * 120 * 11 000 * 16 =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= 42 240 000 бит =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= 5 280 000байт ≈ 5 Мб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dur="indefinite" fill="hold">
                      <p:stCondLst>
                        <p:cond delay="indefinite"/>
                      </p:stCondLst>
                      <p:childTnLst>
                        <p:par>
                          <p:cTn id="25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2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1000" fill="hold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dur="indefinite" fill="hold">
                      <p:stCondLst>
                        <p:cond delay="indefinite"/>
                      </p:stCondLst>
                      <p:childTnLst>
                        <p:par>
                          <p:cTn id="25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9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000" fill="hold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Задание 6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Подсчитать, сколько места будет занимать семь минут цифрового монозвука с частотой 22 кГц и разрядностью 8 бит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42920" y="1484280"/>
            <a:ext cx="42498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Решени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исло каналов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Длительность звучания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7 * 60 = 420 сек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астота дискретизации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22 * 1 000 =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= 22 000 Гц (22 000 1/сек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Разрядность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8 би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Информационный объем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1 * 420 * 22 000 * 8 =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= 73 920 000 бит =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= 9 240 000 байт ≈ 8,8 Мб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dur="indefinite" fill="hold">
                      <p:stCondLst>
                        <p:cond delay="indefinite"/>
                      </p:stCondLst>
                      <p:childTnLst>
                        <p:par>
                          <p:cTn id="26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8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 fill="hold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dur="indefinite" fill="hold">
                      <p:stCondLst>
                        <p:cond delay="indefinite"/>
                      </p:stCondLst>
                      <p:childTnLst>
                        <p:par>
                          <p:cTn id="27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5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6633"/>
                </a:solidFill>
                <a:latin typeface="Garamond"/>
              </a:rPr>
              <a:t>Основные характеристики звука</a:t>
            </a:r>
            <a:endParaRPr b="1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3556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5560"/>
                <a:tab algn="l" pos="1839960"/>
                <a:tab algn="l" pos="2754360"/>
                <a:tab algn="l" pos="3668760"/>
                <a:tab algn="l" pos="4583160"/>
                <a:tab algn="l" pos="5497560"/>
                <a:tab algn="l" pos="6411960"/>
                <a:tab algn="l" pos="7326360"/>
                <a:tab algn="l" pos="8240760"/>
                <a:tab algn="l" pos="9155160"/>
                <a:tab algn="l" pos="100695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Длина волны и частота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5680" indent="0" algn="ctr">
              <a:lnSpc>
                <a:spcPct val="100000"/>
              </a:lnSpc>
              <a:spcBef>
                <a:spcPts val="950"/>
              </a:spcBef>
              <a:buNone/>
              <a:tabLst>
                <a:tab algn="l" pos="0"/>
                <a:tab algn="l" pos="925560"/>
                <a:tab algn="l" pos="1839960"/>
                <a:tab algn="l" pos="2754360"/>
                <a:tab algn="l" pos="3668760"/>
                <a:tab algn="l" pos="4583160"/>
                <a:tab algn="l" pos="5497560"/>
                <a:tab algn="l" pos="6411960"/>
                <a:tab algn="l" pos="7326360"/>
                <a:tab algn="l" pos="8240760"/>
                <a:tab algn="l" pos="9155160"/>
                <a:tab algn="l" pos="10069560"/>
                <a:tab algn="l" pos="10333080"/>
                <a:tab algn="l" pos="10782360"/>
              </a:tabLst>
            </a:pPr>
            <a:r>
              <a:rPr b="1" i="1" lang="en-US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ru-RU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/</a:t>
            </a:r>
            <a:r>
              <a:rPr b="1" i="1" lang="el-GR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υ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25560"/>
                <a:tab algn="l" pos="1839960"/>
                <a:tab algn="l" pos="2754360"/>
                <a:tab algn="l" pos="3668760"/>
                <a:tab algn="l" pos="4583160"/>
                <a:tab algn="l" pos="5497560"/>
                <a:tab algn="l" pos="6411960"/>
                <a:tab algn="l" pos="7326360"/>
                <a:tab algn="l" pos="8240760"/>
                <a:tab algn="l" pos="9155160"/>
                <a:tab algn="l" pos="100695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Чем больше длина волны, тем меньше частота. 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Измеряется в количестве колебаний в секунду </a:t>
            </a: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/сек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5560"/>
                <a:tab algn="l" pos="1839960"/>
                <a:tab algn="l" pos="2754360"/>
                <a:tab algn="l" pos="3668760"/>
                <a:tab algn="l" pos="4583160"/>
                <a:tab algn="l" pos="5497560"/>
                <a:tab algn="l" pos="6411960"/>
                <a:tab algn="l" pos="7326360"/>
                <a:tab algn="l" pos="8240760"/>
                <a:tab algn="l" pos="9155160"/>
                <a:tab algn="l" pos="100695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Амплитуда колебаний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25560"/>
                <a:tab algn="l" pos="1839960"/>
                <a:tab algn="l" pos="2754360"/>
                <a:tab algn="l" pos="3668760"/>
                <a:tab algn="l" pos="4583160"/>
                <a:tab algn="l" pos="5497560"/>
                <a:tab algn="l" pos="6411960"/>
                <a:tab algn="l" pos="7326360"/>
                <a:tab algn="l" pos="8240760"/>
                <a:tab algn="l" pos="9155160"/>
                <a:tab algn="l" pos="100695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Соответствует громкости звука. 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Громкость измеряется в </a:t>
            </a:r>
            <a:r>
              <a:rPr b="1" i="1" lang="ru-RU" sz="2600" spc="-1" strike="noStrike">
                <a:solidFill>
                  <a:srgbClr val="000000"/>
                </a:solidFill>
                <a:latin typeface="Times New Roman"/>
              </a:rPr>
              <a:t>децибелах (дБ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Задание 7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Подсчитать, сколько места будет занимать три минуты цифрового стереозвука с частотой 32 кГц и разрядностью 8 бит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42920" y="1484280"/>
            <a:ext cx="42498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Решени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исло каналов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Длительность звучания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3 * 60 = 180 сек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астота дискретизации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32 * 1 000 =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= 32 000 Гц (32 000 1/сек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Разрядность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8 би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Информационный объем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2 * 180 * 32 000 * 8 =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= 92 160 000 бит =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= 11 520 000 байт ≈ 11 Мб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600" spc="-1" strike="noStrike">
                <a:solidFill>
                  <a:srgbClr val="006633"/>
                </a:solidFill>
                <a:latin typeface="Garamond"/>
              </a:rPr>
              <a:t>Задание 8</a:t>
            </a:r>
            <a:endParaRPr b="1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338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Какой объем данных имеет моноаудиофайл, длительность звучания которого 1 секунда, при среднем качестве звука (16 бит, 24 кГц)?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498920" y="1484280"/>
            <a:ext cx="450072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Решени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исло каналов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Длительность звучания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 1 с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астота дискретизации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24 * 1 000 =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= 24 000 Гц (24 000 1/сек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Разрядность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 16 би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Информационный объем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1 * 1 * 24 000 * 16 =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= 384 000 бит =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= 48 000 байт ≈ 47 кб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600" spc="-1" strike="noStrike">
                <a:solidFill>
                  <a:srgbClr val="006633"/>
                </a:solidFill>
                <a:latin typeface="Garamond"/>
              </a:rPr>
              <a:t>Задание 9</a:t>
            </a:r>
            <a:endParaRPr b="1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338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Рассчитайте объем стереоаудиофайла длительностью 20 секунд при 20-битном кодировании и частоте дискредитации 44.1 кГц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498920" y="1484280"/>
            <a:ext cx="417672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Решени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исло каналов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Длительность звучания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 20 с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астота дискретизации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44,1 * 1 000 =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= 44 100 Гц (44 100 1/сек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Разрядность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 20 би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Информационный объем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2 * 20 * 44 100 * 20 =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= 35 280 000 бит =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= 4 410 000 байт ≈ 4,2 Мб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dur="indefinite" fill="hold">
                      <p:stCondLst>
                        <p:cond delay="indefinite"/>
                      </p:stCondLst>
                      <p:childTnLst>
                        <p:par>
                          <p:cTn id="28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84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 fill="hold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dur="indefinite" fill="hold">
                      <p:stCondLst>
                        <p:cond delay="indefinite"/>
                      </p:stCondLst>
                      <p:childTnLst>
                        <p:par>
                          <p:cTn id="29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1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1000" fill="hold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600" spc="-1" strike="noStrike">
                <a:solidFill>
                  <a:srgbClr val="006633"/>
                </a:solidFill>
                <a:latin typeface="Garamond"/>
              </a:rPr>
              <a:t>Задание 10</a:t>
            </a:r>
            <a:endParaRPr b="1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1004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пределите количество уровней звукового сигнала при использовании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8-битных звуковых кар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498920" y="1484280"/>
            <a:ext cx="417672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DejaVu Sans"/>
              </a:rPr>
              <a:t>Решение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DejaVu Sans"/>
              </a:rPr>
              <a:t>Количество возможных уровней громкости сигнал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DejaVu Sans"/>
              </a:rPr>
              <a:t>N = 2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  <a:ea typeface="DejaVu Sans"/>
              </a:rPr>
              <a:t>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DejaVu Sans"/>
              </a:rPr>
              <a:t>N = 2</a:t>
            </a:r>
            <a:r>
              <a:rPr b="0" lang="ru-RU" sz="2600" spc="-1" strike="noStrike" baseline="30000">
                <a:solidFill>
                  <a:srgbClr val="000000"/>
                </a:solidFill>
                <a:latin typeface="Arial"/>
                <a:ea typeface="DejaVu Sans"/>
              </a:rPr>
              <a:t>8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DejaVu Sans"/>
              </a:rPr>
              <a:t>N =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DejaVu Sans"/>
              </a:rPr>
              <a:t>256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DejaVu Sans"/>
              </a:rPr>
              <a:t>Ответ: а. 256 уровней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dur="indefinite" fill="hold">
                      <p:stCondLst>
                        <p:cond delay="indefinite"/>
                      </p:stCondLst>
                      <p:childTnLst>
                        <p:par>
                          <p:cTn id="29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00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1000" fill="hold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dur="indefinite" fill="hold">
                      <p:stCondLst>
                        <p:cond delay="indefinite"/>
                      </p:stCondLst>
                      <p:childTnLst>
                        <p:par>
                          <p:cTn id="30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07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1000" fill="hold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600" spc="-1" strike="noStrike">
                <a:solidFill>
                  <a:srgbClr val="006633"/>
                </a:solidFill>
                <a:latin typeface="Garamond"/>
              </a:rPr>
              <a:t>Задание 11</a:t>
            </a:r>
            <a:endParaRPr b="1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338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считать объем файла с 10 минутной речью записанного с частотой дискретизации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1 025 Гц и разрядностью кода 4 бита на 1 измер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498920" y="1484280"/>
            <a:ext cx="417672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Решени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исло каналов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речь принято записывать в режиме моно (1 канал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Длительность звучания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10 * 60 = 600 сек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астота дискретизации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11 025 Гц (11 025 1/сек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Разрядность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 4 би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Информационный объем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1 * 600 * 11 025 * 4 =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= 26 460 000 бит =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= 3 307 500 байт ≈ 3,15 Мб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dur="indefinite" fill="hold">
                      <p:stCondLst>
                        <p:cond delay="indefinite"/>
                      </p:stCondLst>
                      <p:childTnLst>
                        <p:par>
                          <p:cTn id="31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16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1000" fill="hold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dur="indefinite" fill="hold">
                      <p:stCondLst>
                        <p:cond delay="indefinite"/>
                      </p:stCondLst>
                      <p:childTnLst>
                        <p:par>
                          <p:cTn id="32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23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1000" fill="hold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600" spc="-1" strike="noStrike">
                <a:solidFill>
                  <a:srgbClr val="006633"/>
                </a:solidFill>
                <a:latin typeface="Garamond"/>
              </a:rPr>
              <a:t>Задание 12</a:t>
            </a:r>
            <a:endParaRPr b="1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338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считать время звучания звукового файла объемом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,5 Мбайт, содержащего стереозапись с частотой дискретизации 44 100 Гц и разрядностью кода 16 бит на 1 измер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498920" y="1484280"/>
            <a:ext cx="450072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Решени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исло каналов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 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Длительность звучания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 Х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астота дискретизации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44 100 Гц (44 100 1/сек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Разрядность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 16 би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Информационный объем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2 * Х * 44 100 * 16 = 3,5 (Мб) </a:t>
            </a:r>
            <a:br>
              <a:rPr sz="22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DejaVu Sans"/>
              </a:rPr>
              <a:t>1 411 200*Х = 29 360 12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DejaVu Sans"/>
              </a:rPr>
              <a:t>Х = 20,8 (сек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dur="indefinite" fill="hold">
                      <p:stCondLst>
                        <p:cond delay="indefinite"/>
                      </p:stCondLst>
                      <p:childTnLst>
                        <p:par>
                          <p:cTn id="33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2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1000" fill="hold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dur="indefinite" fill="hold">
                      <p:stCondLst>
                        <p:cond delay="indefinite"/>
                      </p:stCondLst>
                      <p:childTnLst>
                        <p:par>
                          <p:cTn id="3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9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1000" fill="hold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0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6633"/>
                </a:solidFill>
                <a:latin typeface="Garamond"/>
              </a:rPr>
              <a:t>Задание 13</a:t>
            </a:r>
            <a:endParaRPr b="1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168200"/>
            <a:ext cx="4033800" cy="369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распоряжении пользователя имеется память объемом 2,6 Мб. Необходимо записать цифровой аудиофайл с длительностью звучания 1 минута. Какой должна быть частота дискретизации и разрядност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498560" y="1160640"/>
            <a:ext cx="464508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Решени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исло каналов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DejaVu Sans"/>
              </a:rPr>
              <a:t>X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. Пусть Х=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Длительность звучания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60 сек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астота дискретизации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DejaVu Sans"/>
              </a:rPr>
              <a:t> 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Разрядность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DejaVu Sans"/>
              </a:rPr>
              <a:t>Z (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8 или 16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DejaVu Sans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Информационный объем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DejaVu Sans"/>
              </a:rPr>
              <a:t>2,6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Мб =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DejaVu Sans"/>
              </a:rPr>
              <a:t>2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DejaVu Sans"/>
              </a:rPr>
              <a:t>81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DejaVu Sans"/>
              </a:rPr>
              <a:t>38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DejaVu Sans"/>
              </a:rPr>
              <a:t>1 бит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DejaVu Sans"/>
              </a:rPr>
              <a:t> *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60 *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DejaVu Sans"/>
              </a:rPr>
              <a:t>Y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*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DejaVu Sans"/>
              </a:rPr>
              <a:t>Z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DejaVu Sans"/>
              </a:rPr>
              <a:t>2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DejaVu Sans"/>
              </a:rPr>
              <a:t>81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DejaVu Sans"/>
              </a:rPr>
              <a:t>38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DejaVu Sans"/>
              </a:rPr>
              <a:t>1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br>
              <a:rPr sz="22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DejaVu Sans"/>
              </a:rPr>
              <a:t>YZ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DejaVu Sans"/>
              </a:rPr>
              <a:t> = 36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DejaVu Sans"/>
              </a:rPr>
              <a:t>506,3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8360" y="5013360"/>
            <a:ext cx="853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ри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=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Z=45438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Гц = 45,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кГц ≈ 44,1 кГц 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ndard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ри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=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Z=22719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Гц =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2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72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кГц ≈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2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5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кГц 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ndard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dur="indefinite" fill="hold">
                      <p:stCondLst>
                        <p:cond delay="indefinite"/>
                      </p:stCondLst>
                      <p:childTnLst>
                        <p:par>
                          <p:cTn id="34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48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1000" fill="hold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dur="indefinite" fill="hold">
                      <p:stCondLst>
                        <p:cond delay="indefinite"/>
                      </p:stCondLst>
                      <p:childTnLst>
                        <p:par>
                          <p:cTn id="35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55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1000" fill="hold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dur="indefinite" fill="hold">
                      <p:stCondLst>
                        <p:cond delay="indefinite"/>
                      </p:stCondLst>
                      <p:childTnLst>
                        <p:par>
                          <p:cTn id="36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62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10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dur="indefinite" fill="hold">
                      <p:stCondLst>
                        <p:cond delay="indefinite"/>
                      </p:stCondLst>
                      <p:childTnLst>
                        <p:par>
                          <p:cTn id="36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69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1000" fill="hold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dur="indefinite" fill="hold">
                      <p:stCondLst>
                        <p:cond delay="indefinite"/>
                      </p:stCondLst>
                      <p:childTnLst>
                        <p:par>
                          <p:cTn id="37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76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10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600" spc="-1" strike="noStrike">
                <a:solidFill>
                  <a:srgbClr val="006633"/>
                </a:solidFill>
                <a:latin typeface="Garamond"/>
              </a:rPr>
              <a:t>Задание14</a:t>
            </a:r>
            <a:endParaRPr b="1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338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ъем свободной памяти на диск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,25 Мб, разрядность звуковой платы 16. Какова длительность звучания цифрового аудиофайла, записанного с частотой дискретизац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2,05 кГц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462200" y="1484280"/>
            <a:ext cx="450036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Решени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исло каналов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неизвестно, принимаем 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Длительность звучания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 Х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астота дискретизации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22,05 * 1 000 = 22 500 Гц </a:t>
            </a: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Разрядность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 16 би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Информационный объем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5,25 Мб =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DejaVu Sans"/>
              </a:rPr>
              <a:t>44 040 192 би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1 * Х * 22500 * 16 = 5,25 (Мб) </a:t>
            </a:r>
            <a:br>
              <a:rPr sz="22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DejaVu Sans"/>
              </a:rPr>
              <a:t>360 000*Х = 44 040 19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DejaVu Sans"/>
              </a:rPr>
              <a:t>Х = 122,3 (сек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dur="indefinite" fill="hold">
                      <p:stCondLst>
                        <p:cond delay="indefinite"/>
                      </p:stCondLst>
                      <p:childTnLst>
                        <p:par>
                          <p:cTn id="38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85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1000" fill="hold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dur="indefinite" fill="hold">
                      <p:stCondLst>
                        <p:cond delay="indefinite"/>
                      </p:stCondLst>
                      <p:childTnLst>
                        <p:par>
                          <p:cTn id="39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2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1000" fill="hold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600" spc="-1" strike="noStrike">
                <a:solidFill>
                  <a:srgbClr val="006633"/>
                </a:solidFill>
                <a:latin typeface="Garamond"/>
              </a:rPr>
              <a:t>Задание 12</a:t>
            </a:r>
            <a:endParaRPr b="1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338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дна минута записи цифрового аудиофайла занимает на диске 1,3 Мб, разрядность звуковой платы 8. С какой частотой дискретизации записан звук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462200" y="1483920"/>
            <a:ext cx="453708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Решени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исло каналов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DejaVu Sans"/>
              </a:rPr>
              <a:t>X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. Пусть Х=1</a:t>
            </a: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 Длительность звучания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60 сек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астота дискретизации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DejaVu Sans"/>
              </a:rPr>
              <a:t>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Разрядность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DejaVu Sans"/>
              </a:rPr>
              <a:t>8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би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Информационный объем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DejaVu Sans"/>
              </a:rPr>
              <a:t>1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*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DejaVu Sans"/>
              </a:rPr>
              <a:t>60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*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DejaVu Sans"/>
              </a:rPr>
              <a:t>Y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*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DejaVu Sans"/>
              </a:rPr>
              <a:t>8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=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DejaVu Sans"/>
              </a:rPr>
              <a:t>1,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3 (Мб) </a:t>
            </a:r>
            <a:br>
              <a:rPr sz="22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DejaVu Sans"/>
              </a:rPr>
              <a:t>480Y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DejaVu Sans"/>
              </a:rPr>
              <a:t> =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10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905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190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(бит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DejaVu Sans"/>
              </a:rPr>
              <a:t>Х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≈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DejaVu Sans"/>
              </a:rPr>
              <a:t> 22 719 (бит/сек) 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DejaVu Sans"/>
              </a:rPr>
              <a:t>Х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≈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DejaVu Sans"/>
              </a:rPr>
              <a:t> 22,05 кБит/сек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DejaVu Sans"/>
              </a:rPr>
              <a:t>st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DejaVu San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dur="indefinite" fill="hold">
                      <p:stCondLst>
                        <p:cond delay="indefinite"/>
                      </p:stCondLst>
                      <p:childTnLst>
                        <p:par>
                          <p:cTn id="40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01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1000" fill="hold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dur="indefinite" fill="hold">
                      <p:stCondLst>
                        <p:cond delay="indefinite"/>
                      </p:stCondLst>
                      <p:childTnLst>
                        <p:par>
                          <p:cTn id="40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08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1000" fill="hold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Громкость звука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457200" y="1600200"/>
          <a:ext cx="8229600" cy="4275000"/>
        </p:xfrm>
        <a:graphic>
          <a:graphicData uri="http://schemas.openxmlformats.org/drawingml/2006/table">
            <a:tbl>
              <a:tblPr/>
              <a:tblGrid>
                <a:gridCol w="6130800"/>
                <a:gridCol w="2098800"/>
              </a:tblGrid>
              <a:tr h="565200">
                <a:tc>
                  <a:txBody>
                    <a:bodyPr lIns="90000" rIns="90000" tIns="69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вук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9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ромкость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85600">
                <a:tc>
                  <a:txBody>
                    <a:bodyPr lIns="90000" rIns="90000" tIns="698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ижний предел чувствительности человеческого уха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9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дБ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698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орох листьев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9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дБ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698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говор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9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 дБ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698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удок автомобиля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9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 дБ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3760">
                <a:tc>
                  <a:txBody>
                    <a:bodyPr lIns="90000" rIns="90000" tIns="698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активный двигатель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9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 дБ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3400">
                <a:tc>
                  <a:txBody>
                    <a:bodyPr lIns="90000" rIns="90000" tIns="698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олевой порог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9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0 дБ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dur="indefinite" fill="hold">
                      <p:stCondLst>
                        <p:cond delay="0"/>
                      </p:stCondLst>
                      <p:childTnLst>
                        <p:par>
                          <p:cTn id="5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 fill="hold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rcRect l="6832" t="17537" r="40045" b="48029"/>
          <a:stretch/>
        </p:blipFill>
        <p:spPr>
          <a:xfrm>
            <a:off x="1190520" y="4005360"/>
            <a:ext cx="6912000" cy="251928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1332000" y="3876840"/>
            <a:ext cx="6535800" cy="2504880"/>
          </a:xfrm>
          <a:custGeom>
            <a:avLst/>
            <a:gdLst/>
            <a:ahLst/>
            <a:rect l="l" t="t" r="r" b="b"/>
            <a:pathLst>
              <a:path w="4117" h="1578">
                <a:moveTo>
                  <a:pt x="2" y="1571"/>
                </a:moveTo>
                <a:cubicBezTo>
                  <a:pt x="0" y="607"/>
                  <a:pt x="4" y="868"/>
                  <a:pt x="1" y="607"/>
                </a:cubicBezTo>
                <a:cubicBezTo>
                  <a:pt x="1" y="593"/>
                  <a:pt x="2" y="588"/>
                  <a:pt x="20" y="569"/>
                </a:cubicBezTo>
                <a:cubicBezTo>
                  <a:pt x="29" y="547"/>
                  <a:pt x="47" y="543"/>
                  <a:pt x="61" y="531"/>
                </a:cubicBezTo>
                <a:cubicBezTo>
                  <a:pt x="75" y="519"/>
                  <a:pt x="89" y="501"/>
                  <a:pt x="104" y="495"/>
                </a:cubicBezTo>
                <a:cubicBezTo>
                  <a:pt x="119" y="489"/>
                  <a:pt x="134" y="500"/>
                  <a:pt x="148" y="494"/>
                </a:cubicBezTo>
                <a:cubicBezTo>
                  <a:pt x="162" y="488"/>
                  <a:pt x="174" y="468"/>
                  <a:pt x="188" y="456"/>
                </a:cubicBezTo>
                <a:cubicBezTo>
                  <a:pt x="223" y="432"/>
                  <a:pt x="216" y="440"/>
                  <a:pt x="230" y="422"/>
                </a:cubicBezTo>
                <a:cubicBezTo>
                  <a:pt x="244" y="404"/>
                  <a:pt x="260" y="366"/>
                  <a:pt x="275" y="348"/>
                </a:cubicBezTo>
                <a:cubicBezTo>
                  <a:pt x="290" y="330"/>
                  <a:pt x="306" y="318"/>
                  <a:pt x="319" y="312"/>
                </a:cubicBezTo>
                <a:cubicBezTo>
                  <a:pt x="332" y="306"/>
                  <a:pt x="342" y="305"/>
                  <a:pt x="355" y="311"/>
                </a:cubicBezTo>
                <a:cubicBezTo>
                  <a:pt x="368" y="317"/>
                  <a:pt x="383" y="336"/>
                  <a:pt x="397" y="348"/>
                </a:cubicBezTo>
                <a:cubicBezTo>
                  <a:pt x="411" y="360"/>
                  <a:pt x="426" y="381"/>
                  <a:pt x="440" y="381"/>
                </a:cubicBezTo>
                <a:cubicBezTo>
                  <a:pt x="454" y="381"/>
                  <a:pt x="465" y="359"/>
                  <a:pt x="479" y="347"/>
                </a:cubicBezTo>
                <a:cubicBezTo>
                  <a:pt x="493" y="335"/>
                  <a:pt x="510" y="322"/>
                  <a:pt x="524" y="309"/>
                </a:cubicBezTo>
                <a:cubicBezTo>
                  <a:pt x="538" y="296"/>
                  <a:pt x="551" y="272"/>
                  <a:pt x="565" y="272"/>
                </a:cubicBezTo>
                <a:cubicBezTo>
                  <a:pt x="579" y="272"/>
                  <a:pt x="596" y="287"/>
                  <a:pt x="610" y="311"/>
                </a:cubicBezTo>
                <a:cubicBezTo>
                  <a:pt x="624" y="335"/>
                  <a:pt x="635" y="371"/>
                  <a:pt x="649" y="419"/>
                </a:cubicBezTo>
                <a:cubicBezTo>
                  <a:pt x="663" y="467"/>
                  <a:pt x="680" y="533"/>
                  <a:pt x="695" y="599"/>
                </a:cubicBezTo>
                <a:cubicBezTo>
                  <a:pt x="710" y="665"/>
                  <a:pt x="723" y="773"/>
                  <a:pt x="737" y="815"/>
                </a:cubicBezTo>
                <a:cubicBezTo>
                  <a:pt x="751" y="857"/>
                  <a:pt x="765" y="858"/>
                  <a:pt x="778" y="852"/>
                </a:cubicBezTo>
                <a:cubicBezTo>
                  <a:pt x="791" y="846"/>
                  <a:pt x="803" y="798"/>
                  <a:pt x="817" y="779"/>
                </a:cubicBezTo>
                <a:cubicBezTo>
                  <a:pt x="831" y="760"/>
                  <a:pt x="848" y="693"/>
                  <a:pt x="862" y="741"/>
                </a:cubicBezTo>
                <a:cubicBezTo>
                  <a:pt x="876" y="789"/>
                  <a:pt x="890" y="970"/>
                  <a:pt x="904" y="1067"/>
                </a:cubicBezTo>
                <a:cubicBezTo>
                  <a:pt x="918" y="1164"/>
                  <a:pt x="932" y="1321"/>
                  <a:pt x="946" y="1322"/>
                </a:cubicBezTo>
                <a:cubicBezTo>
                  <a:pt x="960" y="1323"/>
                  <a:pt x="973" y="1131"/>
                  <a:pt x="986" y="1070"/>
                </a:cubicBezTo>
                <a:cubicBezTo>
                  <a:pt x="999" y="1009"/>
                  <a:pt x="1010" y="963"/>
                  <a:pt x="1024" y="957"/>
                </a:cubicBezTo>
                <a:cubicBezTo>
                  <a:pt x="1038" y="951"/>
                  <a:pt x="1057" y="1013"/>
                  <a:pt x="1072" y="1031"/>
                </a:cubicBezTo>
                <a:cubicBezTo>
                  <a:pt x="1087" y="1049"/>
                  <a:pt x="1099" y="1070"/>
                  <a:pt x="1112" y="1064"/>
                </a:cubicBezTo>
                <a:cubicBezTo>
                  <a:pt x="1125" y="1058"/>
                  <a:pt x="1140" y="1031"/>
                  <a:pt x="1153" y="996"/>
                </a:cubicBezTo>
                <a:cubicBezTo>
                  <a:pt x="1166" y="961"/>
                  <a:pt x="1179" y="902"/>
                  <a:pt x="1193" y="854"/>
                </a:cubicBezTo>
                <a:cubicBezTo>
                  <a:pt x="1207" y="806"/>
                  <a:pt x="1221" y="755"/>
                  <a:pt x="1235" y="707"/>
                </a:cubicBezTo>
                <a:cubicBezTo>
                  <a:pt x="1249" y="659"/>
                  <a:pt x="1265" y="576"/>
                  <a:pt x="1280" y="564"/>
                </a:cubicBezTo>
                <a:cubicBezTo>
                  <a:pt x="1295" y="552"/>
                  <a:pt x="1310" y="618"/>
                  <a:pt x="1324" y="636"/>
                </a:cubicBezTo>
                <a:cubicBezTo>
                  <a:pt x="1338" y="654"/>
                  <a:pt x="1351" y="680"/>
                  <a:pt x="1364" y="674"/>
                </a:cubicBezTo>
                <a:cubicBezTo>
                  <a:pt x="1377" y="668"/>
                  <a:pt x="1391" y="618"/>
                  <a:pt x="1405" y="600"/>
                </a:cubicBezTo>
                <a:cubicBezTo>
                  <a:pt x="1419" y="582"/>
                  <a:pt x="1433" y="548"/>
                  <a:pt x="1447" y="566"/>
                </a:cubicBezTo>
                <a:cubicBezTo>
                  <a:pt x="1461" y="584"/>
                  <a:pt x="1475" y="624"/>
                  <a:pt x="1489" y="707"/>
                </a:cubicBezTo>
                <a:cubicBezTo>
                  <a:pt x="1503" y="790"/>
                  <a:pt x="1516" y="972"/>
                  <a:pt x="1531" y="1067"/>
                </a:cubicBezTo>
                <a:cubicBezTo>
                  <a:pt x="1546" y="1162"/>
                  <a:pt x="1565" y="1433"/>
                  <a:pt x="1579" y="1278"/>
                </a:cubicBezTo>
                <a:cubicBezTo>
                  <a:pt x="1593" y="1123"/>
                  <a:pt x="1603" y="260"/>
                  <a:pt x="1616" y="135"/>
                </a:cubicBezTo>
                <a:cubicBezTo>
                  <a:pt x="1629" y="10"/>
                  <a:pt x="1646" y="361"/>
                  <a:pt x="1660" y="528"/>
                </a:cubicBezTo>
                <a:cubicBezTo>
                  <a:pt x="1674" y="695"/>
                  <a:pt x="1687" y="1146"/>
                  <a:pt x="1700" y="1140"/>
                </a:cubicBezTo>
                <a:cubicBezTo>
                  <a:pt x="1713" y="1134"/>
                  <a:pt x="1727" y="528"/>
                  <a:pt x="1741" y="492"/>
                </a:cubicBezTo>
                <a:cubicBezTo>
                  <a:pt x="1755" y="456"/>
                  <a:pt x="1771" y="900"/>
                  <a:pt x="1786" y="924"/>
                </a:cubicBezTo>
                <a:cubicBezTo>
                  <a:pt x="1801" y="948"/>
                  <a:pt x="1815" y="710"/>
                  <a:pt x="1828" y="638"/>
                </a:cubicBezTo>
                <a:cubicBezTo>
                  <a:pt x="1841" y="566"/>
                  <a:pt x="1853" y="553"/>
                  <a:pt x="1867" y="492"/>
                </a:cubicBezTo>
                <a:cubicBezTo>
                  <a:pt x="1881" y="431"/>
                  <a:pt x="1895" y="278"/>
                  <a:pt x="1910" y="272"/>
                </a:cubicBezTo>
                <a:cubicBezTo>
                  <a:pt x="1925" y="266"/>
                  <a:pt x="1941" y="410"/>
                  <a:pt x="1955" y="459"/>
                </a:cubicBezTo>
                <a:cubicBezTo>
                  <a:pt x="1969" y="508"/>
                  <a:pt x="1982" y="540"/>
                  <a:pt x="1996" y="564"/>
                </a:cubicBezTo>
                <a:cubicBezTo>
                  <a:pt x="2010" y="588"/>
                  <a:pt x="2023" y="560"/>
                  <a:pt x="2038" y="602"/>
                </a:cubicBezTo>
                <a:cubicBezTo>
                  <a:pt x="2053" y="644"/>
                  <a:pt x="2070" y="776"/>
                  <a:pt x="2084" y="818"/>
                </a:cubicBezTo>
                <a:cubicBezTo>
                  <a:pt x="2098" y="860"/>
                  <a:pt x="2107" y="863"/>
                  <a:pt x="2120" y="857"/>
                </a:cubicBezTo>
                <a:cubicBezTo>
                  <a:pt x="2133" y="851"/>
                  <a:pt x="2147" y="801"/>
                  <a:pt x="2162" y="782"/>
                </a:cubicBezTo>
                <a:cubicBezTo>
                  <a:pt x="2177" y="763"/>
                  <a:pt x="2193" y="698"/>
                  <a:pt x="2207" y="746"/>
                </a:cubicBezTo>
                <a:cubicBezTo>
                  <a:pt x="2221" y="794"/>
                  <a:pt x="2231" y="974"/>
                  <a:pt x="2245" y="1070"/>
                </a:cubicBezTo>
                <a:cubicBezTo>
                  <a:pt x="2259" y="1166"/>
                  <a:pt x="2280" y="1323"/>
                  <a:pt x="2294" y="1323"/>
                </a:cubicBezTo>
                <a:cubicBezTo>
                  <a:pt x="2308" y="1323"/>
                  <a:pt x="2317" y="1128"/>
                  <a:pt x="2330" y="1068"/>
                </a:cubicBezTo>
                <a:cubicBezTo>
                  <a:pt x="2343" y="1008"/>
                  <a:pt x="2357" y="966"/>
                  <a:pt x="2371" y="960"/>
                </a:cubicBezTo>
                <a:cubicBezTo>
                  <a:pt x="2385" y="954"/>
                  <a:pt x="2399" y="1013"/>
                  <a:pt x="2413" y="1031"/>
                </a:cubicBezTo>
                <a:cubicBezTo>
                  <a:pt x="2427" y="1049"/>
                  <a:pt x="2444" y="1145"/>
                  <a:pt x="2458" y="1067"/>
                </a:cubicBezTo>
                <a:cubicBezTo>
                  <a:pt x="2472" y="989"/>
                  <a:pt x="2482" y="683"/>
                  <a:pt x="2495" y="564"/>
                </a:cubicBezTo>
                <a:cubicBezTo>
                  <a:pt x="2508" y="445"/>
                  <a:pt x="2525" y="393"/>
                  <a:pt x="2539" y="350"/>
                </a:cubicBezTo>
                <a:cubicBezTo>
                  <a:pt x="2553" y="307"/>
                  <a:pt x="2568" y="316"/>
                  <a:pt x="2582" y="309"/>
                </a:cubicBezTo>
                <a:cubicBezTo>
                  <a:pt x="2596" y="302"/>
                  <a:pt x="2609" y="302"/>
                  <a:pt x="2623" y="309"/>
                </a:cubicBezTo>
                <a:cubicBezTo>
                  <a:pt x="2637" y="316"/>
                  <a:pt x="2651" y="337"/>
                  <a:pt x="2665" y="350"/>
                </a:cubicBezTo>
                <a:cubicBezTo>
                  <a:pt x="2679" y="363"/>
                  <a:pt x="2694" y="387"/>
                  <a:pt x="2708" y="386"/>
                </a:cubicBezTo>
                <a:cubicBezTo>
                  <a:pt x="2722" y="385"/>
                  <a:pt x="2736" y="357"/>
                  <a:pt x="2750" y="345"/>
                </a:cubicBezTo>
                <a:cubicBezTo>
                  <a:pt x="2764" y="333"/>
                  <a:pt x="2778" y="326"/>
                  <a:pt x="2792" y="314"/>
                </a:cubicBezTo>
                <a:cubicBezTo>
                  <a:pt x="2806" y="302"/>
                  <a:pt x="2822" y="275"/>
                  <a:pt x="2836" y="275"/>
                </a:cubicBezTo>
                <a:cubicBezTo>
                  <a:pt x="2850" y="275"/>
                  <a:pt x="2861" y="288"/>
                  <a:pt x="2875" y="312"/>
                </a:cubicBezTo>
                <a:cubicBezTo>
                  <a:pt x="2889" y="336"/>
                  <a:pt x="2907" y="372"/>
                  <a:pt x="2921" y="420"/>
                </a:cubicBezTo>
                <a:cubicBezTo>
                  <a:pt x="2935" y="468"/>
                  <a:pt x="2947" y="534"/>
                  <a:pt x="2960" y="600"/>
                </a:cubicBezTo>
                <a:cubicBezTo>
                  <a:pt x="2973" y="666"/>
                  <a:pt x="2988" y="773"/>
                  <a:pt x="3002" y="815"/>
                </a:cubicBezTo>
                <a:cubicBezTo>
                  <a:pt x="3016" y="857"/>
                  <a:pt x="3030" y="894"/>
                  <a:pt x="3044" y="851"/>
                </a:cubicBezTo>
                <a:cubicBezTo>
                  <a:pt x="3058" y="808"/>
                  <a:pt x="3072" y="582"/>
                  <a:pt x="3086" y="558"/>
                </a:cubicBezTo>
                <a:cubicBezTo>
                  <a:pt x="3100" y="534"/>
                  <a:pt x="3116" y="623"/>
                  <a:pt x="3130" y="708"/>
                </a:cubicBezTo>
                <a:cubicBezTo>
                  <a:pt x="3144" y="793"/>
                  <a:pt x="3157" y="965"/>
                  <a:pt x="3170" y="1067"/>
                </a:cubicBezTo>
                <a:cubicBezTo>
                  <a:pt x="3183" y="1169"/>
                  <a:pt x="3197" y="1474"/>
                  <a:pt x="3211" y="1319"/>
                </a:cubicBezTo>
                <a:cubicBezTo>
                  <a:pt x="3225" y="1164"/>
                  <a:pt x="3238" y="265"/>
                  <a:pt x="3253" y="134"/>
                </a:cubicBezTo>
                <a:cubicBezTo>
                  <a:pt x="3268" y="3"/>
                  <a:pt x="3285" y="457"/>
                  <a:pt x="3299" y="530"/>
                </a:cubicBezTo>
                <a:cubicBezTo>
                  <a:pt x="3313" y="603"/>
                  <a:pt x="3327" y="541"/>
                  <a:pt x="3340" y="570"/>
                </a:cubicBezTo>
                <a:cubicBezTo>
                  <a:pt x="3353" y="599"/>
                  <a:pt x="3366" y="624"/>
                  <a:pt x="3380" y="707"/>
                </a:cubicBezTo>
                <a:cubicBezTo>
                  <a:pt x="3394" y="790"/>
                  <a:pt x="3408" y="969"/>
                  <a:pt x="3422" y="1071"/>
                </a:cubicBezTo>
                <a:cubicBezTo>
                  <a:pt x="3436" y="1173"/>
                  <a:pt x="3449" y="1319"/>
                  <a:pt x="3467" y="1322"/>
                </a:cubicBezTo>
                <a:cubicBezTo>
                  <a:pt x="3485" y="1325"/>
                  <a:pt x="3492" y="264"/>
                  <a:pt x="3505" y="132"/>
                </a:cubicBezTo>
                <a:cubicBezTo>
                  <a:pt x="3518" y="0"/>
                  <a:pt x="3534" y="501"/>
                  <a:pt x="3548" y="531"/>
                </a:cubicBezTo>
                <a:cubicBezTo>
                  <a:pt x="3562" y="561"/>
                  <a:pt x="3575" y="351"/>
                  <a:pt x="3589" y="315"/>
                </a:cubicBezTo>
                <a:cubicBezTo>
                  <a:pt x="3603" y="279"/>
                  <a:pt x="3617" y="281"/>
                  <a:pt x="3634" y="312"/>
                </a:cubicBezTo>
                <a:cubicBezTo>
                  <a:pt x="3651" y="343"/>
                  <a:pt x="3662" y="336"/>
                  <a:pt x="3676" y="348"/>
                </a:cubicBezTo>
                <a:cubicBezTo>
                  <a:pt x="3690" y="360"/>
                  <a:pt x="3704" y="384"/>
                  <a:pt x="3718" y="384"/>
                </a:cubicBezTo>
                <a:cubicBezTo>
                  <a:pt x="3732" y="384"/>
                  <a:pt x="3749" y="338"/>
                  <a:pt x="3763" y="350"/>
                </a:cubicBezTo>
                <a:cubicBezTo>
                  <a:pt x="3777" y="362"/>
                  <a:pt x="3786" y="423"/>
                  <a:pt x="3799" y="458"/>
                </a:cubicBezTo>
                <a:cubicBezTo>
                  <a:pt x="3812" y="493"/>
                  <a:pt x="3828" y="539"/>
                  <a:pt x="3842" y="563"/>
                </a:cubicBezTo>
                <a:cubicBezTo>
                  <a:pt x="3856" y="587"/>
                  <a:pt x="3870" y="561"/>
                  <a:pt x="3884" y="603"/>
                </a:cubicBezTo>
                <a:cubicBezTo>
                  <a:pt x="3898" y="645"/>
                  <a:pt x="3914" y="775"/>
                  <a:pt x="3928" y="816"/>
                </a:cubicBezTo>
                <a:cubicBezTo>
                  <a:pt x="3942" y="857"/>
                  <a:pt x="3953" y="852"/>
                  <a:pt x="3968" y="852"/>
                </a:cubicBezTo>
                <a:cubicBezTo>
                  <a:pt x="3983" y="852"/>
                  <a:pt x="4000" y="745"/>
                  <a:pt x="4012" y="744"/>
                </a:cubicBezTo>
                <a:cubicBezTo>
                  <a:pt x="4024" y="743"/>
                  <a:pt x="4040" y="975"/>
                  <a:pt x="4054" y="1071"/>
                </a:cubicBezTo>
                <a:cubicBezTo>
                  <a:pt x="4068" y="1167"/>
                  <a:pt x="4084" y="1271"/>
                  <a:pt x="4094" y="1323"/>
                </a:cubicBezTo>
                <a:cubicBezTo>
                  <a:pt x="4104" y="1375"/>
                  <a:pt x="4117" y="1345"/>
                  <a:pt x="4116" y="1381"/>
                </a:cubicBezTo>
                <a:cubicBezTo>
                  <a:pt x="4113" y="1560"/>
                  <a:pt x="4117" y="1422"/>
                  <a:pt x="4112" y="1572"/>
                </a:cubicBezTo>
                <a:cubicBezTo>
                  <a:pt x="2801" y="1578"/>
                  <a:pt x="125" y="1572"/>
                  <a:pt x="2" y="1571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6633"/>
                </a:solidFill>
                <a:latin typeface="Garamond"/>
              </a:rPr>
              <a:t>Временная дискретизация звука</a:t>
            </a:r>
            <a:endParaRPr b="1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63480" y="134100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роцесс разбиения непрерывной звуковой волны на отдельные (дискретные) временные участки, для которых может быть установлены различные уровни громкост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335240" y="6370560"/>
            <a:ext cx="676584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1332000" y="3552840"/>
            <a:ext cx="1440" cy="281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332000" y="3876840"/>
            <a:ext cx="6535800" cy="2504880"/>
          </a:xfrm>
          <a:custGeom>
            <a:avLst/>
            <a:gdLst/>
            <a:ahLst/>
            <a:rect l="l" t="t" r="r" b="b"/>
            <a:pathLst>
              <a:path w="4117" h="1578">
                <a:moveTo>
                  <a:pt x="2" y="1571"/>
                </a:moveTo>
                <a:cubicBezTo>
                  <a:pt x="0" y="607"/>
                  <a:pt x="4" y="868"/>
                  <a:pt x="1" y="607"/>
                </a:cubicBezTo>
                <a:cubicBezTo>
                  <a:pt x="1" y="593"/>
                  <a:pt x="2" y="588"/>
                  <a:pt x="20" y="569"/>
                </a:cubicBezTo>
                <a:cubicBezTo>
                  <a:pt x="29" y="547"/>
                  <a:pt x="47" y="543"/>
                  <a:pt x="61" y="531"/>
                </a:cubicBezTo>
                <a:cubicBezTo>
                  <a:pt x="75" y="519"/>
                  <a:pt x="89" y="501"/>
                  <a:pt x="104" y="495"/>
                </a:cubicBezTo>
                <a:cubicBezTo>
                  <a:pt x="119" y="489"/>
                  <a:pt x="134" y="500"/>
                  <a:pt x="148" y="494"/>
                </a:cubicBezTo>
                <a:cubicBezTo>
                  <a:pt x="162" y="488"/>
                  <a:pt x="174" y="468"/>
                  <a:pt x="188" y="456"/>
                </a:cubicBezTo>
                <a:cubicBezTo>
                  <a:pt x="223" y="432"/>
                  <a:pt x="216" y="440"/>
                  <a:pt x="230" y="422"/>
                </a:cubicBezTo>
                <a:cubicBezTo>
                  <a:pt x="244" y="404"/>
                  <a:pt x="260" y="366"/>
                  <a:pt x="275" y="348"/>
                </a:cubicBezTo>
                <a:cubicBezTo>
                  <a:pt x="290" y="330"/>
                  <a:pt x="306" y="318"/>
                  <a:pt x="319" y="312"/>
                </a:cubicBezTo>
                <a:cubicBezTo>
                  <a:pt x="332" y="306"/>
                  <a:pt x="342" y="305"/>
                  <a:pt x="355" y="311"/>
                </a:cubicBezTo>
                <a:cubicBezTo>
                  <a:pt x="368" y="317"/>
                  <a:pt x="383" y="336"/>
                  <a:pt x="397" y="348"/>
                </a:cubicBezTo>
                <a:cubicBezTo>
                  <a:pt x="411" y="360"/>
                  <a:pt x="426" y="381"/>
                  <a:pt x="440" y="381"/>
                </a:cubicBezTo>
                <a:cubicBezTo>
                  <a:pt x="454" y="381"/>
                  <a:pt x="465" y="359"/>
                  <a:pt x="479" y="347"/>
                </a:cubicBezTo>
                <a:cubicBezTo>
                  <a:pt x="493" y="335"/>
                  <a:pt x="510" y="322"/>
                  <a:pt x="524" y="309"/>
                </a:cubicBezTo>
                <a:cubicBezTo>
                  <a:pt x="538" y="296"/>
                  <a:pt x="551" y="272"/>
                  <a:pt x="565" y="272"/>
                </a:cubicBezTo>
                <a:cubicBezTo>
                  <a:pt x="579" y="272"/>
                  <a:pt x="596" y="287"/>
                  <a:pt x="610" y="311"/>
                </a:cubicBezTo>
                <a:cubicBezTo>
                  <a:pt x="624" y="335"/>
                  <a:pt x="635" y="371"/>
                  <a:pt x="649" y="419"/>
                </a:cubicBezTo>
                <a:cubicBezTo>
                  <a:pt x="663" y="467"/>
                  <a:pt x="680" y="533"/>
                  <a:pt x="695" y="599"/>
                </a:cubicBezTo>
                <a:cubicBezTo>
                  <a:pt x="710" y="665"/>
                  <a:pt x="723" y="773"/>
                  <a:pt x="737" y="815"/>
                </a:cubicBezTo>
                <a:cubicBezTo>
                  <a:pt x="751" y="857"/>
                  <a:pt x="765" y="858"/>
                  <a:pt x="778" y="852"/>
                </a:cubicBezTo>
                <a:cubicBezTo>
                  <a:pt x="791" y="846"/>
                  <a:pt x="803" y="798"/>
                  <a:pt x="817" y="779"/>
                </a:cubicBezTo>
                <a:cubicBezTo>
                  <a:pt x="831" y="760"/>
                  <a:pt x="848" y="693"/>
                  <a:pt x="862" y="741"/>
                </a:cubicBezTo>
                <a:cubicBezTo>
                  <a:pt x="876" y="789"/>
                  <a:pt x="890" y="970"/>
                  <a:pt x="904" y="1067"/>
                </a:cubicBezTo>
                <a:cubicBezTo>
                  <a:pt x="918" y="1164"/>
                  <a:pt x="932" y="1321"/>
                  <a:pt x="946" y="1322"/>
                </a:cubicBezTo>
                <a:cubicBezTo>
                  <a:pt x="960" y="1323"/>
                  <a:pt x="973" y="1131"/>
                  <a:pt x="986" y="1070"/>
                </a:cubicBezTo>
                <a:cubicBezTo>
                  <a:pt x="999" y="1009"/>
                  <a:pt x="1010" y="963"/>
                  <a:pt x="1024" y="957"/>
                </a:cubicBezTo>
                <a:cubicBezTo>
                  <a:pt x="1038" y="951"/>
                  <a:pt x="1057" y="1013"/>
                  <a:pt x="1072" y="1031"/>
                </a:cubicBezTo>
                <a:cubicBezTo>
                  <a:pt x="1087" y="1049"/>
                  <a:pt x="1099" y="1070"/>
                  <a:pt x="1112" y="1064"/>
                </a:cubicBezTo>
                <a:cubicBezTo>
                  <a:pt x="1125" y="1058"/>
                  <a:pt x="1140" y="1031"/>
                  <a:pt x="1153" y="996"/>
                </a:cubicBezTo>
                <a:cubicBezTo>
                  <a:pt x="1166" y="961"/>
                  <a:pt x="1179" y="902"/>
                  <a:pt x="1193" y="854"/>
                </a:cubicBezTo>
                <a:cubicBezTo>
                  <a:pt x="1207" y="806"/>
                  <a:pt x="1221" y="755"/>
                  <a:pt x="1235" y="707"/>
                </a:cubicBezTo>
                <a:cubicBezTo>
                  <a:pt x="1249" y="659"/>
                  <a:pt x="1265" y="576"/>
                  <a:pt x="1280" y="564"/>
                </a:cubicBezTo>
                <a:cubicBezTo>
                  <a:pt x="1295" y="552"/>
                  <a:pt x="1310" y="618"/>
                  <a:pt x="1324" y="636"/>
                </a:cubicBezTo>
                <a:cubicBezTo>
                  <a:pt x="1338" y="654"/>
                  <a:pt x="1351" y="680"/>
                  <a:pt x="1364" y="674"/>
                </a:cubicBezTo>
                <a:cubicBezTo>
                  <a:pt x="1377" y="668"/>
                  <a:pt x="1391" y="618"/>
                  <a:pt x="1405" y="600"/>
                </a:cubicBezTo>
                <a:cubicBezTo>
                  <a:pt x="1419" y="582"/>
                  <a:pt x="1433" y="548"/>
                  <a:pt x="1447" y="566"/>
                </a:cubicBezTo>
                <a:cubicBezTo>
                  <a:pt x="1461" y="584"/>
                  <a:pt x="1475" y="624"/>
                  <a:pt x="1489" y="707"/>
                </a:cubicBezTo>
                <a:cubicBezTo>
                  <a:pt x="1503" y="790"/>
                  <a:pt x="1516" y="972"/>
                  <a:pt x="1531" y="1067"/>
                </a:cubicBezTo>
                <a:cubicBezTo>
                  <a:pt x="1546" y="1162"/>
                  <a:pt x="1565" y="1433"/>
                  <a:pt x="1579" y="1278"/>
                </a:cubicBezTo>
                <a:cubicBezTo>
                  <a:pt x="1593" y="1123"/>
                  <a:pt x="1603" y="260"/>
                  <a:pt x="1616" y="135"/>
                </a:cubicBezTo>
                <a:cubicBezTo>
                  <a:pt x="1629" y="10"/>
                  <a:pt x="1646" y="361"/>
                  <a:pt x="1660" y="528"/>
                </a:cubicBezTo>
                <a:cubicBezTo>
                  <a:pt x="1674" y="695"/>
                  <a:pt x="1687" y="1146"/>
                  <a:pt x="1700" y="1140"/>
                </a:cubicBezTo>
                <a:cubicBezTo>
                  <a:pt x="1713" y="1134"/>
                  <a:pt x="1727" y="528"/>
                  <a:pt x="1741" y="492"/>
                </a:cubicBezTo>
                <a:cubicBezTo>
                  <a:pt x="1755" y="456"/>
                  <a:pt x="1771" y="900"/>
                  <a:pt x="1786" y="924"/>
                </a:cubicBezTo>
                <a:cubicBezTo>
                  <a:pt x="1801" y="948"/>
                  <a:pt x="1815" y="710"/>
                  <a:pt x="1828" y="638"/>
                </a:cubicBezTo>
                <a:cubicBezTo>
                  <a:pt x="1841" y="566"/>
                  <a:pt x="1853" y="553"/>
                  <a:pt x="1867" y="492"/>
                </a:cubicBezTo>
                <a:cubicBezTo>
                  <a:pt x="1881" y="431"/>
                  <a:pt x="1895" y="278"/>
                  <a:pt x="1910" y="272"/>
                </a:cubicBezTo>
                <a:cubicBezTo>
                  <a:pt x="1925" y="266"/>
                  <a:pt x="1941" y="410"/>
                  <a:pt x="1955" y="459"/>
                </a:cubicBezTo>
                <a:cubicBezTo>
                  <a:pt x="1969" y="508"/>
                  <a:pt x="1982" y="540"/>
                  <a:pt x="1996" y="564"/>
                </a:cubicBezTo>
                <a:cubicBezTo>
                  <a:pt x="2010" y="588"/>
                  <a:pt x="2023" y="560"/>
                  <a:pt x="2038" y="602"/>
                </a:cubicBezTo>
                <a:cubicBezTo>
                  <a:pt x="2053" y="644"/>
                  <a:pt x="2070" y="776"/>
                  <a:pt x="2084" y="818"/>
                </a:cubicBezTo>
                <a:cubicBezTo>
                  <a:pt x="2098" y="860"/>
                  <a:pt x="2107" y="863"/>
                  <a:pt x="2120" y="857"/>
                </a:cubicBezTo>
                <a:cubicBezTo>
                  <a:pt x="2133" y="851"/>
                  <a:pt x="2147" y="801"/>
                  <a:pt x="2162" y="782"/>
                </a:cubicBezTo>
                <a:cubicBezTo>
                  <a:pt x="2177" y="763"/>
                  <a:pt x="2193" y="698"/>
                  <a:pt x="2207" y="746"/>
                </a:cubicBezTo>
                <a:cubicBezTo>
                  <a:pt x="2221" y="794"/>
                  <a:pt x="2231" y="974"/>
                  <a:pt x="2245" y="1070"/>
                </a:cubicBezTo>
                <a:cubicBezTo>
                  <a:pt x="2259" y="1166"/>
                  <a:pt x="2280" y="1323"/>
                  <a:pt x="2294" y="1323"/>
                </a:cubicBezTo>
                <a:cubicBezTo>
                  <a:pt x="2308" y="1323"/>
                  <a:pt x="2317" y="1128"/>
                  <a:pt x="2330" y="1068"/>
                </a:cubicBezTo>
                <a:cubicBezTo>
                  <a:pt x="2343" y="1008"/>
                  <a:pt x="2357" y="966"/>
                  <a:pt x="2371" y="960"/>
                </a:cubicBezTo>
                <a:cubicBezTo>
                  <a:pt x="2385" y="954"/>
                  <a:pt x="2399" y="1013"/>
                  <a:pt x="2413" y="1031"/>
                </a:cubicBezTo>
                <a:cubicBezTo>
                  <a:pt x="2427" y="1049"/>
                  <a:pt x="2444" y="1145"/>
                  <a:pt x="2458" y="1067"/>
                </a:cubicBezTo>
                <a:cubicBezTo>
                  <a:pt x="2472" y="989"/>
                  <a:pt x="2482" y="683"/>
                  <a:pt x="2495" y="564"/>
                </a:cubicBezTo>
                <a:cubicBezTo>
                  <a:pt x="2508" y="445"/>
                  <a:pt x="2525" y="393"/>
                  <a:pt x="2539" y="350"/>
                </a:cubicBezTo>
                <a:cubicBezTo>
                  <a:pt x="2553" y="307"/>
                  <a:pt x="2568" y="316"/>
                  <a:pt x="2582" y="309"/>
                </a:cubicBezTo>
                <a:cubicBezTo>
                  <a:pt x="2596" y="302"/>
                  <a:pt x="2609" y="302"/>
                  <a:pt x="2623" y="309"/>
                </a:cubicBezTo>
                <a:cubicBezTo>
                  <a:pt x="2637" y="316"/>
                  <a:pt x="2651" y="337"/>
                  <a:pt x="2665" y="350"/>
                </a:cubicBezTo>
                <a:cubicBezTo>
                  <a:pt x="2679" y="363"/>
                  <a:pt x="2694" y="387"/>
                  <a:pt x="2708" y="386"/>
                </a:cubicBezTo>
                <a:cubicBezTo>
                  <a:pt x="2722" y="385"/>
                  <a:pt x="2736" y="357"/>
                  <a:pt x="2750" y="345"/>
                </a:cubicBezTo>
                <a:cubicBezTo>
                  <a:pt x="2764" y="333"/>
                  <a:pt x="2778" y="326"/>
                  <a:pt x="2792" y="314"/>
                </a:cubicBezTo>
                <a:cubicBezTo>
                  <a:pt x="2806" y="302"/>
                  <a:pt x="2822" y="275"/>
                  <a:pt x="2836" y="275"/>
                </a:cubicBezTo>
                <a:cubicBezTo>
                  <a:pt x="2850" y="275"/>
                  <a:pt x="2861" y="288"/>
                  <a:pt x="2875" y="312"/>
                </a:cubicBezTo>
                <a:cubicBezTo>
                  <a:pt x="2889" y="336"/>
                  <a:pt x="2907" y="372"/>
                  <a:pt x="2921" y="420"/>
                </a:cubicBezTo>
                <a:cubicBezTo>
                  <a:pt x="2935" y="468"/>
                  <a:pt x="2947" y="534"/>
                  <a:pt x="2960" y="600"/>
                </a:cubicBezTo>
                <a:cubicBezTo>
                  <a:pt x="2973" y="666"/>
                  <a:pt x="2988" y="773"/>
                  <a:pt x="3002" y="815"/>
                </a:cubicBezTo>
                <a:cubicBezTo>
                  <a:pt x="3016" y="857"/>
                  <a:pt x="3030" y="894"/>
                  <a:pt x="3044" y="851"/>
                </a:cubicBezTo>
                <a:cubicBezTo>
                  <a:pt x="3058" y="808"/>
                  <a:pt x="3072" y="582"/>
                  <a:pt x="3086" y="558"/>
                </a:cubicBezTo>
                <a:cubicBezTo>
                  <a:pt x="3100" y="534"/>
                  <a:pt x="3116" y="623"/>
                  <a:pt x="3130" y="708"/>
                </a:cubicBezTo>
                <a:cubicBezTo>
                  <a:pt x="3144" y="793"/>
                  <a:pt x="3157" y="965"/>
                  <a:pt x="3170" y="1067"/>
                </a:cubicBezTo>
                <a:cubicBezTo>
                  <a:pt x="3183" y="1169"/>
                  <a:pt x="3197" y="1474"/>
                  <a:pt x="3211" y="1319"/>
                </a:cubicBezTo>
                <a:cubicBezTo>
                  <a:pt x="3225" y="1164"/>
                  <a:pt x="3238" y="265"/>
                  <a:pt x="3253" y="134"/>
                </a:cubicBezTo>
                <a:cubicBezTo>
                  <a:pt x="3268" y="3"/>
                  <a:pt x="3285" y="457"/>
                  <a:pt x="3299" y="530"/>
                </a:cubicBezTo>
                <a:cubicBezTo>
                  <a:pt x="3313" y="603"/>
                  <a:pt x="3327" y="541"/>
                  <a:pt x="3340" y="570"/>
                </a:cubicBezTo>
                <a:cubicBezTo>
                  <a:pt x="3353" y="599"/>
                  <a:pt x="3366" y="624"/>
                  <a:pt x="3380" y="707"/>
                </a:cubicBezTo>
                <a:cubicBezTo>
                  <a:pt x="3394" y="790"/>
                  <a:pt x="3408" y="969"/>
                  <a:pt x="3422" y="1071"/>
                </a:cubicBezTo>
                <a:cubicBezTo>
                  <a:pt x="3436" y="1173"/>
                  <a:pt x="3449" y="1319"/>
                  <a:pt x="3467" y="1322"/>
                </a:cubicBezTo>
                <a:cubicBezTo>
                  <a:pt x="3485" y="1325"/>
                  <a:pt x="3492" y="264"/>
                  <a:pt x="3505" y="132"/>
                </a:cubicBezTo>
                <a:cubicBezTo>
                  <a:pt x="3518" y="0"/>
                  <a:pt x="3534" y="501"/>
                  <a:pt x="3548" y="531"/>
                </a:cubicBezTo>
                <a:cubicBezTo>
                  <a:pt x="3562" y="561"/>
                  <a:pt x="3575" y="351"/>
                  <a:pt x="3589" y="315"/>
                </a:cubicBezTo>
                <a:cubicBezTo>
                  <a:pt x="3603" y="279"/>
                  <a:pt x="3617" y="281"/>
                  <a:pt x="3634" y="312"/>
                </a:cubicBezTo>
                <a:cubicBezTo>
                  <a:pt x="3651" y="343"/>
                  <a:pt x="3662" y="336"/>
                  <a:pt x="3676" y="348"/>
                </a:cubicBezTo>
                <a:cubicBezTo>
                  <a:pt x="3690" y="360"/>
                  <a:pt x="3704" y="384"/>
                  <a:pt x="3718" y="384"/>
                </a:cubicBezTo>
                <a:cubicBezTo>
                  <a:pt x="3732" y="384"/>
                  <a:pt x="3749" y="338"/>
                  <a:pt x="3763" y="350"/>
                </a:cubicBezTo>
                <a:cubicBezTo>
                  <a:pt x="3777" y="362"/>
                  <a:pt x="3786" y="423"/>
                  <a:pt x="3799" y="458"/>
                </a:cubicBezTo>
                <a:cubicBezTo>
                  <a:pt x="3812" y="493"/>
                  <a:pt x="3828" y="539"/>
                  <a:pt x="3842" y="563"/>
                </a:cubicBezTo>
                <a:cubicBezTo>
                  <a:pt x="3856" y="587"/>
                  <a:pt x="3870" y="561"/>
                  <a:pt x="3884" y="603"/>
                </a:cubicBezTo>
                <a:cubicBezTo>
                  <a:pt x="3898" y="645"/>
                  <a:pt x="3914" y="775"/>
                  <a:pt x="3928" y="816"/>
                </a:cubicBezTo>
                <a:cubicBezTo>
                  <a:pt x="3942" y="857"/>
                  <a:pt x="3953" y="852"/>
                  <a:pt x="3968" y="852"/>
                </a:cubicBezTo>
                <a:cubicBezTo>
                  <a:pt x="3983" y="852"/>
                  <a:pt x="4000" y="745"/>
                  <a:pt x="4012" y="744"/>
                </a:cubicBezTo>
                <a:cubicBezTo>
                  <a:pt x="4024" y="743"/>
                  <a:pt x="4040" y="975"/>
                  <a:pt x="4054" y="1071"/>
                </a:cubicBezTo>
                <a:cubicBezTo>
                  <a:pt x="4068" y="1167"/>
                  <a:pt x="4084" y="1271"/>
                  <a:pt x="4094" y="1323"/>
                </a:cubicBezTo>
                <a:cubicBezTo>
                  <a:pt x="4104" y="1375"/>
                  <a:pt x="4117" y="1345"/>
                  <a:pt x="4116" y="1381"/>
                </a:cubicBezTo>
                <a:cubicBezTo>
                  <a:pt x="4113" y="1560"/>
                  <a:pt x="4117" y="1422"/>
                  <a:pt x="4112" y="1572"/>
                </a:cubicBezTo>
                <a:cubicBezTo>
                  <a:pt x="2801" y="1578"/>
                  <a:pt x="125" y="1572"/>
                  <a:pt x="2" y="1571"/>
                </a:cubicBezTo>
                <a:close/>
              </a:path>
            </a:pathLst>
          </a:custGeom>
          <a:solidFill>
            <a:srgbClr val="ccffff">
              <a:alpha val="69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dur="indefinite" fill="hold">
                      <p:stCondLst>
                        <p:cond delay="indefinite"/>
                      </p:stCondLst>
                      <p:childTnLst>
                        <p:par>
                          <p:cTn id="6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00" fill="hold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 fill="hold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8000" fill="hold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 fill="hold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dur="indefinite" fill="hold">
                      <p:stCondLst>
                        <p:cond delay="indefinite"/>
                      </p:stCondLst>
                      <p:childTnLst>
                        <p:par>
                          <p:cTn id="8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 fill="hold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dur="indefinite" fill="hold">
                      <p:stCondLst>
                        <p:cond delay="indefinite"/>
                      </p:stCondLst>
                      <p:childTnLst>
                        <p:par>
                          <p:cTn id="8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7" dur="2000" fill="hold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0" dur="2000" fill="hold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Частота дискретизации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Для записи аналогового сигнала и его преобразования в цифровую форму используется микрофон, подключенный к звуковой карт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Качество звука зависит от количества измерений уровня звука в секунду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996600"/>
                </a:solidFill>
                <a:latin typeface="Arial"/>
              </a:rPr>
              <a:t>Количество измерений уровня звука в единицу времени называется </a:t>
            </a:r>
            <a:r>
              <a:rPr b="1" i="1" lang="ru-RU" sz="2600" spc="-1" strike="noStrike">
                <a:solidFill>
                  <a:srgbClr val="996600"/>
                </a:solidFill>
                <a:latin typeface="Arial"/>
              </a:rPr>
              <a:t>частотой дискретизаци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Частота дискретизации лежит в диапазоне 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от 8 000 до 48 000 измерений в секунду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Глубина дискретизации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Каждому дискретному временному отрезку – каждой «ступеньке» – присваивается определенный уровень громкости (</a:t>
            </a:r>
            <a:r>
              <a:rPr b="1" i="1" lang="en-US" sz="2600" spc="-1" strike="noStrike">
                <a:solidFill>
                  <a:srgbClr val="996600"/>
                </a:solidFill>
                <a:latin typeface="Arial"/>
              </a:rPr>
              <a:t>N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), для кодирования которых требуется определенный объем информации (</a:t>
            </a:r>
            <a:r>
              <a:rPr b="1" i="1" lang="en-US" sz="2600" spc="-1" strike="noStrike">
                <a:solidFill>
                  <a:srgbClr val="996600"/>
                </a:solidFill>
                <a:latin typeface="Arial"/>
              </a:rPr>
              <a:t>I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ru-RU" sz="2600" spc="-1" strike="noStrike">
                <a:solidFill>
                  <a:srgbClr val="996600"/>
                </a:solidFill>
                <a:latin typeface="Arial"/>
              </a:rPr>
              <a:t>Глубина кодирования звука</a:t>
            </a:r>
            <a:r>
              <a:rPr b="0" lang="ru-RU" sz="2600" spc="-1" strike="noStrike">
                <a:solidFill>
                  <a:srgbClr val="996600"/>
                </a:solidFill>
                <a:latin typeface="Arial"/>
              </a:rPr>
              <a:t> – количество информации, необходимое для кодирования дискретных уровней громкости цифрового звук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en-US" sz="3400" spc="-1" strike="noStrike">
                <a:solidFill>
                  <a:srgbClr val="000000"/>
                </a:solidFill>
                <a:latin typeface="Arial"/>
              </a:rPr>
              <a:t>N = 2</a:t>
            </a:r>
            <a:r>
              <a:rPr b="1" i="1" lang="en-US" sz="3400" spc="-1" strike="noStrike" baseline="30000">
                <a:solidFill>
                  <a:srgbClr val="000000"/>
                </a:solidFill>
                <a:latin typeface="Arial"/>
              </a:rPr>
              <a:t>I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Пример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Известна глубина кодирования – 16 бит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(I)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. Рассчитать количество возможных уровней громкости внутри одного измерения звука (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о формуле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 = 2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находим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ctr">
              <a:spcBef>
                <a:spcPts val="6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 =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600" spc="-1" strike="noStrike" baseline="30000">
                <a:solidFill>
                  <a:srgbClr val="000000"/>
                </a:solidFill>
                <a:latin typeface="Arial"/>
              </a:rPr>
              <a:t>16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= 65 536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Каждому уровню громкости присваивается одно из 65 536 значений, которое кодируется двоичными числами от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0000 0000 0000 0000 (минимальный уровень) до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1111 1111 1111 1111 (максимальный уровень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6633"/>
                </a:solidFill>
                <a:latin typeface="Garamond"/>
              </a:rPr>
              <a:t>Вопрос: назовите основные характеристики аналогового звука</a:t>
            </a:r>
            <a:endParaRPr b="1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7600" indent="-327600">
              <a:lnSpc>
                <a:spcPct val="90000"/>
              </a:lnSpc>
              <a:spcBef>
                <a:spcPts val="8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ru-RU" sz="3300" spc="-1" strike="noStrike" u="sng">
                <a:solidFill>
                  <a:srgbClr val="996600"/>
                </a:solidFill>
                <a:uFillTx/>
                <a:latin typeface="Arial"/>
              </a:rPr>
              <a:t>Частота</a:t>
            </a:r>
            <a:br>
              <a:rPr sz="3300"/>
            </a:br>
            <a:r>
              <a:rPr b="0" lang="ru-RU" sz="3300" spc="-1" strike="noStrike">
                <a:solidFill>
                  <a:srgbClr val="000000"/>
                </a:solidFill>
                <a:latin typeface="Arial"/>
              </a:rPr>
              <a:t>(количество вершин на единицу длины оси абсцисс)</a:t>
            </a:r>
            <a:br>
              <a:rPr sz="3300"/>
            </a:br>
            <a:r>
              <a:rPr b="0" lang="ru-RU" sz="3300" spc="-1" strike="noStrike">
                <a:solidFill>
                  <a:srgbClr val="000000"/>
                </a:solidFill>
                <a:latin typeface="Arial"/>
              </a:rPr>
              <a:t>От нее зависит высота тона звука.</a:t>
            </a:r>
            <a:br>
              <a:rPr sz="3300"/>
            </a:br>
            <a:r>
              <a:rPr b="0" lang="ru-RU" sz="3300" spc="-1" strike="noStrike">
                <a:solidFill>
                  <a:srgbClr val="000000"/>
                </a:solidFill>
                <a:latin typeface="Arial"/>
              </a:rPr>
              <a:t>Измеряется в 1/сек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2760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7600" indent="-327600">
              <a:lnSpc>
                <a:spcPct val="90000"/>
              </a:lnSpc>
              <a:spcBef>
                <a:spcPts val="8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ru-RU" sz="3300" spc="-1" strike="noStrike" u="sng">
                <a:solidFill>
                  <a:srgbClr val="996600"/>
                </a:solidFill>
                <a:uFillTx/>
                <a:latin typeface="Arial"/>
              </a:rPr>
              <a:t>Амплитуда</a:t>
            </a:r>
            <a:r>
              <a:rPr b="0" lang="ru-RU" sz="33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300"/>
            </a:br>
            <a:r>
              <a:rPr b="0" lang="ru-RU" sz="3300" spc="-1" strike="noStrike">
                <a:solidFill>
                  <a:srgbClr val="000000"/>
                </a:solidFill>
                <a:latin typeface="Arial"/>
              </a:rPr>
              <a:t>(высота вершин на графике – координаты по оси ординат)</a:t>
            </a:r>
            <a:br>
              <a:rPr sz="3300"/>
            </a:br>
            <a:r>
              <a:rPr b="0" lang="ru-RU" sz="3300" spc="-1" strike="noStrike">
                <a:solidFill>
                  <a:srgbClr val="000000"/>
                </a:solidFill>
                <a:latin typeface="Arial"/>
              </a:rPr>
              <a:t>От нее зависит громкость звука</a:t>
            </a:r>
            <a:br>
              <a:rPr sz="3300"/>
            </a:br>
            <a:r>
              <a:rPr b="0" lang="ru-RU" sz="3300" spc="-1" strike="noStrike">
                <a:solidFill>
                  <a:srgbClr val="000000"/>
                </a:solidFill>
                <a:latin typeface="Arial"/>
              </a:rPr>
              <a:t>Измеряется в децибелах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4T12:15:17Z</dcterms:created>
  <dc:creator>Сергеев Евгений</dc:creator>
  <dc:description/>
  <dc:language>en-US</dc:language>
  <cp:lastModifiedBy>Сергеев Евгений</cp:lastModifiedBy>
  <dcterms:modified xsi:type="dcterms:W3CDTF">2010-10-08T12:17:10Z</dcterms:modified>
  <cp:revision>22</cp:revision>
  <dc:subject/>
  <dc:title>Слайд 1</dc:title>
</cp:coreProperties>
</file>