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6FC-E7A0-454B-A102-367946DF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AB1-5D21-4982-AF25-8E1F23A6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DDF-E998-4A4C-B3C1-EDC8DBFB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377-38BE-4294-9369-61DE4600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FFB4-0035-4AFA-8E7F-021B31BF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C726-A092-4176-97DC-195FFCEE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1B86-EEAD-4F8A-8845-42457D2E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3DA6-F134-4821-B273-2A7498AB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7AB7-969D-428D-8D12-7D1A457A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1F3F-DEF7-40DA-A1ED-D5D61A53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2B72-BB56-418A-8274-9C1F2CB9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C83-4E87-4CEB-B31D-1085723F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207F-6179-4919-86DC-77112DFC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70A3-2248-4E21-B6F6-FA70FC0B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77FB-EB03-4F61-9257-6082E226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AA18-5B88-4221-8213-8684FB64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5471-B05D-4C28-9108-16E5596E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7754-6F46-4739-9F70-4E072FC4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8BF-C3AB-41FD-936D-CC1E4F4B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640-E467-441A-B3ED-5236C9E9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CF8-076E-4D27-8553-5485B8A2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311-9EA8-4B6F-8647-9D070DF0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7E5-5EE7-4504-AE8B-B8B60F32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7AB-549A-476B-A97C-A2AD3147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F393-233A-4AE1-8803-32DD4763C27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D785-273C-41AC-816B-2D00CA03DD1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1640" y="2924280"/>
            <a:ext cx="4716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Windows Vist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Просмотр выпусков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Home Basic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Home Premium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35280" cy="50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5640" y="4957920"/>
            <a:ext cx="8388360" cy="19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2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72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72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72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Basic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Home Basic — это выпуск Windows, предназначенный для обычных домашних компьютеров. Если компьютер планируется использовать только для таких задач, как работа в Интернете, использование электронной почты или просмотр фотографий, тогда система Windows Vista Home Basic является правильным выбором. Хотя этот выпуск лишен многих преимуществ системы Windows Vista Home Premium, он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озволит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сделать использование компьютера проще и безопаснее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чем при работе с Windows X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92360" cy="444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Premium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амый подходящий выпуск Windows для домашних настольных и переносных компьютеров. Система Windows Vista Home Premium обеспечивает производительность и развлекательные возможности, которые требуются от компьютера дома или в пути. Этот выпуск содержит Windows Media Center и облегчает работу с цифровыми фотографиями, ТВ и фильмами, а также музыкой. Кроме того, при использовании данного выпуска можно не беспокоиться о безопасности и надежности компьютера, которые находятся на качественно    новом уровне. С учетом всего вышесказанного, система Windows Vista Home Premium    переворачивает представления о развлечениях           на домашнем компьютере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908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ndows Vista Ultimate предоставляет все необходимые функции, включая возможность легко переходить от развлечений к эффективной работе и наоборот. Этот выпуск системы Windows Vista обеспечивает усовершенствованную бизнес-ориентированную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фраструктуру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производительность при мобильной             работе и специализированные средства развлечения для домашнего      использования в одной сист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Business является первой операционной системой Windows, разработанной специально для удовлетворения потребностей малого бизнеса. Улучшенный, простой в использовании интерфейс, который позволяет легко и быстро выполнять поиск необходимых данных как на компьютере, так и в Интернете, помогает повысить эффективность работы компании. Новые возможности обеспечения безопасности помогают контролировать и защищать ключевые сведения, которые важны для организации и от которых зависит доверие клиентов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28:57Z</dcterms:created>
  <dc:creator>1</dc:creator>
  <dc:description/>
  <dc:language>en-US</dc:language>
  <cp:lastModifiedBy>User</cp:lastModifiedBy>
  <dcterms:modified xsi:type="dcterms:W3CDTF">2012-12-17T10:33:26Z</dcterms:modified>
  <cp:revision>3</cp:revision>
  <dc:subject/>
  <dc:title>врспаравп</dc:title>
</cp:coreProperties>
</file>