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D725-9F4B-4C8E-8FD6-DF019AD4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2A2E-7E12-45AF-9929-7B694613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889C-D281-4B26-BCF1-3B5D3F71F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B148-ED42-4746-AAF6-228ABDD11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FDEA-E3C7-41B7-B207-2EEC5DC2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8654-5D1C-4030-B650-6AC867C0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4889-1191-47C8-A059-5A2BBF74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EB1D-1E58-481A-B210-40A46F4A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AA94-8804-41FF-A7CF-A2A67A60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096B-1C9E-4748-9A54-FAF8E909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C110-3303-4A0F-8FF0-9116B228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E488-C595-4FB2-91A2-A2F1B19C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3E69-B796-4B03-A6C0-2FA13BEE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C687-E86B-45E0-A294-0170D01F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19D1-048F-447C-9264-C7D941F7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DA92-A00A-4D7D-9254-1E9659DD4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7B4F-50A8-432D-8F4A-82BBEDBE6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CDFD1-6383-491B-9580-11864432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F46BF-7E2C-4A1D-B838-63CAB516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B7D66-E7B8-4454-8B55-D5C3C517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C3655-7754-41F8-8266-3D10832C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6140D-4C99-435B-9A42-0F9D6C29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3EFD-56A5-48C7-87B3-CD9F8450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285EE-C368-4258-860D-29E1686C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CE5AA-DB78-4FE1-8C96-9C6E1A1C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86946-4D2A-4805-9DC1-3A6A1E8F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3E199-94D2-4A00-B89B-3894CC51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EB19C-3BA0-496F-8BED-C74A1862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7F683-9714-46D4-8D32-0A8136F72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C1719-E66C-4E6B-90EF-6B75DD0A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18539-718F-45E5-BC26-58728CD99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A08B5-45D8-4A95-B87B-09B9B6CF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FBF50-B50B-428C-B51B-33EC22B0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480D-9307-491D-93DE-DCBF3138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ABCA0-2809-47C0-9135-3AC86012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D99F8-0375-4FF7-82EC-7F31D8E3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9C277-F32C-4204-A23B-CA26E284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EA785-400D-4D4D-97AF-F2A10086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DACB3-A372-419B-AAED-905CD351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052BA-5ABA-4949-8FDB-D4B3F6AE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C2A85-A3ED-4795-B4C1-B8D11B74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C3EE8-577C-45F2-8171-7ACB32929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911F3-ABD7-4B0A-88E3-BA2484E0A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64B2-955C-41A0-A520-93241213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ACBA-BD9C-43CB-B323-D5E294FE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4B3C-44A8-461B-8751-E0F487D8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3952-23CA-400B-B167-13A8C5FF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50D3-AF83-4C96-B819-91EB74FA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F334-F17A-46B7-A90A-41DFBFFDA9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EF34-FEB0-47EB-A8AF-BCB5A17FF3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A72D-83AC-42E1-A16C-C32304A8C4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9081-C53B-4E3E-A150-F2ADDA471D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5760" y="2276280"/>
            <a:ext cx="859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Правила общения по электронной почте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4000" y="3860640"/>
            <a:ext cx="8134200" cy="25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исов Владимир Анатолье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ий филиа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У ВПО «Академия народного хозяйст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Правительстве РФ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 2010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отправляйте с письмом большие файл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A8C5B-2CB9-42DE-9D21-BDA3F3CB8C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сю входящую почту необходимо проверять антивирусной программ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5E569-4B19-4D89-8994-34A9418D13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читайте письма, пришедшие от неизвестных отправител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622BB-F9DC-4A55-AF60-887A4D9521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открывайте вложения, полученные от неизвестного вам отправител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7CA6A-1D7C-4322-BA11-A9B764FE9E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посылайте по электронной почте информацию секретного или личного характер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23B85-381D-4C84-9985-9D1CE821E6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сообщайте своих парол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72986-0CEA-48C0-9291-96F7DB25D8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 регистрациях в сети Интернет не оставляйте своих личных данны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F4387-FC1F-49DA-AA01-3DCC22DF19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сообщайте о себе ту информацию, которая может быть использована против вас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9124F-69CC-467D-8754-8DE786CD6C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Если вы просите что-либо, не забывайте говорить «пожалуйста». Аналогично, если некто делает что-нибудь для вас, никогда не бойтесь сказать «спасибо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7DB60-4FB9-4029-BAEE-79B782A705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ля компенсации эмоциональной недостаточности можно использовать «смайлики», но не в деловой переписк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DBF68-2F2C-4179-AB08-9DE5F4D230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5075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егулярно читайте свою почту. Отвечайте на письма не позже чем на следующий ден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9232E-AFCD-4D3E-9920-16FE725854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тексте сообщения не следует использовать прописные буквы, так как ТЕКСТ, ВЫДЕЛЕННЫЙ ТАКИМ ОБРАЗОМ, рассматривается как «крик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97B45-567C-4F25-B9EF-F272D85FDE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бращаться к незнакомым людям по электронной почте можно только в том случае, если адрес был опубликован его владельцем. Отправка незатребованной корреспонденции является нарушением правил сетевого этикета и называется электронным спам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C12E7-1ABE-4F9A-A4B7-ACDAF31174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 неполучении ответа от незнакомых людей повторять обращение не следуе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406B2-F467-4C7C-B2E2-E22C9E5209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comp-science.narod.ru/pr_nab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monogramma.ru/design/nabor_text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www.ugatu.ac.ru/ddo/stuff/met_avtora/8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.Ю.Заславская, И.В.Левченко – Информатика. Весь курс для подготовки к ЕГЭ – М, Эксмо, 201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DEA84-917C-49CD-B767-47E95C17A8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Если обращение поступило от незнакомого человека и оно обосновано, то следует ответить в течение трех суто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7861D-AA28-4005-8C3E-171983F803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поле «Тема» нужно отразить суть письма с учетом того, как его может воспринять адреса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DBA2E-C9AB-4B17-B6DB-6A603119DE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ишите грамот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E9CD5-FAA6-4449-A537-F53601D0A6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отправляйте письма, написанные «под горячую руку». Перечитайте их в спокойном состоян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C5B72-514A-4169-B836-E12609E0F2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нимательно относитесь к заполнению полей «Кому» и «Копия», чтобы текст письма или чужой электронный адрес не попали тем, кому они не предназначен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49455-A0B0-4E69-8B75-954011DFA6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Цитируйте в своем письме оригинальное сообщение в объеме, достаточном для того, чтобы можно было правильно восстановить контекст данного ответ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51801-C14A-4C1D-A102-3B28D64370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спользуйте подпись: указывайте несколько способов связи (обычно это номера телефонов и факса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F1827-E576-45AE-B54F-3F1B03CC71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9:14:33Z</dcterms:created>
  <dc:creator>БВА</dc:creator>
  <dc:description/>
  <dc:language>en-US</dc:language>
  <cp:lastModifiedBy>БВА</cp:lastModifiedBy>
  <dcterms:modified xsi:type="dcterms:W3CDTF">2010-11-06T10:25:08Z</dcterms:modified>
  <cp:revision>9</cp:revision>
  <dc:subject/>
  <dc:title>Язык поисковых запросов</dc:title>
</cp:coreProperties>
</file>