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6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4.wmf" ContentType="image/x-wmf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8.png" ContentType="image/pn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038-6D8B-4000-961A-34A3FC87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0CA-8C13-4431-9E89-1F54B064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3D4-DD4B-4C8A-AE4F-6190BAEF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0AE-F323-415E-A052-283BBF5A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554-F087-42BF-9344-4435E22E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54C-5435-47F7-9804-CE7E5B89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C9D-42B7-46E3-B4EE-AF800F54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B5EA-8FC7-4E56-9431-3D1ADC94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0D9-C5BD-431A-8385-440C97E2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4A3-5776-4097-B836-912DDCA8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9E7-8F33-4426-886E-EA1BF49F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BD6-BBE2-4C52-9944-D08107AA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DA9A-1865-4EE8-AA15-1E2CF7E55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80880"/>
            <a:ext cx="685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Законч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тихотвор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2532240" cy="441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053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533520"/>
            <a:ext cx="1108080" cy="96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391520" y="685800"/>
            <a:ext cx="1181160" cy="94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68360" y="1125360"/>
            <a:ext cx="482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цея №1589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арова Гали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-43920"/>
            <a:ext cx="8424720" cy="50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2520" rIns="825120" tIns="5396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кромный серый колоб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ный тонкий провод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у а на коробке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или три кноп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оопарке есть зайчиш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 компьютера есть 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  <a:ea typeface="Times New Roman"/>
              </a:rPr>
              <a:t>...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310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200" y="74314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54165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476280"/>
            <a:ext cx="766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но смелый капит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на нем - горит эк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ркой радугой он дыш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на нем компьютер пиш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рисует без запин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евозможные картин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ерху машины вс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мещ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019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00000" y="692280"/>
          <a:ext cx="7632720" cy="32403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теперь, друзья, загадка!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 такое; рукоятк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нопки две, курок и хвостик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у конечно, это ...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60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6500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коло дисплея - главный бл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ам бежит электр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самым важным микросхем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т блок зовут ……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11640" y="333360"/>
            <a:ext cx="3514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813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клавишам прыг да скок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-ре-ги но-го-т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-два и готово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стукали сл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где пальцам физ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вот - 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66661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549360"/>
          <a:ext cx="7777080" cy="4608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46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чего же этот ящик?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н в себя бумагу тащи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сейчас же буквы, точки, Запятые - строчка к строчке -Напечатает картинку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вкий мастер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т ….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692280"/>
            <a:ext cx="4672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549000"/>
            <a:ext cx="76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на как новая ко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нам в жизнь стремительно лети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имя просто ей -………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информацию хран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ней записаны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для мамы, и для пап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паковке, как конфе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стро верти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56000" y="765000"/>
            <a:ext cx="54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7560" y="475920"/>
            <a:ext cx="6860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компьютеры по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ворят между соб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 для этого од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 штуковина нуж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телефону подключ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общение получи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щь, известная не все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ыв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6310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6:26:31Z</dcterms:created>
  <dc:creator>1</dc:creator>
  <dc:description/>
  <dc:language>en-US</dc:language>
  <cp:lastModifiedBy>Мама</cp:lastModifiedBy>
  <dcterms:modified xsi:type="dcterms:W3CDTF">2010-10-08T11:11:01Z</dcterms:modified>
  <cp:revision>24</cp:revision>
  <dc:subject/>
  <dc:title>Слайд 1</dc:title>
</cp:coreProperties>
</file>