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556F-437B-48BE-B632-7E879F6B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2B8B-B218-43B9-A777-EA45B1EB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70E8-1449-4351-AF33-544B83EF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C18E-BE89-4CD1-9A3F-F8966EC40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F188-BA7B-4BDD-8183-5E1C6222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2523-3B65-4A77-A1EC-21CE3B10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F7EB-CF65-4E81-835B-14F82E23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827E-317D-400F-AC99-2A6328DC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CE39-45A9-4104-8221-03821311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2852-0670-47BA-8AAA-515912C7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16DE-216A-4B59-A8C9-A2BC2725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3618-D964-4927-A58B-7D3E06A5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3A03-1940-4616-9708-C0C34E342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99"/>
                </a:solidFill>
                <a:latin typeface="Arial"/>
              </a:rPr>
              <a:t>Отношения между объекта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300360" y="4941360"/>
            <a:ext cx="183204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40464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Отношения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Times New Roman"/>
              </a:rPr>
              <a:t>– это 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связь </a:t>
            </a:r>
            <a:br>
              <a:rPr sz="3600"/>
            </a:b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между объект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033960" cy="430992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1834920" y="2133720"/>
            <a:ext cx="46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ершина слева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3300"/>
                </a:solidFill>
                <a:latin typeface="Arial"/>
              </a:rPr>
              <a:t>ни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916360" y="3428640"/>
            <a:ext cx="0" cy="280836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724360" y="2924280"/>
            <a:ext cx="0" cy="3311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Примеры отношен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ешевле (дорож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линнее (короч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брее (зле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71640" y="3789360"/>
            <a:ext cx="1968480" cy="2622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300720" y="3645000"/>
            <a:ext cx="23068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Родствен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Симметрич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535280" cy="3017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140360" y="3357720"/>
            <a:ext cx="4568760" cy="3124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6000" y="5013360"/>
            <a:ext cx="33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ловек собаке - др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48360" y="170028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бака – друг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8576000">
            <a:off x="3833280" y="3025440"/>
            <a:ext cx="1116000" cy="2135160"/>
          </a:xfrm>
          <a:prstGeom prst="upDownArrow">
            <a:avLst>
              <a:gd name="adj1" fmla="val 50000"/>
              <a:gd name="adj2" fmla="val 3808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Несимметрич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24360" y="2924280"/>
            <a:ext cx="4664160" cy="3120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3338640" cy="4176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03280" y="3357720"/>
            <a:ext cx="1222560" cy="720720"/>
          </a:xfrm>
          <a:prstGeom prst="rightArrow">
            <a:avLst>
              <a:gd name="adj1" fmla="val 50000"/>
              <a:gd name="adj2" fmla="val 42408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76720" y="5084640"/>
            <a:ext cx="1079640" cy="649440"/>
          </a:xfrm>
          <a:prstGeom prst="rightArrow">
            <a:avLst>
              <a:gd name="adj1" fmla="val 50000"/>
              <a:gd name="adj2" fmla="val 4156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6084720" y="2131560"/>
            <a:ext cx="717480" cy="2448000"/>
          </a:xfrm>
          <a:prstGeom prst="upDownArrow">
            <a:avLst>
              <a:gd name="adj1" fmla="val 50000"/>
              <a:gd name="adj2" fmla="val 6792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51640" y="314172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рат - б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5229360"/>
            <a:ext cx="9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0800000">
            <a:off x="5003280" y="4508280"/>
            <a:ext cx="1079640" cy="649080"/>
          </a:xfrm>
          <a:prstGeom prst="rightArrow">
            <a:avLst>
              <a:gd name="adj1" fmla="val 50000"/>
              <a:gd name="adj2" fmla="val 4158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48360" y="4653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ес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32000" y="3500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ы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763280" y="2923920"/>
            <a:ext cx="1079640" cy="649080"/>
          </a:xfrm>
          <a:prstGeom prst="rightArrow">
            <a:avLst>
              <a:gd name="adj1" fmla="val 50000"/>
              <a:gd name="adj2" fmla="val 4158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Несимметрич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2001960" cy="2747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219640" y="3500280"/>
            <a:ext cx="3295800" cy="2681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rot="1914000">
            <a:off x="2268360" y="3716280"/>
            <a:ext cx="3240360" cy="1511280"/>
          </a:xfrm>
          <a:prstGeom prst="rightArrow">
            <a:avLst>
              <a:gd name="adj1" fmla="val 50000"/>
              <a:gd name="adj2" fmla="val 5360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897800">
            <a:off x="2770560" y="3933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2685200">
            <a:off x="2843280" y="2420640"/>
            <a:ext cx="3240000" cy="1511280"/>
          </a:xfrm>
          <a:prstGeom prst="rightArrow">
            <a:avLst>
              <a:gd name="adj1" fmla="val 50000"/>
              <a:gd name="adj2" fmla="val 5359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882200">
            <a:off x="3923280" y="29239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ц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Главно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бъекты связаны между собой отношениям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тношения могут быть родственные, характеризующие размер, расстояние, количество и т.д.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тношения бывают симметричные и несимметрич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Ав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хидова Надежда Анато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мский к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Добря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«Добрянская СОШ №1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1:43:31Z</dcterms:created>
  <dc:creator>Comp</dc:creator>
  <dc:description/>
  <dc:language>en-US</dc:language>
  <cp:lastModifiedBy>Учитель</cp:lastModifiedBy>
  <dcterms:modified xsi:type="dcterms:W3CDTF">2010-03-09T10:24:09Z</dcterms:modified>
  <cp:revision>8</cp:revision>
  <dc:subject/>
  <dc:title>Слайд 1</dc:title>
</cp:coreProperties>
</file>