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696-3715-4742-A5BC-F2308085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4A1-91DC-413B-9FFD-B1E1A0F9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0FB-FAB3-49F9-8FD2-01EAAE50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BB2-6D46-4EBA-B4E9-6381BF43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562E-5C76-4D55-8DB2-96A93D5F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ACDD-58EC-4028-A95F-1874E5EA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4FB2-7888-4E3C-905D-C46D54F4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BDF0-BF99-45B2-8FFA-CB579F2F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E22E-DF02-4816-BF6A-7562912A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8F69-91E4-442A-8D29-91CE7966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CD9A-BC1D-48F6-A570-39879A10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2CA-E2B0-426D-990C-5687F3EC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C6A2-BA7F-4093-91CB-AE51A78C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303A-20E0-463B-86FF-EDD1F069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7F88-5297-4EFB-AA6D-274E3797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3B7B-D07A-4A66-8D3B-E55878B2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BF9E-6F0F-4939-9A67-B720651F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1C4-2FBB-46AC-BAAD-F357E7AF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E44-4D5B-4BDE-92FB-D6296FE3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775-9E72-46EE-ACE6-7C61471F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80C-CA8C-4A1A-81BC-577A1B87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6FF-6BAF-46B3-8346-C5BFDA63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BA2-8A49-4E18-B03E-A6E98AE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B12-0145-4322-8EF0-A173F913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9222-D4B6-45BA-9A71-6B0A7AD188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7526-8B5F-4F04-8BDC-A170FF0F21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8;&#1077;&#1084;&#1072; &#1089;&#1090;&#1080;&#1093;&#1086;&#1090;&#1074;&#1086;&#1088;&#1077;&#1085;&#1080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9,5,&#1054;&#1089;&#1085;&#1086;&#1074;&#1085;&#1072;&#1103; &#1084;&#1099;&#1089;&#1083;&#1100; (&#1080;&#1076;&#1077;&#1103;)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0,7,&#1048;&#1079;&#1086;&#1073;&#1088;&#1072;&#1079;&#1080;&#1090;&#1077;&#1083;&#1100;&#1085;&#1086;-&#1074;&#1099;&#1088;&#1072;&#1079;&#1080;&#1090;&#1077;&#1083;&#1100;&#1085;&#1099;&#1077; &#1089;&#1088;&#1077;&#1076;&#1089;&#1090;&#1074;&#107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3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тихотво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4932360" y="55897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читель русского языка и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стихотвор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 чем (или о ком) говорится в стихотв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часто тема отражается в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ая мысль (идея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та мысль, которую хотел донести автор стихотворения до читателя (слушат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 может быть выражена в заглавии или в какой-нибудь строке стихотворения. Но чаще всего её надо «найти» и сформ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39Z</dcterms:created>
  <dc:creator>User</dc:creator>
  <dc:description/>
  <dc:language>en-US</dc:language>
  <cp:lastModifiedBy>Лариса</cp:lastModifiedBy>
  <dcterms:modified xsi:type="dcterms:W3CDTF">2012-10-14T02:42:57Z</dcterms:modified>
  <cp:revision>3</cp:revision>
  <dc:subject/>
  <dc:title>Анализ  стихотворения</dc:title>
</cp:coreProperties>
</file>