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7869-B907-498A-9848-02E468953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7FC8-114A-4C90-81D3-DB8DA4E7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843D-93A3-4CF2-B3BA-2F149E9AC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0AF6-BBA5-4633-A865-1A09833DB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6487-AB7C-401B-B57D-505C7B84E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EC45-698F-4978-B7BB-B1A921F0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4637-D3EB-4D85-9572-869AA54A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4161-2AC4-44F0-A318-323694AB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C114-EEC8-46A4-B04B-A96CA275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A628-F2C4-475D-A557-BB2368C0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F60E-891A-4D09-B970-C2D0C8FF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C96B-718F-44E3-9AE5-D66004DB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257C-9D5E-4192-83D9-C37974A8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87F1-06BF-47BA-A27E-C6912513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7E9D-5F8C-4F6C-AF2E-5C228C85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9AEE-1F2C-4B63-9F72-201737A0E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E77F-F09F-4ED4-AED9-10D74E149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F6B6A-45BF-4945-AF96-72F942E4D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40036-7293-499E-91BB-F69E842A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7CC42-3283-4C13-A778-07C2F809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90C6A-14C6-409E-8C9E-F8613270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C3A83-950F-4EDE-B41A-51158D16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2D0D-8095-4E45-9F89-95129768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4ABB9-6056-4F89-A819-1042D670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74695-93D6-4ADB-90AE-1D56639E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7537C-4820-426D-90EE-A0469FD3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9CBC0-E528-4705-ABF0-9BC86FE4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401A2-A3F3-4DD5-8D85-B453E170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45874-BF68-4A40-BECD-62FAD1872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95D92-B28A-454F-AD82-EC6D105C4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57AEA-2A1A-406A-875C-36D798262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8ACF3-765A-4626-8ADF-7DF4DFE1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2D9B6-2B34-4B59-8614-276A621E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8DE4-566B-46F3-9036-09BE12CD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9129D-ED9D-40CD-9BE0-ADA038A9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72386-4EC2-47A6-BF9E-936F56CE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98582-16F8-4352-BA81-593CDF9B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3EA66-EC5D-4EDA-A696-ABE27098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971C9-0559-436C-ABC4-D2325FDC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4601C-82B9-4250-8692-1F82853D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BCAFF-89B0-45C9-8131-D124BCB2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34DA3-BA2A-43DA-877A-FCBE2C297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4785D-69EE-4C1B-BA73-34372019B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83686-C9BC-4E7C-B44E-872D62FA1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5777-F0F6-4FBA-B6A7-FF1BF58D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09AA9-0F63-47E6-8D7E-EF2A8B0E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ED580-6376-4578-9273-CD7B383E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FA2FA-9424-4E65-B9F2-3438C55E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A4CA2-9AB6-459D-AD3C-B268F6D8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A774D-1102-4758-BFA6-8BCA946C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50EEA-2909-48AE-8F61-52DE53DF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A9608-C9DD-4723-934E-AA26BD46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A81B0-305E-4D5E-8AAA-36D46270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1DEA3-00CF-4CA0-AC48-25ACA2EA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999D2-5B42-4BDA-A6B1-33B57753C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336C-7020-43EB-9501-D1FE851D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9EC95-2639-44FF-A003-AECEBADA6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ECC3-3911-466E-A51D-B4EC4652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7DD5-ED52-4290-BCE7-3BED372D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635E-15A6-4B85-8AEB-E6F2A379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EE4A-FE68-4E11-8D49-EED09A1BE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287E-9343-4454-9A6E-777FBC5A750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5FA9-E699-423A-B9E5-07EC990CF7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59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5EE8-F71B-485D-A859-78B6A1D5B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19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47C6-4EF6-49D8-8098-4E691B4003A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Автор: Ошнокова Ася Герихановна,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учитель русского языка и литературы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МКОУ «СОШ им. Х. Х. Долова»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с. п. Хатуей Лескенского района КБР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Шутки Гоголя, которых передать нет никакой возможности, были так оригинальны и забавны, что неудержимый смех одолевал всех, кто его слушал; сам же он всегда шутил, не улыбаясь.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                                                            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. Т. Аксаков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Как упоительны, как роскошны, как необыкновенно притягательны повести неведомого в Санкт-Петербурге пасичника Рудого Панька». Они изумили меня. Вот настоящая веселость, искренняя, непринужденная, без жеманства, без чопорности. А все это так необыкновенно в нашей нынешней литературе, что я доселе не образумился», - писал А. С. Пушкин.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Столь высоко оцененные Пушкиным повести под названием «Вечера на хуторе близ Диканьки» вышли в 1831 году, а их автор обитал в ту пору  в Павловске, неподалеку от Пушкина, проводившего лето в Царском Селе. Было молодому и враз ставшему известным Н. В. Гоголю 22 года.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Повесть Н. В. Гоголя «Ночь перед Рождеством» вошла в цикл ранних его повестей под общим названием «Вечера на хуторе близ Диканьки».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«Ночь перед Рождеством» есть целая, полная картина домашней жизни народа, его маленьких горестей, словом, тут вся поэзия.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                                                         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В. Г. Белинский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WordArt 5"/>
          <p:cNvSpPr txBox="1"/>
          <p:nvPr/>
        </p:nvSpPr>
        <p:spPr>
          <a:xfrm>
            <a:off x="1619280" y="1125360"/>
            <a:ext cx="612144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« Брейн-ринг 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40384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1. Что ведьма собирала в рукав в ночь перед Рождеством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2. Как ведьма и черт попали в хату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3. Кто и зачем украл месяц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4. За что черт мстил кузнецу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5. Сколько лет было Оксане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6. Какой подарок готовил кузнец Оксане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7. Как звали ведьму, и кем она приходилась кузнецу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00720" y="475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Звезд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Через труб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Черт, чтобы устроить мелкую пакость кузнецу Вакуле: по темноте Чуб – отец Оксаны никуда не уйдет из дому, и свидание не состоитс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Кузнец намалевал в церкви картину Страшного суда, где бедного черта били чем ни попад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16-17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Сундук с железной оковкой и роспись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Солоха, мать кузнеца.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2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2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2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29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2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2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417168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8. Почему из всех своих ухажеров Солоха предпочитала Чуба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9. Как случилось, что кузнец поколотил Чуба, отца Оксаны, и выгнал его из его собственного дома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10. Какое условие кузнецу поставила Оксана, согласившись выйти за него замуж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0" y="475920"/>
            <a:ext cx="41148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Чуб был богат, хозяйство содержал в порядке, хоть и не молод был, но еще в добром здравии, а самое главное – был вдовец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Кузнец был раздражен тем, что кто-то помешал его беседе с Оксаной, Чуба он не узнал, а тот, смущённый резкостью тона Вакулы, решил, что попал в чужую хат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Кузнец должен был достать ей «черевики, которые сама царица </a:t>
            </a: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носит»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547200" y="5239800"/>
            <a:ext cx="3891240" cy="5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11. Что такое колядование</a:t>
            </a: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427640" y="5084280"/>
            <a:ext cx="403848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Праздничный обряд под Рождество: игры, хороводы, пение песен величальных и хождение по дворам, за что хозяева одаривали чем-нибудь вкусны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Picture 6" descr="docu0009"/>
          <p:cNvPicPr/>
          <p:nvPr/>
        </p:nvPicPr>
        <p:blipFill>
          <a:blip r:embed="rId2"/>
          <a:stretch/>
        </p:blipFill>
        <p:spPr>
          <a:xfrm>
            <a:off x="2627280" y="71280"/>
            <a:ext cx="344808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2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403848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2. Кто угодил в мешки в избе Солохи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3. Кто такой Пузатый Пацюк, почему именно к нему Вакула пошёл за помощью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4. Что ел Пузатый Пацюк во время разговора с Вакулой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5. Как можно укротить чёрта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6. Куда отправился Вакула, попав в Санкт-Петербург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48320" y="981000"/>
            <a:ext cx="4038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Чёрт, голова, дьяк, Чуб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Пузатый Пацюк был когда-то запорожцем, а  ещё знался, по всеобщему мнению, с нечистой сило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Галушки, вареники со сметано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Крестным знамени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К знакомым запорожцам. </a:t>
            </a: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2000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95280" y="5589720"/>
            <a:ext cx="4038480" cy="11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7. Почему царица благосклонно отнеслась к просьбе Вакулы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42920" y="5589720"/>
            <a:ext cx="4038840" cy="11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Ей понравилось простодушие и откровенность кузнеца, да и собой он был статен и пригож.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" name="Picture 7" descr="docu0008"/>
          <p:cNvPicPr/>
          <p:nvPr/>
        </p:nvPicPr>
        <p:blipFill>
          <a:blip r:embed="rId2"/>
          <a:stretch/>
        </p:blipFill>
        <p:spPr>
          <a:xfrm>
            <a:off x="2549520" y="189000"/>
            <a:ext cx="404496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403848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18. Как запорожцы называли царицу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19. Какой слух прошёл после исчезновения кузнеца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20. Что стало с Оксаной, когда кузнец пропал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21. Как кузнец сватался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22. Как кузнец  «отблагодарил» чёрта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48320" y="620640"/>
            <a:ext cx="403848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«Мамо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Пошли слухи о его смер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Она «к утру влюбилась в кузнеца по уши»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Принёс Чубу новёхонькую шапку и красивый пояс, повалился в ноги и сказал: «Помилуй, батько! Не гневись! Вот тебе и нагайка, бей, сколько душа пожелает…Отдай, батько, за меня Оксану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Отвесил чёрту три удара хворостиной.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2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7" dur="2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20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3" dur="2000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6" dur="2000"/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WordArt 2"/>
          <p:cNvSpPr txBox="1"/>
          <p:nvPr/>
        </p:nvSpPr>
        <p:spPr>
          <a:xfrm>
            <a:off x="457200" y="-122400"/>
            <a:ext cx="80010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Урок-игра по повести Н. В. Гого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" Ночь перед Рождеством 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77" name="WordArt 3"/>
          <p:cNvSpPr txBox="1"/>
          <p:nvPr/>
        </p:nvSpPr>
        <p:spPr>
          <a:xfrm>
            <a:off x="2819520" y="4648320"/>
            <a:ext cx="2971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5 клас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6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6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WordArt 4"/>
          <p:cNvSpPr txBox="1"/>
          <p:nvPr/>
        </p:nvSpPr>
        <p:spPr>
          <a:xfrm>
            <a:off x="1116000" y="1197000"/>
            <a:ext cx="698508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 Словарик 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8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ъяснить значения слов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опа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орабли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арубо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алуш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аутрен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утья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краинский танец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женский головной убор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арень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ареник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тренняя служба в церкв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брядовое церковное кушанье из риса с изюм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1" dur="2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4" dur="20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7" dur="20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0" dur="20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2000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20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повед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ле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колото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урто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локитств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Жеманилас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лигиозная нравоучительная реч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исо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крестн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олпой, гурьбо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хажи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окетнича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ъяснить значения слов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0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3" dur="2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6" dur="20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9" dur="20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5" dur="20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8" dur="20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3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8" dur="2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20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вчат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дунк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аляниц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еревик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анночк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южи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евуш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умоч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аравай белого хлеб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ашма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евушка из богатой семь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ольшой, сильный, крепкого телослож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ъяснить значения слов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5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8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1" dur="2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4" dur="2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7" dur="2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0" dur="20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3" dur="200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2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2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3" dur="20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20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20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лов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пелю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румент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Швец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гайк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ароста деревн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шапка с уш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нструмен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рт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ну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ъяснить значения слов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0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3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6" dur="2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9" dur="2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2" dur="2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5" dur="20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2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WordArt 5"/>
          <p:cNvSpPr txBox="1"/>
          <p:nvPr/>
        </p:nvSpPr>
        <p:spPr>
          <a:xfrm>
            <a:off x="395280" y="692280"/>
            <a:ext cx="7993080" cy="51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 Выбери правильный ответ 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7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1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836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ёрт, задумав украсть месяц, перекидывает его «из одной руки в другую, как мужик, доставший голыми руками огонь для своей люльки». «Люлька» - это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Скругленный прямоугольник 3"/>
          <p:cNvSpPr/>
          <p:nvPr/>
        </p:nvSpPr>
        <p:spPr>
          <a:xfrm>
            <a:off x="900000" y="3068640"/>
            <a:ext cx="3095640" cy="1366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колыбельк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Скругленный прямоугольник 15"/>
          <p:cNvSpPr/>
          <p:nvPr/>
        </p:nvSpPr>
        <p:spPr>
          <a:xfrm>
            <a:off x="5148360" y="3068640"/>
            <a:ext cx="3152520" cy="1368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свечк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Скругленный прямоугольник 16"/>
          <p:cNvSpPr/>
          <p:nvPr/>
        </p:nvSpPr>
        <p:spPr>
          <a:xfrm>
            <a:off x="5508720" y="4724280"/>
            <a:ext cx="3024000" cy="15130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) трубка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Скругленный прямоугольник 14"/>
          <p:cNvSpPr/>
          <p:nvPr/>
        </p:nvSpPr>
        <p:spPr>
          <a:xfrm>
            <a:off x="466560" y="4653000"/>
            <a:ext cx="3025800" cy="15127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кружк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4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7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0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6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9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521" nodeType="clickEffect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2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8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529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3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537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545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5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2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836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удый Панько в «Вечерах на хуторе близ Диканьки» это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герой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издатель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) такого персонажа нет 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рассказчик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8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1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0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3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4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575" nodeType="clickEffect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8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583" nodeType="clickEffect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0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591" nodeType="clickEffect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9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8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599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0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3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68000" y="836640"/>
            <a:ext cx="8218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ие тропы использованы Гоголем в предложении: «Снег загорелся широким серебряным полем и весь обсыпался хрустальными звездами»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метафор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гипербола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литота.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эпитет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5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8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1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7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629" nodeType="clickEffect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3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6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637" nodeType="clickEffect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4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645" nodeType="clickEffect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653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5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4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му принадлежала «невыразимо приятная усмешка, прожигавшая душу»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Солохе 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царице 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) Вакуле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Оксане 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2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8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1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2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683" nodeType="clickEffect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8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691" nodeType="clickEffect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9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699" nodeType="clickEffect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0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6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707" nodeType="clickEffect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1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портрет-шкатулка"/>
          <p:cNvPicPr/>
          <p:nvPr/>
        </p:nvPicPr>
        <p:blipFill>
          <a:blip r:embed="rId1"/>
          <a:stretch/>
        </p:blipFill>
        <p:spPr>
          <a:xfrm>
            <a:off x="0" y="0"/>
            <a:ext cx="9217080" cy="68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5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чем Вакула отправился к Пузатому Пацюку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хотел попросить денег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в гости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хотел с его помощью найти дорогу к черту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) хотел поколядовать около его дома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0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3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6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9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2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5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6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737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4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4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745" nodeType="clickEffect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5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2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753" nodeType="clickEffect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5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0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761" nodeType="clickEffect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6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то больше всего поразило Вакулу во дворц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архитектур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картины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наряды придворных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медная ручк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4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3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6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0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791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9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8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799" nodeType="clickEffect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0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6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807" nodeType="clickEffect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4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815" nodeType="clickEffect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2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7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ие реальные лица действуют в повести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Екатерин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Фонвизин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Суворов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Потемкин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8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1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7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0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3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4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845" nodeType="clickEffect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5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853" nodeType="clickEffect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5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0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861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6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8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869" nodeType="clickEffect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7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8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чем состоит грех Вакулы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он хотел погубить свою душу и воспользовался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мощью нечистой силы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н непочтительно разговаривал с царицей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н не послушался своей матер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н хотел жениться на чужой невесте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2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5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8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1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4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7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8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899" nodeType="clickEffect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90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6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907" nodeType="clickEffect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4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915" nodeType="clickEffect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92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2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923" nodeType="clickEffect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92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WordArt 8"/>
          <p:cNvSpPr txBox="1"/>
          <p:nvPr/>
        </p:nvSpPr>
        <p:spPr>
          <a:xfrm>
            <a:off x="0" y="333360"/>
            <a:ext cx="8790120" cy="58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«Узнай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ко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литературны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ие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спользовал автор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6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415280" cy="468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1) «Глянули звёзды. Месяц величаво поднялся на небо посветить добрым людям и всему миру, чтобы всем было весело колядовать и славить Христа»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      </a:t>
            </a:r>
            <a:br>
              <a:rPr sz="4800"/>
            </a:b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476360" y="5105520"/>
            <a:ext cx="6400800" cy="8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лицетвор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3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8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846920" cy="3029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2) «… месяц один заглядывал в них украдкою»</a:t>
            </a:r>
            <a:br>
              <a:rPr sz="4800"/>
            </a:b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	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лицетвор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5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0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917120" cy="367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3) «...зато было так тихо, что скрип мороза под сапогом слышался за полверсты»</a:t>
            </a:r>
            <a:br>
              <a:rPr sz="4800"/>
            </a:b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371600" y="458100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Гипербо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7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2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4) «ясная ночь»                                      </a:t>
            </a:r>
            <a:br>
              <a:rPr sz="54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Эпит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9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4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5) «скрипучий снег»                </a:t>
            </a:r>
            <a:br>
              <a:rPr sz="54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Эпит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1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6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Цели урока: повторение и закрепление материала по повести Н. В. Гоголя «Ночь перед Рождеством»; развитие интереса к литературе, к творчеству Н. В. Гоголя; обучение навыкам групповой работы; создание положительного настроя, поощрение индивидуального творчества учащихся.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846920" cy="4753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6) «Тут через трубу одной хаты клубами повалил дым и пошёл тучею по небу, и вместе с дымом поднялась ведьма верхом на метле»</a:t>
            </a:r>
            <a:br>
              <a:rPr sz="4800"/>
            </a:b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332000" y="5229000"/>
            <a:ext cx="6400800" cy="69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иём неожидан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3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8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846920" cy="424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7) Пузатый Пацюк: «ел за шестерых косарей и выпивал одним разом почти по целому ведру»      </a:t>
            </a:r>
            <a:br>
              <a:rPr sz="54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00800" cy="12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Гипербо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0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docu0011"/>
          <p:cNvPicPr/>
          <p:nvPr/>
        </p:nvPicPr>
        <p:blipFill>
          <a:blip r:embed="rId2"/>
          <a:stretch/>
        </p:blipFill>
        <p:spPr>
          <a:xfrm>
            <a:off x="2408400" y="115920"/>
            <a:ext cx="428148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WordArt 5"/>
          <p:cNvSpPr txBox="1"/>
          <p:nvPr/>
        </p:nvSpPr>
        <p:spPr>
          <a:xfrm>
            <a:off x="971640" y="1197000"/>
            <a:ext cx="705636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" Найди фразеологизм 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7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1. «Чуб не без тайного удовольствия видел, как кузнец, который никому на селе в ус не дул, сгибал в руке пятаки и подковы, как гречневые блины, тот самый кузнец лежал у его ног».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403280" y="5661000"/>
            <a:ext cx="6400800" cy="7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ус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не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ду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4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9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2. «Тут чёрт, подъехавши мелким бесом, подхватил её под руку и пустился нашёптывать на ухо то самое, что обыкновенно нашёптывают на ухо всему женскому роду».</a:t>
            </a:r>
            <a:br>
              <a:rPr sz="32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1403280" y="515736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дъехал мелким бесо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6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1" dur="2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504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3. «…Оксана отклонила свои щёки, находившиеся уже на неприметном расстоянии от губ кузнеца, и оттолкнула его.</a:t>
            </a:r>
            <a:br>
              <a:rPr sz="28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-Чего тебе ещё хочется? Ему когда мёд, так и ложка нужна! Поди прочь, у тебя руки жёстче железа. Да и сам ты пахнешь дымом. Я думаю, меня всю обмарал сажею».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476360" y="6021360"/>
            <a:ext cx="640080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му когда мёд, так и ложка нужна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3" dur="2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56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4. «- Сделай милость, добрый человек, не откажи! – наступал кузнец: - свинины ли, колбас, муки гречневой, ну, полотна, пшена или иного прочего , в случае  потребности… как обыкновенно между добрыми людьми водится… не поскупимся. Расскажи хоть, как, примерно сказать, попасть к нему на дорогу?</a:t>
            </a:r>
            <a:br>
              <a:rPr sz="24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- Тому не нужно далеко ходить, у кого чёрт за плечами,- произнёс равнодушно Пацюк, не изменяя своего положения»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476360" y="5805360"/>
            <a:ext cx="640080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Тому не нужно далеко ходить, у кого чёрт за плеч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0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5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6ab4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docu0010"/>
          <p:cNvPicPr/>
          <p:nvPr/>
        </p:nvPicPr>
        <p:blipFill>
          <a:blip r:embed="rId1"/>
          <a:stretch/>
        </p:blipFill>
        <p:spPr>
          <a:xfrm>
            <a:off x="2448000" y="189000"/>
            <a:ext cx="429408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6ab4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589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…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все люди, способные чувствовать искусство, были в полном восторге от Гоголя…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С. Т. Аксаков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9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Оборудование: выставка книг Н. В. Гоголя и о нем; материалы из альбома выставки «Н. В. Гоголь»; иллюстрации к повести «Ночь перед Рождеством»; иллюстрации учащихся к повести «Ночь перед Рождеством»; высказывания современников Н. В. Гоголя о нем и о повести «Ночь перед Рождеством».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6ab4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1280" y="4797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Знаю, что моё имя после меня будет счастливее  меня и потомки тех же земляков моих, может быть, с глазами, влажными от слёз, произнесут примирение моей тени.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                 Н. В. Гоголь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394" name="Picture 5" descr="Гоголь"/>
          <p:cNvPicPr/>
          <p:nvPr/>
        </p:nvPicPr>
        <p:blipFill>
          <a:blip r:embed="rId1"/>
          <a:stretch/>
        </p:blipFill>
        <p:spPr>
          <a:xfrm>
            <a:off x="2700360" y="189000"/>
            <a:ext cx="3565440" cy="47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9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одведение итогов. 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одсчет командных очков и выставление оценок, награждение сувенирами активных участников игры.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Домашнее задание: подготовить выступление «Жизнь и творчество Ф. М. Тютчева»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Слово учителя.</a:t>
            </a: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Сегодня у нас будет необычный урок ­– урок-игра по повести Н. В. Гоголя «Ночь перед Рождеством».</a:t>
            </a:r>
            <a:br>
              <a:rPr sz="2000"/>
            </a:b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Игра будет состоять из 5 туров.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Брейн - ринг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 этом туре будут вопросы, на которые вы должны будете дать краткий отве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Словарик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десь вам предстоит объяснить значения предложенных вам сл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Выбери правильный ответ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ы должны будете найти правильный ответ из четырех предложенных вариант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Узнай, какой литературный прием использовал автор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десь будут вам предложены словосочетания или отрывки из текста, а вы должны будете определить, какой литературный прием использовал Н. В. Гоголь при описании или характеристике данного предмета или персонаж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Найди фразеологизм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ы постараетесь найти в данных отрывках фразеологизм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17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За каждый правильный ответ вы получите один балл. Набравшие 10 и более баллов получат «5», 7 – 9 баллов – «4», 5 – 6 баллов – «3». Но если кто-нибудь наберет 20 баллов, я обещаю поставить две «5».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А сейчас вашему вниманию предлагается инсценировка отрывка из повести «Свидание Вакулы с Оксаной», подготовленный нашими учащимися.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Пожалуйста!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640720" cy="51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Эпиграф к уроку: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Не потому, что особой причуде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Дань отдаю в этом тихом краю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Просто – мне дорого все, что и людям,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Все, что мне дорого, то и пою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                               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А. Т. Твардовский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Его длинные  каштановые волосы прямыми космами спадали ниже ушей, слегка загибаясь над ними. Тонкие, тёмные, шёлковые усики чуть прикрывали полные красивые губы… Небольшие карие глаза глядели ласково, но осторожно и не улыбаясь, даже тогда, когда он говорил что-либо весёлое и смешное. Длинный, сухой нос придавал этому лицу и этим сидевшим по его сторонам осторожным глазам что-то птичье, наблюдавшее и вместе добродушно-горделивое…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Г. П. Данилевский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1:46:28Z</dcterms:created>
  <dc:creator>User</dc:creator>
  <dc:description/>
  <dc:language>en-US</dc:language>
  <cp:lastModifiedBy>Мама</cp:lastModifiedBy>
  <dcterms:modified xsi:type="dcterms:W3CDTF">2012-08-11T14:50:33Z</dcterms:modified>
  <cp:revision>27</cp:revision>
  <dc:subject/>
  <dc:title>Слайд 1</dc:title>
</cp:coreProperties>
</file>