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B7B5-E18B-4A7B-8EC8-F436A8DB0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AFA7-FD4F-4221-ACC6-AFA6FAEBD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CFFA-B993-42E4-9FC8-D83F488F5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5504-2627-424F-BE95-5182581A3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03C4-4173-41C6-A574-A3AF4AF0A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26E1-B161-4833-945B-8DE4554AB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3C47-37DF-4600-AE90-9AB179ABE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6AFD-6ECF-4EEA-9AE4-D3CFCB76F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B2DD-53D0-4552-BFB0-2D3831E03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BD45-DED4-4E33-B773-7259DAD5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9C2F-4BC7-4AA9-BC68-DB9987915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F46A-87D3-4E3F-BDF1-288974D48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38C9A-4989-414B-BD83-0961EC24F1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5291280" y="469800"/>
            <a:ext cx="4346280" cy="227988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4" descr=""/>
          <p:cNvPicPr/>
          <p:nvPr/>
        </p:nvPicPr>
        <p:blipFill>
          <a:blip r:embed="rId2"/>
          <a:stretch/>
        </p:blipFill>
        <p:spPr>
          <a:xfrm>
            <a:off x="5694480" y="2646360"/>
            <a:ext cx="3290760" cy="3005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" descr=""/>
          <p:cNvPicPr/>
          <p:nvPr/>
        </p:nvPicPr>
        <p:blipFill>
          <a:blip r:embed="rId3"/>
          <a:stretch/>
        </p:blipFill>
        <p:spPr>
          <a:xfrm>
            <a:off x="285840" y="357120"/>
            <a:ext cx="5000400" cy="60865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0" y="356760"/>
            <a:ext cx="450072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воевание арабами византийских областей и Ирана сопровождалось перераспределением земельного фонда. К завоевателям перешли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емли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ранских царей, и земли убитых в сражениях иранских дехканов. Но некоторые подчинившиеся арабам иранские и византийские землевладельцы сохранили свои влад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4572000" y="0"/>
            <a:ext cx="426240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058320" cy="649116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2"/>
          <p:cNvSpPr/>
          <p:nvPr/>
        </p:nvSpPr>
        <p:spPr>
          <a:xfrm>
            <a:off x="2027880" y="5929200"/>
            <a:ext cx="565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Возвращение с работы дехкани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емейство Али — зятя Мухаммеда — получило поместья  царей в Ираке. Сыновья халифов Абу Бакра и Омара стали тоже крупнейшими землевладельцами в Ираке, а мекканские Омейяды получили огромные владения в Сири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204840" y="642960"/>
            <a:ext cx="423396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42920" y="642960"/>
            <a:ext cx="403848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На присвоенных землях арабские землевладельцы сохранили уже существовавшую до прихода арабов систему феодальной эксплуатации местных крестьян. Но многие «сподвижники пророка», став землевладельцами, эксплуатировали и в земледелии и в ремесле тысячи захваченных во время войн пленников-рабов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071960" y="1500120"/>
            <a:ext cx="482760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57200" y="500040"/>
            <a:ext cx="41148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«Сподвижнику пророка»   ибн Ауфу принадлежало 30 тыс. рабов;   ибн Абу Суфьян, впоследствии халиф, на своих полях и в садах в одном только Хиджазе эксплуатировал 4 тыс. рабов; наместник Басры Мугира ибн Шуба требовал от своих рабов-ремесленников, поселённых в Медине и в других местах, по 2 дирхема ежедневно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5000760" y="500040"/>
            <a:ext cx="400500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9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429080" y="428760"/>
            <a:ext cx="450072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дин из рабов Мугиры, перс-христианин Абу Лулуа, по ремеслу плотник и каменотёс, принёс однажды халифу Омару жалобу на своего господина и на его непосильные требования. Омар ничем не помог Абу Лулуа и тот, доведённый до отчаяния, на другой день убил халифа в мечети кинжалом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в 644г.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176040" y="231840"/>
            <a:ext cx="4253040" cy="5823000"/>
          </a:xfrm>
          <a:prstGeom prst="rect">
            <a:avLst/>
          </a:prstGeom>
          <a:ln w="0">
            <a:noFill/>
          </a:ln>
        </p:spPr>
      </p:pic>
      <p:sp>
        <p:nvSpPr>
          <p:cNvPr id="75" name="TextBox 5"/>
          <p:cNvSpPr/>
          <p:nvPr/>
        </p:nvSpPr>
        <p:spPr>
          <a:xfrm>
            <a:off x="571680" y="6286680"/>
            <a:ext cx="29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Халиф Ом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6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" dur="2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928800" y="2000160"/>
            <a:ext cx="7278480" cy="454176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2"/>
          <p:cNvSpPr/>
          <p:nvPr/>
        </p:nvSpPr>
        <p:spPr>
          <a:xfrm>
            <a:off x="142920" y="142920"/>
            <a:ext cx="8715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До начала VIII в. завоеватели сохраняли в захваченных областях местные порядки и прежних византийских и иранских чиновников. Поэтому первоначально всё делопроизводство велось в Сирии и Палестине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на греческом языке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в Египте — на греческом и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коптском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а в Иране и Ираке — на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среднеперсидском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0" y="1995480"/>
            <a:ext cx="5962680" cy="4862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-360" y="214200"/>
            <a:ext cx="8258040" cy="21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слам распространялся постепенно. Новообращённым  халифы предоставляли различные льготы, но до середины IX в. в Халифате сохранялась широкая веротерпимость по отношению к христианам, иудеям и зороастрийцам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оугольник 10"/>
          <p:cNvSpPr/>
          <p:nvPr/>
        </p:nvSpPr>
        <p:spPr>
          <a:xfrm>
            <a:off x="5857920" y="2357280"/>
            <a:ext cx="2928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Для ислама этого периода особенно характерной являлась обращённая к народным массам проповедь смирения, терпения и довольства своим жреб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чиная со второй половины IX в. «правоверный» ислам становился всё более нетерпимым по отношению к христианам и иудея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м. стр.73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абзац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4357800" y="154080"/>
            <a:ext cx="4357440" cy="67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2786040"/>
            <a:ext cx="278604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Распад Халифат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57120" y="285840"/>
            <a:ext cx="87868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тремление крупных феодалов к политической самостоятельности привело к образованию местных наследственных эмиратов, превращавшихся постепенно в самостоятельные государст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2786040" y="2357280"/>
            <a:ext cx="6357960" cy="43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7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539640" y="449280"/>
            <a:ext cx="4248360" cy="6027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419280" y="274320"/>
            <a:ext cx="526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libri"/>
              </a:rPr>
              <a:t>Авт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364000" y="1599840"/>
            <a:ext cx="33228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основа Валентина Михайловна, учитель истории ЦО №775 г.Москв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055080" cy="649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0" y="1928880"/>
            <a:ext cx="8664480" cy="42861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Прочтите пункт </a:t>
            </a:r>
            <a:br>
              <a:rPr sz="4000"/>
            </a:b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«Распад Арабского халифата»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и выпишите причины распад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94920" y="620640"/>
            <a:ext cx="83026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gumer.info/bibliotek_Buks/History/enc_detvs/14.ph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blackwarlock.com/t2971-top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kalitva.ru/2010/01/page/7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tito0107.livejournal.com/64236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meleey.ucoz.ru/news/arabskij_khalifat/2012-08-18-14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meleey.ucoz.ru/news/arabskij_khalifat/2012-08-18-14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0" y="500040"/>
            <a:ext cx="403848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ле смерти Мухаммеда в Медине (летом 632 г.) халифом («заместителем» пророка), в результате долгих споров между мухаджирами и ансарами, был избран Абу Бакр, купец, старый друг, тесть и сподвижник Мухамме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4143240" y="357120"/>
            <a:ext cx="4572000" cy="61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5105520" y="1000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Халифская власть досталась Абу Бакру (632—634) в то время, когда объединение Аравии ещё не было закончено. Сразу же после смерти Мухаммеда восстали многие арабские племена. Абу Бакр жестоко подавил все эти восстани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52360" y="103320"/>
            <a:ext cx="4676760" cy="55688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285840" y="6102360"/>
            <a:ext cx="514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хаммед 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б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к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сещают бедуин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0" y="14288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осле его смерти халифом стал другой сподвижник Мухаммеда — Омар (634—644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4000680" y="444600"/>
            <a:ext cx="4786200" cy="61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Уже при первом халифе началось завоевательное движение араб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42920" y="19288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Длительная война между двумя великими державами того времени —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Византией и Ирано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продолжавшаяся с 602 по 628 г., истощила их силы, что способствовало успеху араб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500040" y="1352520"/>
            <a:ext cx="3786120" cy="54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214200" y="285480"/>
            <a:ext cx="3786480" cy="61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К 640 г. арабы завоевали почти всю </a:t>
            </a: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Палестину и Сирию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. Много мирных жителей было захвачено в рабство. Но многие города  сдались завоевателям лишь на основании договоров, которые гарантировали христианам и иудеям свободу культа и личную свободу под условием признания власти арабо-мусульманского государства и уплаты податей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4000680" y="287280"/>
            <a:ext cx="4714560" cy="632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33200" y="130320"/>
            <a:ext cx="5077080" cy="65134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5357520" y="499680"/>
            <a:ext cx="378612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 концу 642 г. Арабы завоевали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Египет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заняв важнейший портовый город Александрию, в 637 г. взяли и разрушили столицу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Иран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 — Ктесифон, а к 651 г. завершили завоевание Ирана, несмотря на упорное сопротивление его насел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-23760" y="6445080"/>
            <a:ext cx="919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рабск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воевател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ступают во дворец персидских шахиншахов в Ктесифон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-282600" y="0"/>
            <a:ext cx="9426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ма</cp:lastModifiedBy>
  <dcterms:modified xsi:type="dcterms:W3CDTF">2012-09-30T10:18:53Z</dcterms:modified>
  <cp:revision>13</cp:revision>
  <dc:subject/>
  <dc:title>Слайд 1</dc:title>
</cp:coreProperties>
</file>