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F4CAE-82E7-459F-BF26-635C73ADA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E8055-9F37-446D-B848-2E3C4D8D4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27364-DD74-400A-B39C-A5D2D3CAC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33CD5-15FB-423F-AE25-958C45A91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625B9-32EF-4DAC-BA0B-BC82B828D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5E900-985C-46A0-B211-6F4BD65C0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2B5BC-9434-4760-B84B-F2C45B474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39EA7-056F-4266-A53B-53CB8337E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C1987-5D18-4D52-93E6-95864A24A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40C64-AAF7-4C52-A7FB-681B57CC3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4C4A6-54C5-4AA1-9C9B-2BBBD41C3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A5B6D-56AA-43E7-8DE9-7DC1E2EEF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6D873-1FD7-4F20-9E95-AEC082441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D62BE-880F-4C79-8F76-D55C2B550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904B2-313D-4CC7-9559-482D2EE70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EECA9-759B-4717-AF8F-53A9F6228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1AB6F-95DF-45A8-8CB7-28EF86CFC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F1887D-9198-4FE1-8B21-93D4E8934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4DB084-8E1B-44FB-AB93-447B2B406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F8A80A4-F477-468F-88D9-31521A68F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826A1EF-6488-465F-BAD7-399615105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BF2F3C7-1067-4A37-BA69-AC5CA6852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50560-C77A-4D2E-9247-DBE72EF57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1F3A136-8DA5-4753-9ACD-F86F406C0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3FC4FE9-7618-405F-899C-253AA91EB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06A4BD7-2AAC-454F-9D0F-FEC3EB0CB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BE3D594-E09C-4C32-8D06-A31DFD8F5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333DB2B-5C75-418E-ACB0-729ADEE11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1D8F80-00ED-4D24-A761-5642E4F59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EBB302E-4027-4BEA-9FD7-41D762C99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5A53D6-DABB-48F4-A0CF-FDCDC9FC8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8992F6-5C7B-4DC0-924C-81FD5AF91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F2DF45-8DB6-4C5C-9E78-6A97193BC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D0B8E-2F5A-4864-A883-D5CD6223B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22D453-FCA9-49E1-9342-33D41268A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9FDEDE-5356-41E6-BF0D-790D9BBF5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DFFDF1-7866-4CD7-B9DE-673276461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ED03C3-C2F3-4A85-947A-729464130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197029-C30F-4F86-89F4-EE1619758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71CDE4-1CA8-4293-B343-4F318DECA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989EF8-E06C-4B8E-994D-B7BC71740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C03F6F-413D-4AC1-8B77-373B2C511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789365-42EC-4C94-9486-73A2219D9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D9AFCD0-60F0-4C13-9797-2E89F7C98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620F2-7B41-4231-8359-69912158C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84AF42E-1255-45B3-B346-A501EB9E9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336EE94-3D30-4AF6-827F-FD780EE41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F41DC7A-D89F-4823-9B97-AB3E2AC10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2153E2C-70D9-4DCC-9F06-3C56D19E6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95630C3-26C2-41EE-B943-54F1248F9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165685D-ED54-49A9-81A0-2A08CCF57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417B894-DDD3-48B9-B318-2668BA88E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877524D-F47E-4AD1-8E2F-AEAEFF9E3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43AFA6B-8C4F-4BAD-BBED-14C474F37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E56A8A5-8C6D-4C9F-9041-B406B11F5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25CF4-B133-4322-8FD5-D52A18D27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59D3D0F-0572-41F4-AC0C-1278CC303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D241AFE-3FAF-4D6A-B5A4-002DA02B0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CC40901-6876-4DD6-AC50-C59D45F79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B120C34-6524-47A6-A11D-AA499479C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750AFB9-475B-4AA4-BCBE-5DED635C0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5388CEF-A0F8-4D8A-9D76-01E3F99F9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2EE412B-9C88-4DE5-9AA7-1459E883A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2A1D415-5E31-4F28-9CE3-7CC8818D3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A86ED88-6256-417C-A7D9-05B262F86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DEAABE8-CDED-4F5A-AE4E-7D5BAAAFE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B2F3D-9A25-494A-916A-838EAAC96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E5961EC-E864-475B-A746-085846618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58F59D8-1424-4EA6-82D6-E853251F1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13CF929-E825-451B-9818-B4B5EE16E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448817D-E4D2-4B31-B016-D0544D1B7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73B10A3-08D6-49A7-AF99-F59B83304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AA9F705-8414-4162-8D2F-E1D40D152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FD9CC37-B6C4-4FB7-BB34-825710CDE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DB004D6-1A4D-4BAA-A1F9-183BB1E19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4C6F6D9-B3D0-44C9-9DFE-9B48BCE21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8BDD7EF-1AA2-4AA7-BBAE-238A3514B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F6F06-CF49-4917-9B5B-B311FAAF6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E65626C-5A6F-46D0-BF8D-EBBAF1CEC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E4A6437-2A21-439D-B8A8-281A51A6D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C40B642-ACFE-4821-9EDC-6D1D8262E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1624ADE-9884-4977-A883-94CF241E1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1F57206-D743-416F-A547-50608D4B7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202AD-EAAF-4373-BDAF-9A442297D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89C66-E3C7-4386-9CE5-0B0209BC715D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1816E-2A00-4C53-9564-A34ED886EA8D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76065-05DE-4114-BC12-65F4152C8B0A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E938B-26B5-4DAC-B7EB-833B24991179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90F0B-672A-4D69-A4B6-50F6642A166E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EDC7E-FA81-4E64-9AB5-3DD9365983C3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36020-34E2-4AFA-8B68-E7434B49530F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6;&#1086;&#1084;&#1072;&#1085;&#1086;&#1074;&#1089;&#1082;&#1080;&#1081;,_&#1048;&#1074;&#1072;&#1085;_&#1055;&#1072;&#1074;&#1083;&#1086;&#1074;&#1080;&#1095;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entury Schoolbook"/>
              </a:rPr>
              <a:t>ОТ ФЕВРАЛЯ К ОКТЯБРЮ.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52" name="Рисунок 2" descr="russian_revolution_soldiers.jpg"/>
          <p:cNvPicPr/>
          <p:nvPr/>
        </p:nvPicPr>
        <p:blipFill>
          <a:blip r:embed="rId1"/>
          <a:stretch/>
        </p:blipFill>
        <p:spPr>
          <a:xfrm>
            <a:off x="2057400" y="1447920"/>
            <a:ext cx="6872400" cy="3930480"/>
          </a:xfrm>
          <a:prstGeom prst="rect">
            <a:avLst/>
          </a:prstGeom>
          <a:ln w="0">
            <a:noFill/>
          </a:ln>
        </p:spPr>
      </p:pic>
      <p:sp>
        <p:nvSpPr>
          <p:cNvPr id="353" name="TextBox 1"/>
          <p:cNvSpPr/>
          <p:nvPr/>
        </p:nvSpPr>
        <p:spPr>
          <a:xfrm>
            <a:off x="609480" y="586728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снова Валентина Михайловна, учитель истории ЦО № 775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. Москв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6840" y="-571680"/>
            <a:ext cx="7543800" cy="11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entury Schoolbook"/>
              </a:rPr>
              <a:t>БОЛЬШЕВИКИ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457200" y="2361960"/>
            <a:ext cx="3657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Тактика – давление на правительство; высоко ценили сделанные уже шаги по демократизации общества; в курсе на социалистическую революцию видели опасность забегания вперёд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4371840" y="2361960"/>
            <a:ext cx="3657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Курс на революцию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26 июля – 3 августа –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VI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 съезд  РСДРП(б)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. Авторитет Ленина взял верх. Съезд призвал всех большевиков строиться в боевые колонны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505440" y="1038600"/>
            <a:ext cx="3561120" cy="893880"/>
          </a:xfrm>
          <a:prstGeom prst="rect">
            <a:avLst/>
          </a:prstGeom>
          <a:solidFill>
            <a:srgbClr val="ffe636"/>
          </a:solidFill>
          <a:ln w="0">
            <a:noFill/>
          </a:ln>
        </p:spPr>
        <p:txBody>
          <a:bodyPr anchor="ctr">
            <a:normAutofit fontScale="68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7030a0"/>
                </a:solidFill>
                <a:uFillTx/>
                <a:latin typeface="Century Schoolbook"/>
              </a:rPr>
              <a:t>Умеренное крыло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Century Schoolbook"/>
              </a:rPr>
              <a:t>(Каменев, Зиновьев, Калинин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4402440" y="973440"/>
            <a:ext cx="4300920" cy="1100520"/>
          </a:xfrm>
          <a:prstGeom prst="rect">
            <a:avLst/>
          </a:prstGeom>
          <a:solidFill>
            <a:srgbClr val="ffe636"/>
          </a:solidFill>
          <a:ln w="0">
            <a:noFill/>
          </a:ln>
        </p:spPr>
        <p:txBody>
          <a:bodyPr anchor="ctr">
            <a:normAutofit fontScale="86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7030a0"/>
                </a:solidFill>
                <a:uFillTx/>
                <a:latin typeface="Century Schoolbook"/>
              </a:rPr>
              <a:t>Сторонники восстания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Century Schoolbook"/>
              </a:rPr>
              <a:t>(Ленин, Сталин, Бухарин, Свердлов, Троцкий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entury Schoolbook"/>
              </a:rPr>
              <a:t>ПРОГРАММА Л.Г.КОРНИЛОВА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рекращение вмешательства государства  в экономические и социальные дела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Демобилизация 4 млн. солдат с выделением каждому по 8 десятин земли для создания верной опоры правительству в деревне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Установление в России новой формы правления путём создания Совета народной обороны и коалиционного правительства при нём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Прямоугольник 1"/>
          <p:cNvSpPr/>
          <p:nvPr/>
        </p:nvSpPr>
        <p:spPr>
          <a:xfrm>
            <a:off x="457200" y="3049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Корнилов должен был казнён; но когда это случится, приду на могилу, принесу цветы и преклоню колена перед русским патриотом</a:t>
            </a:r>
            <a:r>
              <a:rPr b="0" i="1" lang="ru-RU" sz="1800" spc="-1" strike="noStrike" baseline="30000">
                <a:solidFill>
                  <a:srgbClr val="000000"/>
                </a:solidFill>
                <a:latin typeface="Arial"/>
              </a:rPr>
              <a:t>.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(Керенский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Прямоугольник 2"/>
          <p:cNvSpPr/>
          <p:nvPr/>
        </p:nvSpPr>
        <p:spPr>
          <a:xfrm>
            <a:off x="457200" y="1676520"/>
            <a:ext cx="4572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d2611c"/>
                </a:solidFill>
                <a:uFillTx/>
                <a:latin typeface="Arial"/>
                <a:hlinkClick r:id="rId1"/>
              </a:rPr>
              <a:t>Генерал Романовски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один из генералов, арестованных вместе с генералом Корниловым — говорил впоследствии: «Могут расстрелять Корнилова, отправить на каторгу его соучастников, но „корниловщина“ в России не погибнет, так как „корниловщина“ — это любовь к Родине, желание спасти Россию, а эти высокие побуждения не забросать никакой грязью, не втоптать никаким ненавистникам России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Прямоугольник 3"/>
          <p:cNvSpPr/>
          <p:nvPr/>
        </p:nvSpPr>
        <p:spPr>
          <a:xfrm>
            <a:off x="3809880" y="480060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С Корниловым можно и нужно не соглашаться. Но то, что этот белый генерал был порядочным человеком, хорошим разведчиком и несомненным героем, забывать нельзя» (И. В. Сталин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5" name="Picture 2" descr=""/>
          <p:cNvPicPr/>
          <p:nvPr/>
        </p:nvPicPr>
        <p:blipFill>
          <a:blip r:embed="rId2"/>
          <a:stretch/>
        </p:blipFill>
        <p:spPr>
          <a:xfrm>
            <a:off x="5486400" y="0"/>
            <a:ext cx="3276720" cy="46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09480" y="-30528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7030a0"/>
                </a:solidFill>
                <a:latin typeface="Century Schoolbook"/>
              </a:rPr>
              <a:t>КРИЗИС ВЛАСТИ.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457200" y="1142640"/>
            <a:ext cx="3657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1 сентября ВЦИК провозгласил Россию республикой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3 сентября – исп.власть вручена Директории (6 человек во главе с Керенским)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2 октября – Предпарламент – 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Демократический Совет  республики – законосовещательный орган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4572000" y="160020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Армия перестала служить опорой государственной власти (дезертирство, братания)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Число  бастующих рабочих выросло в 7-8 раз по ср. с весной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Крестьянские выступления: май – 3 тыс., октябрь – более 5 тыс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7030a0"/>
                </a:solidFill>
                <a:latin typeface="Century Schoolbook"/>
              </a:rPr>
              <a:t>Н.А.БЕРДЯЕВ.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380880" y="1984320"/>
            <a:ext cx="746784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Новое либеральное правительство, которое пришло на смену после февральского переворота, провозгласило отвлечённые гуманные принципы, отвлечённые начала права, в которых не было никакой организующей силы, не было энергии заражающей массы… В революционную эпоху побеждают люди крайних принципов, склонные и способные к диктатуре,….которая только могла остановить процесс окончательного разложения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В.ЛЕНИН В ПОДПОЛЬЕ.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02" name="Рисунок 2" descr="lenin_photo2.jpg"/>
          <p:cNvPicPr/>
          <p:nvPr/>
        </p:nvPicPr>
        <p:blipFill>
          <a:blip r:embed="rId1"/>
          <a:stretch/>
        </p:blipFill>
        <p:spPr>
          <a:xfrm>
            <a:off x="3381480" y="2152800"/>
            <a:ext cx="3322440" cy="35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РЕШЕНИЯ СЪЕЗДА.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304560" y="144792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Декрет о мире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: выход России из войны, обращение ко всем воюющим народам о мире без аннексий и контрибуций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Декрет о земле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: национализация всей земли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Декрет о власти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05" name="Рисунок 3" descr="izvestia_russian_revolution_newspaper.jpg"/>
          <p:cNvPicPr/>
          <p:nvPr/>
        </p:nvPicPr>
        <p:blipFill>
          <a:blip r:embed="rId1"/>
          <a:stretch/>
        </p:blipFill>
        <p:spPr>
          <a:xfrm>
            <a:off x="6400800" y="3289320"/>
            <a:ext cx="2438280" cy="3559320"/>
          </a:xfrm>
          <a:prstGeom prst="rect">
            <a:avLst/>
          </a:prstGeom>
          <a:ln w="0">
            <a:noFill/>
          </a:ln>
        </p:spPr>
      </p:pic>
      <p:pic>
        <p:nvPicPr>
          <p:cNvPr id="406" name="Рисунок 4" descr="revolution-newspaper.jpg"/>
          <p:cNvPicPr/>
          <p:nvPr/>
        </p:nvPicPr>
        <p:blipFill>
          <a:blip r:embed="rId2"/>
          <a:stretch/>
        </p:blipFill>
        <p:spPr>
          <a:xfrm>
            <a:off x="3646440" y="3352680"/>
            <a:ext cx="259416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entury Schoolbook"/>
              </a:rPr>
              <a:t>ВЛАСТЬ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457200" y="2361960"/>
            <a:ext cx="3657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ЦИК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(Л.Б.Каменев, Я.М.Свердлов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102 чел.: 62 большевика, 29 эсеров, 6 соц.-дем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сероссийский съезд Советов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4371840" y="2361960"/>
            <a:ext cx="3657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Совет Народных Комиссаров (СНК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.И.Ленин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ременное правительство – до Учр.собрания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489240" y="1602000"/>
            <a:ext cx="3593520" cy="594720"/>
          </a:xfrm>
          <a:prstGeom prst="rect">
            <a:avLst/>
          </a:prstGeom>
          <a:solidFill>
            <a:srgbClr val="fe8637"/>
          </a:solidFill>
          <a:ln w="0">
            <a:noFill/>
          </a:ln>
        </p:spPr>
        <p:txBody>
          <a:bodyPr anchor="ctr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Century Schoolbook"/>
              </a:rPr>
              <a:t>Законодательная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4375440" y="1602000"/>
            <a:ext cx="3593520" cy="594720"/>
          </a:xfrm>
          <a:prstGeom prst="rect">
            <a:avLst/>
          </a:prstGeom>
          <a:solidFill>
            <a:srgbClr val="fe8637"/>
          </a:solidFill>
          <a:ln w="0">
            <a:noFill/>
          </a:ln>
        </p:spPr>
        <p:txBody>
          <a:bodyPr anchor="ctr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Century Schoolbook"/>
              </a:rPr>
              <a:t>Исполнительная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7030a0"/>
                </a:solidFill>
                <a:latin typeface="Century Schoolbook"/>
              </a:rPr>
              <a:t>РЕАЛЬНО.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457200" y="160020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Декрет о мире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Декрет о земле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Декрет о власти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4269960" y="1600200"/>
            <a:ext cx="4264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Гражданская войн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Голод начала 20-х гг., людоедство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Диктатура партии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5" name="Стрелка вправо с вырезом 4"/>
          <p:cNvSpPr/>
          <p:nvPr/>
        </p:nvSpPr>
        <p:spPr>
          <a:xfrm>
            <a:off x="3352680" y="1752480"/>
            <a:ext cx="838440" cy="304920"/>
          </a:xfrm>
          <a:custGeom>
            <a:avLst/>
            <a:gdLst>
              <a:gd name="textAreaLeft" fmla="*/ 75960 w 838440"/>
              <a:gd name="textAreaRight" fmla="*/ 762480 w 83844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7673" y="5400"/>
                </a:lnTo>
                <a:lnTo>
                  <a:pt x="17673" y="0"/>
                </a:lnTo>
                <a:lnTo>
                  <a:pt x="21600" y="10800"/>
                </a:lnTo>
                <a:lnTo>
                  <a:pt x="17673" y="21600"/>
                </a:lnTo>
                <a:lnTo>
                  <a:pt x="17673" y="16200"/>
                </a:lnTo>
                <a:lnTo>
                  <a:pt x="0" y="16200"/>
                </a:lnTo>
                <a:lnTo>
                  <a:pt x="1964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Стрелка вправо с вырезом 5"/>
          <p:cNvSpPr/>
          <p:nvPr/>
        </p:nvSpPr>
        <p:spPr>
          <a:xfrm>
            <a:off x="3200400" y="2666880"/>
            <a:ext cx="990720" cy="228600"/>
          </a:xfrm>
          <a:custGeom>
            <a:avLst/>
            <a:gdLst>
              <a:gd name="textAreaLeft" fmla="*/ 56880 w 990720"/>
              <a:gd name="textAreaRight" fmla="*/ 933840 w 99072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9108" y="5400"/>
                </a:lnTo>
                <a:lnTo>
                  <a:pt x="19108" y="0"/>
                </a:lnTo>
                <a:lnTo>
                  <a:pt x="21600" y="10800"/>
                </a:lnTo>
                <a:lnTo>
                  <a:pt x="19108" y="21600"/>
                </a:lnTo>
                <a:lnTo>
                  <a:pt x="19108" y="16200"/>
                </a:lnTo>
                <a:lnTo>
                  <a:pt x="0" y="16200"/>
                </a:lnTo>
                <a:lnTo>
                  <a:pt x="1246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Стрелка вправо с вырезом 6"/>
          <p:cNvSpPr/>
          <p:nvPr/>
        </p:nvSpPr>
        <p:spPr>
          <a:xfrm>
            <a:off x="3352680" y="3505320"/>
            <a:ext cx="914400" cy="228600"/>
          </a:xfrm>
          <a:custGeom>
            <a:avLst/>
            <a:gdLst>
              <a:gd name="textAreaLeft" fmla="*/ 56880 w 914400"/>
              <a:gd name="textAreaRight" fmla="*/ 857520 w 9144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8900" y="5400"/>
                </a:lnTo>
                <a:lnTo>
                  <a:pt x="18900" y="0"/>
                </a:lnTo>
                <a:lnTo>
                  <a:pt x="21600" y="10800"/>
                </a:lnTo>
                <a:lnTo>
                  <a:pt x="18900" y="21600"/>
                </a:lnTo>
                <a:lnTo>
                  <a:pt x="18900" y="16200"/>
                </a:lnTo>
                <a:lnTo>
                  <a:pt x="0" y="16200"/>
                </a:lnTo>
                <a:lnTo>
                  <a:pt x="135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7030a0"/>
                </a:solidFill>
                <a:latin typeface="Century Schoolbook"/>
              </a:rPr>
              <a:t>ОЦЕНКА </a:t>
            </a:r>
            <a:r>
              <a:rPr b="0" lang="en-US" sz="3000" spc="-1" strike="noStrike">
                <a:solidFill>
                  <a:srgbClr val="7030a0"/>
                </a:solidFill>
                <a:latin typeface="Century Schoolbook"/>
              </a:rPr>
              <a:t>II</a:t>
            </a:r>
            <a:r>
              <a:rPr b="0" lang="ru-RU" sz="3000" spc="-1" strike="noStrike">
                <a:solidFill>
                  <a:srgbClr val="7030a0"/>
                </a:solidFill>
                <a:latin typeface="Century Schoolbook"/>
              </a:rPr>
              <a:t> СЪЕЗДА ИСПАНСКИМ ФИЛОСОФОМ </a:t>
            </a:r>
            <a:r>
              <a:rPr b="0" lang="ru-RU" sz="3000" spc="-1" strike="noStrike" u="sng">
                <a:solidFill>
                  <a:srgbClr val="000000"/>
                </a:solidFill>
                <a:uFillTx/>
                <a:latin typeface="Century Schoolbook"/>
              </a:rPr>
              <a:t>МУГУЭЛЬ ДЕ УКАУМА: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456840" y="220968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«Облик правды грозен, народ нуждался в мифах. Большевики дали народу иллюзию мира, земли, хлеба»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ПЛАН ИЗУЧЕНИЯ ТЕМЫ.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457200" y="2361960"/>
            <a:ext cx="3657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ричины революции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опытки спасти монархию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 преддверии революции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Реакция царя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4371480" y="2362320"/>
            <a:ext cx="4162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34160" indent="-4341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Ход событий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34160" indent="-4341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18-27 февраля, действия царя, тактика думцев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34160" indent="-4341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e8637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fe8637"/>
                </a:solidFill>
                <a:latin typeface="Arial"/>
              </a:rPr>
              <a:t>6.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Итоги февральской революции, ликвидация монархии 2 марта 1917 г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34160" indent="-4341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e8637"/>
                </a:solidFill>
                <a:latin typeface="Arial"/>
              </a:rPr>
              <a:t>7</a:t>
            </a:r>
            <a:r>
              <a:rPr b="0" lang="ru-RU" sz="2400" spc="-1" strike="noStrike">
                <a:solidFill>
                  <a:srgbClr val="fe8637"/>
                </a:solidFill>
                <a:latin typeface="Century Schoolbook"/>
              </a:rPr>
              <a:t>.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Суть двоевластия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34160" indent="-4341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e8637"/>
                </a:solidFill>
                <a:latin typeface="Arial"/>
              </a:rPr>
              <a:t>8</a:t>
            </a:r>
            <a:r>
              <a:rPr b="0" lang="ru-RU" sz="2400" spc="-1" strike="noStrike">
                <a:solidFill>
                  <a:srgbClr val="fe8637"/>
                </a:solidFill>
                <a:latin typeface="Century Schoolbook"/>
              </a:rPr>
              <a:t>.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олит.партии от февраля к октябрю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34160" indent="-4341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e8637"/>
                </a:solidFill>
                <a:latin typeface="Arial"/>
              </a:rPr>
              <a:t>9</a:t>
            </a:r>
            <a:r>
              <a:rPr b="0" lang="ru-RU" sz="2400" spc="-1" strike="noStrike">
                <a:solidFill>
                  <a:srgbClr val="fe8637"/>
                </a:solidFill>
                <a:latin typeface="Century Schoolbook"/>
              </a:rPr>
              <a:t>. 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Кризисы Временного правительств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ъезд Советов 3-27 июня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89240" y="1602000"/>
            <a:ext cx="3593520" cy="594720"/>
          </a:xfrm>
          <a:prstGeom prst="rect">
            <a:avLst/>
          </a:prstGeom>
          <a:solidFill>
            <a:srgbClr val="fe8637"/>
          </a:solidFill>
          <a:ln w="0">
            <a:noFill/>
          </a:ln>
        </p:spPr>
        <p:txBody>
          <a:bodyPr anchor="ctr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4375440" y="1602000"/>
            <a:ext cx="3593520" cy="594720"/>
          </a:xfrm>
          <a:prstGeom prst="rect">
            <a:avLst/>
          </a:prstGeom>
          <a:solidFill>
            <a:srgbClr val="fe8637"/>
          </a:solidFill>
          <a:ln w="0">
            <a:noFill/>
          </a:ln>
        </p:spPr>
        <p:txBody>
          <a:bodyPr anchor="ctr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wedg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III</a:t>
            </a:r>
            <a:r>
              <a:rPr b="0" lang="ru-RU" sz="3000" spc="-1" strike="noStrike">
                <a:solidFill>
                  <a:srgbClr val="000000"/>
                </a:solidFill>
                <a:latin typeface="Century Schoolbook"/>
              </a:rPr>
              <a:t> СЪЕЗД СОВЕТОВ – 10 ЯНВАРЯ 1918 Г.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457200" y="160020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ринятие декларации прав трудящегося и эксплуатируемого народа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Россия        РСФСР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4270320" y="160020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Смысл термина «Советская власть»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Зак.власть – Съезд   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советов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Исп.власть –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Совет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народных комиссаров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3" name="Стрелка вправо с вырезом 4"/>
          <p:cNvSpPr/>
          <p:nvPr/>
        </p:nvSpPr>
        <p:spPr>
          <a:xfrm>
            <a:off x="1828800" y="3276720"/>
            <a:ext cx="533520" cy="198360"/>
          </a:xfrm>
          <a:custGeom>
            <a:avLst/>
            <a:gdLst>
              <a:gd name="textAreaLeft" fmla="*/ 49320 w 533520"/>
              <a:gd name="textAreaRight" fmla="*/ 484200 w 533520"/>
              <a:gd name="textAreaTop" fmla="*/ 49680 h 198360"/>
              <a:gd name="textAreaBottom" fmla="*/ 149040 h 198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7582" y="5400"/>
                </a:lnTo>
                <a:lnTo>
                  <a:pt x="17582" y="0"/>
                </a:lnTo>
                <a:lnTo>
                  <a:pt x="21600" y="10800"/>
                </a:lnTo>
                <a:lnTo>
                  <a:pt x="17582" y="21600"/>
                </a:lnTo>
                <a:lnTo>
                  <a:pt x="17582" y="16200"/>
                </a:lnTo>
                <a:lnTo>
                  <a:pt x="0" y="16200"/>
                </a:lnTo>
                <a:lnTo>
                  <a:pt x="2009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entury Schoolbook"/>
              </a:rPr>
              <a:t>ДОМАШНЕЕ ЗАДАНИЕ.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§15, вопрос 1 – письм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из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.5 выписать первые мероприятия Советской власти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Опрос среди родственников(письм.)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1. Какие имена участников событий помнят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2. Какую оценку дадут событиям октября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 txBox="1"/>
          <p:nvPr/>
        </p:nvSpPr>
        <p:spPr>
          <a:xfrm>
            <a:off x="761760" y="76212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37240" indent="-23724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http://fotki.yandex.ru/users/ben-de/view/439871/?page=5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37240" indent="-23724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http://dic.academic.ru/dic.nsf/bse/82800/%D0%94%D0%B2%D0%BE%D0%B5%D0%B2%D0%BB%D0%B0%D1%81%D1%82%D0%B8%D0%B5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37240" indent="-23724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http://www.oldhat.ru/20vek/101.htm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37240" indent="-23724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http://law.edu.ru/article/article.asp?articleID=1128220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37240" indent="-23724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http://dic.academic.ru/dic.nsf/sie/10830/%D0%9C%D0%95%D0%9D%D0%AC%D0%A8%D0%95%D0%92%D0%98%D0%97%D0%9C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37240" indent="-23724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http://ru.wikipedia.org/wiki/%C1%F0%F3%F1%E8%EB%EE%E2,_%C0%EB%E5%EA%F1%E5%E9_%C0%EB%E5%EA%F1%E5%E5%E2%E8%F7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37240" indent="-23724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entury Schoolbook"/>
              </a:rPr>
              <a:t>ДВОЕВЛАСТИЕ 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Century Schoolbook"/>
              </a:rPr>
              <a:t>(С 27 ФЕВРАЛЯ)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151920" y="2133360"/>
            <a:ext cx="4343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34360" indent="-234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«Временное» – до созыва Учр.собрания (сент., но отлож.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34360" indent="-234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оддержка:бурж.,интел.,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34360" indent="-234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часть помещиков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34360" indent="-234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-Продолжение войны до победы, отказ ввести 8-ч.раб.день; обещание широких демокр.  свобод, Закон об охране посевов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34360" indent="-234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Кн.Г.Е.Львов, А.Ф.Керенский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34360" indent="-234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4572000" y="2133360"/>
            <a:ext cx="3657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34360" indent="-234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оддержка: рабочие, часть интел., крестьяне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34360" indent="-234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Требования: 8-ч.раб. дня, введения раб. контроля, земля-крестьянам, фабрики-рабочим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34360" indent="-234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риказ №1 – полит. права солдатам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34360" indent="-234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Н.С.Чхеидзе, М.И.Скобелев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423000" y="1261440"/>
            <a:ext cx="3573360" cy="784080"/>
          </a:xfrm>
          <a:prstGeom prst="rect">
            <a:avLst/>
          </a:prstGeom>
          <a:solidFill>
            <a:srgbClr val="fe8637"/>
          </a:solidFill>
          <a:ln w="0">
            <a:noFill/>
          </a:ln>
        </p:spPr>
        <p:txBody>
          <a:bodyPr anchor="ctr">
            <a:normAutofit fontScale="94000"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Временное правительство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4534200" y="1257840"/>
            <a:ext cx="3580560" cy="714960"/>
          </a:xfrm>
          <a:prstGeom prst="rect">
            <a:avLst/>
          </a:prstGeom>
          <a:solidFill>
            <a:srgbClr val="fe8637"/>
          </a:solidFill>
          <a:ln w="0">
            <a:noFill/>
          </a:ln>
        </p:spPr>
        <p:txBody>
          <a:bodyPr anchor="ctr">
            <a:normAutofit fontScale="92000"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Петроградский совет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wheel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Рисунок 1" descr="Приказ.jpg"/>
          <p:cNvPicPr/>
          <p:nvPr/>
        </p:nvPicPr>
        <p:blipFill>
          <a:blip r:embed="rId1"/>
          <a:stretch/>
        </p:blipFill>
        <p:spPr>
          <a:xfrm>
            <a:off x="2490840" y="0"/>
            <a:ext cx="4062240" cy="669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entury Schoolbook"/>
              </a:rPr>
              <a:t>ПОЛИТИЧЕСКИЕ ПАРТИИ ОТ ФЕВРАЛЯ К ОКТЯБРЮ.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57200" y="2590560"/>
            <a:ext cx="3657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Насущные вопросы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Отношение к войне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опрос о земле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опрос о власти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4343400" y="3276360"/>
            <a:ext cx="3657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Чтобы иметь успех, партия должна быть популистской и многочисленной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48960" y="1496880"/>
            <a:ext cx="3940560" cy="911520"/>
          </a:xfrm>
          <a:prstGeom prst="rect">
            <a:avLst/>
          </a:prstGeom>
          <a:solidFill>
            <a:srgbClr val="fe8637"/>
          </a:solidFill>
          <a:ln w="0">
            <a:noFill/>
          </a:ln>
        </p:spPr>
        <p:txBody>
          <a:bodyPr anchor="ctr">
            <a:normAutofit fontScale="74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Century Schoolbook"/>
              </a:rPr>
              <a:t>Правые партии: Союз рус народа, Союз Михаила Архангел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766400" y="1566000"/>
            <a:ext cx="3573360" cy="784080"/>
          </a:xfrm>
          <a:prstGeom prst="rect">
            <a:avLst/>
          </a:prstGeom>
          <a:solidFill>
            <a:srgbClr val="fe8637"/>
          </a:solidFill>
          <a:ln w="0">
            <a:noFill/>
          </a:ln>
        </p:spPr>
        <p:txBody>
          <a:bodyPr anchor="ctr">
            <a:normAutofit fontScale="94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Century Schoolbook"/>
              </a:rPr>
              <a:t>Прекратили свою деятельность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cxnSp>
        <p:nvCxnSpPr>
          <p:cNvPr id="370" name="Прямая со стрелкой 7"/>
          <p:cNvCxnSpPr>
            <a:stCxn id="368" idx="3"/>
            <a:endCxn id="369" idx="1"/>
          </p:cNvCxnSpPr>
          <p:nvPr/>
        </p:nvCxnSpPr>
        <p:spPr>
          <a:xfrm>
            <a:off x="4038120" y="1952640"/>
            <a:ext cx="686520" cy="7200"/>
          </a:xfrm>
          <a:prstGeom prst="straightConnector1">
            <a:avLst/>
          </a:prstGeom>
          <a:ln w="38160">
            <a:solidFill>
              <a:srgbClr val="7030a0"/>
            </a:solidFill>
            <a:miter/>
            <a:tailEnd len="med" type="arrow" w="med"/>
          </a:ln>
        </p:spPr>
      </p:cxnSp>
      <p:sp>
        <p:nvSpPr>
          <p:cNvPr id="371" name="TextBox 8"/>
          <p:cNvSpPr/>
          <p:nvPr/>
        </p:nvSpPr>
        <p:spPr>
          <a:xfrm>
            <a:off x="914400" y="5257800"/>
            <a:ext cx="7391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Лидеры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кадетов – П.Н.Милюк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серов – В.М.Чернов, Н.Д.Авксентье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ньшевиков – И.Г.Церетели, Ф.И.Дан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ольшевиков – В.И.Лени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2" name=""/>
          <p:cNvGraphicFramePr/>
          <p:nvPr/>
        </p:nvGraphicFramePr>
        <p:xfrm>
          <a:off x="304920" y="228600"/>
          <a:ext cx="8839080" cy="6534000"/>
        </p:xfrm>
        <a:graphic>
          <a:graphicData uri="http://schemas.openxmlformats.org/drawingml/2006/table">
            <a:tbl>
              <a:tblPr/>
              <a:tblGrid>
                <a:gridCol w="2946240"/>
                <a:gridCol w="2946600"/>
                <a:gridCol w="2946240"/>
              </a:tblGrid>
              <a:tr h="457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Правы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598d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Цент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598d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Левы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598d9"/>
                    </a:solidFill>
                  </a:tcPr>
                </a:tc>
              </a:tr>
              <a:tr h="823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Кадет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d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Правые эсеры и  меньшевик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d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Левые эсеры и большевик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df1"/>
                    </a:solidFill>
                  </a:tcPr>
                </a:tc>
              </a:tr>
              <a:tr h="5622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 u="sng">
                          <a:solidFill>
                            <a:srgbClr val="000000"/>
                          </a:solidFill>
                          <a:uFillTx/>
                          <a:latin typeface="Century Schoolbook"/>
                        </a:rPr>
                        <a:t>70 тыс.- 100 тыс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Идея длительной эволюции страны по западному образцу на парламентской основ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-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за республик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-война – до побед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entury Schoolbook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Россия – едина и неделим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entury Schoolbook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аграрный вопрос – после окончания войн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ff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 u="sng">
                          <a:solidFill>
                            <a:srgbClr val="000000"/>
                          </a:solidFill>
                          <a:uFillTx/>
                          <a:latin typeface="Century Schoolbook"/>
                        </a:rPr>
                        <a:t>800 тыс.    200 тыс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entury Schoolbook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Война до побед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(рев. оборончество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entury Schoolbook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все вопросы – до Учр.собрания после войн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entury Schoolbook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агр.: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социализация земли(ПСР), муниципализация (мен.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entury Schoolbook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власть Временному правительств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ff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000000"/>
                          </a:solidFill>
                          <a:uFillTx/>
                          <a:latin typeface="Century Schoolbook"/>
                        </a:rPr>
                        <a:t>25 тыс. (конспирация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000000"/>
                          </a:solidFill>
                          <a:uFillTx/>
                          <a:latin typeface="Century Schoolbook"/>
                        </a:rPr>
                        <a:t>Через 2 мес. – 100 тыс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Ленин – из эмиграции в апреле, страна его не знает, он выдвинул программу –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Апрельские тезисы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entury Schoolbook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Выход из войн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entury Schoolbook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Национализация земли, передача её крестьяна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entury Schoolbook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Диктатура пролетариа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entury Schoolbook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«Вся власть Советам!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entury Schoolbook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ff8"/>
                    </a:solidFill>
                  </a:tcPr>
                </a:tc>
              </a:tr>
            </a:tbl>
          </a:graphicData>
        </a:graphic>
      </p:graphicFrame>
      <p:sp>
        <p:nvSpPr>
          <p:cNvPr id="373" name="TextBox 3"/>
          <p:cNvSpPr/>
          <p:nvPr/>
        </p:nvSpPr>
        <p:spPr>
          <a:xfrm>
            <a:off x="1676520" y="601992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Century Schoolbook"/>
              </a:rPr>
              <a:t>За кем пойдёт народ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2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Arial"/>
              </a:rPr>
              <a:t>Запишите определения терминов.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Революционное оборончество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– продолжение войны в целях защиты революции и демократических свобод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Социализация земли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– ликвидация частной собственности на землю,  превращение её в общенародное достояние с наделением крестьян землёй без права купли-продаж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Муниципализация земли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– передача земли в распоряжение местных органов  самоуправления для последующего распределения пользователям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ПЛАН ИЗУЧЕНИЯ ТЕМЫ.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457200" y="160020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. Итоги  июньского наступления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. Последствия поражения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. Июльский кризис власти, его итоги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.Дальнейшие действия большевиков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. Корниловский мятеж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4270320" y="160020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. Кризис власти, создание новых властных структур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.Октябрьское вооружённое воссстание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.Второй Всероссийский съезд Советов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7030a0"/>
                </a:solidFill>
                <a:latin typeface="Century Schoolbook"/>
              </a:rPr>
              <a:t>ПОСЛЕДСТВИЯ ПОРАЖЕНИЯ.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648320" y="228600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Левые радикалы объявили об отсутствии доверия к Временному правительству, строят планы по захвату власти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457200" y="228600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атриотические круги поняли, что для подъёма боеспособности  армии необходимо подавить разрушительные силы, в первую очередь, большевиков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cxnSp>
        <p:nvCxnSpPr>
          <p:cNvPr id="382" name="Прямая со стрелкой 7"/>
          <p:cNvCxnSpPr/>
          <p:nvPr/>
        </p:nvCxnSpPr>
        <p:spPr>
          <a:xfrm flipH="1">
            <a:off x="2133000" y="1371600"/>
            <a:ext cx="686520" cy="991440"/>
          </a:xfrm>
          <a:prstGeom prst="straightConnector1">
            <a:avLst/>
          </a:prstGeom>
          <a:ln w="41400">
            <a:solidFill>
              <a:srgbClr val="ff6903"/>
            </a:solidFill>
            <a:miter/>
            <a:tailEnd len="med" type="triangle" w="med"/>
          </a:ln>
        </p:spPr>
      </p:cxnSp>
      <p:cxnSp>
        <p:nvCxnSpPr>
          <p:cNvPr id="383" name="Прямая со стрелкой 9"/>
          <p:cNvCxnSpPr>
            <a:stCxn id="379" idx="2"/>
          </p:cNvCxnSpPr>
          <p:nvPr/>
        </p:nvCxnSpPr>
        <p:spPr>
          <a:xfrm>
            <a:off x="4191120" y="1417680"/>
            <a:ext cx="1219680" cy="945360"/>
          </a:xfrm>
          <a:prstGeom prst="straightConnector1">
            <a:avLst/>
          </a:prstGeom>
          <a:ln w="41400">
            <a:solidFill>
              <a:srgbClr val="ff6903"/>
            </a:solidFill>
            <a:miter/>
            <a:tailEnd len="med" type="triangle" w="med"/>
          </a:ln>
        </p:spPr>
      </p:cxnSp>
      <p:pic>
        <p:nvPicPr>
          <p:cNvPr id="384" name="Рисунок 6" descr="Brusilov_in_1917.jpg"/>
          <p:cNvPicPr/>
          <p:nvPr/>
        </p:nvPicPr>
        <p:blipFill>
          <a:blip r:embed="rId1"/>
          <a:stretch/>
        </p:blipFill>
        <p:spPr>
          <a:xfrm>
            <a:off x="7315200" y="0"/>
            <a:ext cx="1828800" cy="29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2-10-17T13:45:19Z</dcterms:modified>
  <cp:revision>42</cp:revision>
  <dc:subject/>
  <dc:title>Февральская революция.</dc:title>
</cp:coreProperties>
</file>