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0E0-B99B-4008-BDE2-2394667D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678-6D53-4920-881C-9F234FE8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5C6-CAE0-4B58-9AC2-BCD7F16E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F43-453D-43F4-911B-19713143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D3B8-194F-440F-B94E-C33C8220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D3B-D8A5-4116-B359-8BAADDC1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694-D4D1-44F1-9BD4-E28A65D6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E94-6532-42E4-9013-21E7BFBB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C75-A40C-4665-914A-23F5E58B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BD1-232B-4257-B5AB-C18192EB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E4D-33BD-41AA-B502-87F34F4F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3BDB-F450-4A97-A7EA-189A88E8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689D-B354-4F09-825E-C707A8431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852560"/>
            <a:ext cx="8717040" cy="1603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33520" y="5505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m02_01_16.jpg"/>
          <p:cNvPicPr/>
          <p:nvPr/>
        </p:nvPicPr>
        <p:blipFill>
          <a:blip r:embed="rId1"/>
          <a:stretch/>
        </p:blipFill>
        <p:spPr>
          <a:xfrm>
            <a:off x="1600200" y="23623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68580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и что изображены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monah.jpg"/>
          <p:cNvPicPr/>
          <p:nvPr/>
        </p:nvPicPr>
        <p:blipFill>
          <a:blip r:embed="rId1"/>
          <a:stretch/>
        </p:blipFill>
        <p:spPr>
          <a:xfrm>
            <a:off x="380880" y="0"/>
            <a:ext cx="4343400" cy="6442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4267080" y="1143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 изображён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335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obuhovo1_clip_image049.jpg"/>
          <p:cNvPicPr/>
          <p:nvPr/>
        </p:nvPicPr>
        <p:blipFill>
          <a:blip r:embed="rId1"/>
          <a:stretch/>
        </p:blipFill>
        <p:spPr>
          <a:xfrm>
            <a:off x="1981080" y="304920"/>
            <a:ext cx="4724640" cy="4576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609480" y="5334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изображены представители двух основных классов буржуазного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пишите их: слева - ……., справа - …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609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000283.jpg"/>
          <p:cNvPicPr/>
          <p:nvPr/>
        </p:nvPicPr>
        <p:blipFill>
          <a:blip r:embed="rId1"/>
          <a:stretch/>
        </p:blipFill>
        <p:spPr>
          <a:xfrm>
            <a:off x="2133720" y="533520"/>
            <a:ext cx="5276880" cy="476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80880" y="5562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94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st000_35.jpg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572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st001_23.jpg"/>
          <p:cNvPicPr/>
          <p:nvPr/>
        </p:nvPicPr>
        <p:blipFill>
          <a:blip r:embed="rId1"/>
          <a:stretch/>
        </p:blipFill>
        <p:spPr>
          <a:xfrm>
            <a:off x="2666880" y="457200"/>
            <a:ext cx="3686400" cy="4648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66680" y="5410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енсис Дрей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вам известно об этом чело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rmexpo.ru/new/view_content.php?id=2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bkor.ru/likbes/2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ricatura.ru/art/korsun/url/parad/korsun/18116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nvashkevich.narod.ru/SLTCVL/brt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w.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"/>
          <p:cNvSpPr/>
          <p:nvPr/>
        </p:nvSpPr>
        <p:spPr>
          <a:xfrm>
            <a:off x="4343400" y="304920"/>
            <a:ext cx="76320" cy="61722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33520" y="3429000"/>
            <a:ext cx="777240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858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2920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3352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есть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029200" y="3581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895480" y="2514600"/>
            <a:ext cx="2514600" cy="11430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яснит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ая соединительная линия 2"/>
          <p:cNvSpPr/>
          <p:nvPr/>
        </p:nvSpPr>
        <p:spPr>
          <a:xfrm>
            <a:off x="4799880" y="228600"/>
            <a:ext cx="152280" cy="6248520"/>
          </a:xfrm>
          <a:prstGeom prst="line">
            <a:avLst/>
          </a:prstGeom>
          <a:ln cap="rnd"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580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, где абсолютная монархия, а где парламент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143000" y="1282680"/>
            <a:ext cx="163836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Горизонтальный свиток 9"/>
          <p:cNvSpPr/>
          <p:nvPr/>
        </p:nvSpPr>
        <p:spPr>
          <a:xfrm>
            <a:off x="2906640" y="2440080"/>
            <a:ext cx="201924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0"/>
          <p:cNvSpPr/>
          <p:nvPr/>
        </p:nvSpPr>
        <p:spPr>
          <a:xfrm>
            <a:off x="3206880" y="914400"/>
            <a:ext cx="152388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1"/>
          <p:cNvSpPr/>
          <p:nvPr/>
        </p:nvSpPr>
        <p:spPr>
          <a:xfrm>
            <a:off x="3154320" y="1523880"/>
            <a:ext cx="152388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14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752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6"/>
          <p:cNvCxnSpPr>
            <a:stCxn id="53" idx="3"/>
            <a:endCxn id="55" idx="1"/>
          </p:cNvCxnSpPr>
          <p:nvPr/>
        </p:nvCxnSpPr>
        <p:spPr>
          <a:xfrm flipV="1">
            <a:off x="2781360" y="1104120"/>
            <a:ext cx="426240" cy="407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8"/>
          <p:cNvCxnSpPr>
            <a:stCxn id="53" idx="3"/>
            <a:endCxn id="59" idx="3"/>
          </p:cNvCxnSpPr>
          <p:nvPr/>
        </p:nvCxnSpPr>
        <p:spPr>
          <a:xfrm>
            <a:off x="2781000" y="1511280"/>
            <a:ext cx="267120" cy="929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0"/>
          <p:cNvCxnSpPr>
            <a:stCxn id="53" idx="3"/>
            <a:endCxn id="56" idx="1"/>
          </p:cNvCxnSpPr>
          <p:nvPr/>
        </p:nvCxnSpPr>
        <p:spPr>
          <a:xfrm>
            <a:off x="2781360" y="1511280"/>
            <a:ext cx="373680" cy="241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22"/>
          <p:cNvCxnSpPr/>
          <p:nvPr/>
        </p:nvCxnSpPr>
        <p:spPr>
          <a:xfrm flipV="1">
            <a:off x="2133720" y="1752120"/>
            <a:ext cx="2160" cy="5342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6"/>
          <p:cNvCxnSpPr/>
          <p:nvPr/>
        </p:nvCxnSpPr>
        <p:spPr>
          <a:xfrm flipV="1">
            <a:off x="1600200" y="1753920"/>
            <a:ext cx="2160" cy="837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8"/>
          <p:cNvCxnSpPr>
            <a:stCxn id="57" idx="0"/>
          </p:cNvCxnSpPr>
          <p:nvPr/>
        </p:nvCxnSpPr>
        <p:spPr>
          <a:xfrm flipV="1">
            <a:off x="685800" y="1751760"/>
            <a:ext cx="457920" cy="3819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Двойная стрелка влево/вправо 29"/>
          <p:cNvSpPr/>
          <p:nvPr/>
        </p:nvSpPr>
        <p:spPr>
          <a:xfrm>
            <a:off x="1066680" y="1523880"/>
            <a:ext cx="76320" cy="4608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5486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7057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Горизонтальный свиток 34"/>
          <p:cNvSpPr/>
          <p:nvPr/>
        </p:nvSpPr>
        <p:spPr>
          <a:xfrm>
            <a:off x="4952880" y="1905120"/>
            <a:ext cx="152424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Горизонтальный свиток 35"/>
          <p:cNvSpPr/>
          <p:nvPr/>
        </p:nvSpPr>
        <p:spPr>
          <a:xfrm>
            <a:off x="7238880" y="1905120"/>
            <a:ext cx="152424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36"/>
          <p:cNvSpPr/>
          <p:nvPr/>
        </p:nvSpPr>
        <p:spPr>
          <a:xfrm>
            <a:off x="5715000" y="2590920"/>
            <a:ext cx="213372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8"/>
          <p:cNvCxnSpPr>
            <a:endCxn id="69" idx="0"/>
          </p:cNvCxnSpPr>
          <p:nvPr/>
        </p:nvCxnSpPr>
        <p:spPr>
          <a:xfrm flipH="1">
            <a:off x="5714280" y="1675440"/>
            <a:ext cx="1067400" cy="276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40"/>
          <p:cNvCxnSpPr>
            <a:stCxn id="67" idx="2"/>
            <a:endCxn id="70" idx="0"/>
          </p:cNvCxnSpPr>
          <p:nvPr/>
        </p:nvCxnSpPr>
        <p:spPr>
          <a:xfrm>
            <a:off x="6895080" y="1666800"/>
            <a:ext cx="1105560" cy="2955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42"/>
          <p:cNvCxnSpPr>
            <a:stCxn id="67" idx="2"/>
          </p:cNvCxnSpPr>
          <p:nvPr/>
        </p:nvCxnSpPr>
        <p:spPr>
          <a:xfrm>
            <a:off x="6896160" y="1666440"/>
            <a:ext cx="38880" cy="924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Прямоугольник 44"/>
          <p:cNvSpPr/>
          <p:nvPr/>
        </p:nvSpPr>
        <p:spPr>
          <a:xfrm>
            <a:off x="5105520" y="4343400"/>
            <a:ext cx="182880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 со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Скругленная соединительная линия 47"/>
          <p:cNvCxnSpPr/>
          <p:nvPr/>
        </p:nvCxnSpPr>
        <p:spPr>
          <a:xfrm flipH="1" rot="16200000">
            <a:off x="6742800" y="1561680"/>
            <a:ext cx="1829520" cy="17535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5"/>
          <p:cNvSpPr/>
          <p:nvPr/>
        </p:nvSpPr>
        <p:spPr>
          <a:xfrm>
            <a:off x="-27000" y="129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на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Прямая со стрелкой 2"/>
          <p:cNvCxnSpPr/>
          <p:nvPr/>
        </p:nvCxnSpPr>
        <p:spPr>
          <a:xfrm>
            <a:off x="4343400" y="533520"/>
            <a:ext cx="76680" cy="5487120"/>
          </a:xfrm>
          <a:prstGeom prst="straightConnector1">
            <a:avLst/>
          </a:prstGeom>
          <a:ln cap="rnd"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Улыбающееся лицо 4"/>
          <p:cNvSpPr/>
          <p:nvPr/>
        </p:nvSpPr>
        <p:spPr>
          <a:xfrm>
            <a:off x="380880" y="2895480"/>
            <a:ext cx="914400" cy="6858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лыбающееся лицо 5"/>
          <p:cNvSpPr/>
          <p:nvPr/>
        </p:nvSpPr>
        <p:spPr>
          <a:xfrm>
            <a:off x="2743200" y="2895480"/>
            <a:ext cx="990720" cy="76212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6"/>
          <p:cNvSpPr/>
          <p:nvPr/>
        </p:nvSpPr>
        <p:spPr>
          <a:xfrm>
            <a:off x="4876920" y="2743200"/>
            <a:ext cx="1143000" cy="9144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7"/>
          <p:cNvSpPr/>
          <p:nvPr/>
        </p:nvSpPr>
        <p:spPr>
          <a:xfrm>
            <a:off x="7238880" y="2743200"/>
            <a:ext cx="1219320" cy="99072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 rot="1179600">
            <a:off x="31680" y="368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 rot="20599200">
            <a:off x="2615400" y="369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сть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11"/>
          <p:cNvSpPr/>
          <p:nvPr/>
        </p:nvSpPr>
        <p:spPr>
          <a:xfrm rot="10800000">
            <a:off x="914040" y="3580920"/>
            <a:ext cx="1981080" cy="1143000"/>
          </a:xfrm>
          <a:custGeom>
            <a:avLst/>
            <a:gdLst>
              <a:gd name="textAreaLeft" fmla="*/ 388080 w 1981080"/>
              <a:gd name="textAreaRight" fmla="*/ 1450080 w 19810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4" hR="21600" stAng="10800000" swAng="5400000"/>
                <a:lnTo>
                  <a:pt x="11579" y="0"/>
                </a:lnTo>
                <a:arcTo wR="8464" hR="21600" stAng="-5400000" swAng="3397006"/>
                <a:lnTo>
                  <a:pt x="21331" y="16200"/>
                </a:lnTo>
                <a:lnTo>
                  <a:pt x="18485" y="21600"/>
                </a:lnTo>
                <a:lnTo>
                  <a:pt x="15100" y="16200"/>
                </a:lnTo>
                <a:lnTo>
                  <a:pt x="16658" y="16200"/>
                </a:lnTo>
                <a:arcTo wR="8464" hR="21600" stAng="-2002994" swAng="-3145266"/>
                <a:lnTo>
                  <a:pt x="10021" y="369"/>
                </a:lnTo>
                <a:arcTo wR="8464" hR="21600" stAng="-5651740" swAng="-5148260"/>
                <a:close/>
              </a:path>
              <a:path fill="darkenLess" w="21600" h="21600">
                <a:moveTo>
                  <a:pt x="0" y="21600"/>
                </a:moveTo>
                <a:arcTo wR="8464" hR="21600" stAng="10800000" swAng="5400000"/>
                <a:lnTo>
                  <a:pt x="8464" y="0"/>
                </a:lnTo>
                <a:arcTo wR="8464" hR="21600" stAng="-5400000" swAng="251740"/>
                <a:lnTo>
                  <a:pt x="10021" y="369"/>
                </a:lnTo>
                <a:arcTo wR="8464" hR="21600" stAng="-5651740" swAng="-5148260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гнутая вверх стрелка 12"/>
          <p:cNvSpPr/>
          <p:nvPr/>
        </p:nvSpPr>
        <p:spPr>
          <a:xfrm>
            <a:off x="762120" y="1676520"/>
            <a:ext cx="2438280" cy="1143000"/>
          </a:xfrm>
          <a:custGeom>
            <a:avLst/>
            <a:gdLst>
              <a:gd name="textAreaLeft" fmla="*/ 502200 w 2438280"/>
              <a:gd name="textAreaRight" fmla="*/ 1793160 w 24382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4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5" y="16200"/>
                </a:lnTo>
                <a:lnTo>
                  <a:pt x="17520" y="16200"/>
                </a:lnTo>
                <a:arcTo wR="8902" hR="21600" stAng="-1924114" swAng="-3272564"/>
                <a:lnTo>
                  <a:pt x="10168" y="220"/>
                </a:lnTo>
                <a:arcTo wR="8902" hR="21600" stAng="-5603322" swAng="-5196678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322"/>
                <a:lnTo>
                  <a:pt x="10168" y="220"/>
                </a:lnTo>
                <a:arcTo wR="8902" hR="21600" stAng="-5603322" swAng="-5196678"/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2952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479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 rot="1738800">
            <a:off x="4183200" y="3703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467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гнутая вверх стрелка 18"/>
          <p:cNvSpPr/>
          <p:nvPr/>
        </p:nvSpPr>
        <p:spPr>
          <a:xfrm>
            <a:off x="5943600" y="1676520"/>
            <a:ext cx="1447920" cy="1143000"/>
          </a:xfrm>
          <a:custGeom>
            <a:avLst/>
            <a:gdLst>
              <a:gd name="textAreaLeft" fmla="*/ 254520 w 1447920"/>
              <a:gd name="textAreaRight" fmla="*/ 1050480 w 14479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3" hR="21600" stAng="10800000" swAng="5400000"/>
                <a:lnTo>
                  <a:pt x="11867" y="0"/>
                </a:lnTo>
                <a:arcTo wR="7603" hR="21600" stAng="-5400000" swAng="3224202"/>
                <a:lnTo>
                  <a:pt x="21359" y="16200"/>
                </a:lnTo>
                <a:lnTo>
                  <a:pt x="17337" y="21600"/>
                </a:lnTo>
                <a:lnTo>
                  <a:pt x="12833" y="16200"/>
                </a:lnTo>
                <a:lnTo>
                  <a:pt x="14964" y="16200"/>
                </a:lnTo>
                <a:arcTo wR="7603" hR="21600" stAng="-2175798" swAng="-2871937"/>
                <a:lnTo>
                  <a:pt x="9735" y="867"/>
                </a:lnTo>
                <a:arcTo wR="7603" hR="21600" stAng="-5752265" swAng="-5047735"/>
                <a:close/>
              </a:path>
              <a:path fill="darkenLess" w="21600" h="21600">
                <a:moveTo>
                  <a:pt x="0" y="21600"/>
                </a:moveTo>
                <a:arcTo wR="7603" hR="21600" stAng="10800000" swAng="5400000"/>
                <a:lnTo>
                  <a:pt x="7603" y="0"/>
                </a:lnTo>
                <a:arcTo wR="7603" hR="21600" stAng="-5400000" swAng="352265"/>
                <a:lnTo>
                  <a:pt x="9735" y="867"/>
                </a:lnTo>
                <a:arcTo wR="7603" hR="21600" stAng="-5752265" swAng="-5047735"/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гнутая вверх стрелка 20"/>
          <p:cNvSpPr/>
          <p:nvPr/>
        </p:nvSpPr>
        <p:spPr>
          <a:xfrm rot="10800000">
            <a:off x="5562720" y="3657600"/>
            <a:ext cx="1977840" cy="1417680"/>
          </a:xfrm>
          <a:custGeom>
            <a:avLst/>
            <a:gdLst>
              <a:gd name="textAreaLeft" fmla="*/ 361440 w 1977840"/>
              <a:gd name="textAreaRight" fmla="*/ 1439280 w 1977840"/>
              <a:gd name="textAreaTop" fmla="*/ 189720 h 1417680"/>
              <a:gd name="textAreaBottom" fmla="*/ 1227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8" hR="21600" stAng="10800000" swAng="5400000"/>
                <a:lnTo>
                  <a:pt x="11768" y="0"/>
                </a:lnTo>
                <a:arcTo wR="7898" hR="21600" stAng="-5400000" swAng="3286250"/>
                <a:lnTo>
                  <a:pt x="21349" y="16200"/>
                </a:lnTo>
                <a:lnTo>
                  <a:pt x="17730" y="21600"/>
                </a:lnTo>
                <a:lnTo>
                  <a:pt x="13609" y="16200"/>
                </a:lnTo>
                <a:lnTo>
                  <a:pt x="15544" y="16200"/>
                </a:lnTo>
                <a:arcTo wR="7898" hR="21600" stAng="-2113750" swAng="-2969503"/>
                <a:lnTo>
                  <a:pt x="9833" y="658"/>
                </a:lnTo>
                <a:arcTo wR="7898" hR="21600" stAng="-5716747" swAng="-5083253"/>
                <a:close/>
              </a:path>
              <a:path fill="darkenLess" w="21600" h="21600">
                <a:moveTo>
                  <a:pt x="0" y="21600"/>
                </a:moveTo>
                <a:arcTo wR="7898" hR="21600" stAng="10800000" swAng="5400000"/>
                <a:lnTo>
                  <a:pt x="7898" y="0"/>
                </a:lnTo>
                <a:arcTo wR="7898" hR="21600" stAng="-5400000" swAng="316747"/>
                <a:lnTo>
                  <a:pt x="9833" y="658"/>
                </a:lnTo>
                <a:arcTo wR="7898" hR="21600" stAng="-5716747" swAng="-5083253"/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58672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р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6400800" y="4952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, какая схема иллюстрирует феодальное общество, а какая – капитали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синонимы к слова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еодал, буржуазия, рабоч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Сергей Корсун &quot;Продавец воздуха&quot;"/>
          <p:cNvPicPr/>
          <p:nvPr/>
        </p:nvPicPr>
        <p:blipFill>
          <a:blip r:embed="rId1"/>
          <a:stretch/>
        </p:blipFill>
        <p:spPr>
          <a:xfrm>
            <a:off x="4952880" y="1695600"/>
            <a:ext cx="3753000" cy="4886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кажите, к какому общественному строю относятся изобра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shuba.jpg"/>
          <p:cNvPicPr/>
          <p:nvPr/>
        </p:nvPicPr>
        <p:blipFill>
          <a:blip r:embed="rId2"/>
          <a:stretch/>
        </p:blipFill>
        <p:spPr>
          <a:xfrm>
            <a:off x="1139760" y="1981080"/>
            <a:ext cx="3203640" cy="4692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286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952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g15_worker.png"/>
          <p:cNvPicPr/>
          <p:nvPr/>
        </p:nvPicPr>
        <p:blipFill>
          <a:blip r:embed="rId1"/>
          <a:stretch/>
        </p:blipFill>
        <p:spPr>
          <a:xfrm>
            <a:off x="380880" y="685800"/>
            <a:ext cx="34387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094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4267080" y="1596960"/>
            <a:ext cx="4341960" cy="3210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Burguazia copy.jpg"/>
          <p:cNvPicPr/>
          <p:nvPr/>
        </p:nvPicPr>
        <p:blipFill>
          <a:blip r:embed="rId1"/>
          <a:stretch/>
        </p:blipFill>
        <p:spPr>
          <a:xfrm>
            <a:off x="5334120" y="1981080"/>
            <a:ext cx="3511440" cy="37404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4"/>
          <p:cNvSpPr/>
          <p:nvPr/>
        </p:nvSpPr>
        <p:spPr>
          <a:xfrm>
            <a:off x="6172200" y="2133720"/>
            <a:ext cx="1219320" cy="38088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уем пра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572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4100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228600" y="2487600"/>
            <a:ext cx="4815000" cy="3344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class2.gif"/>
          <p:cNvPicPr/>
          <p:nvPr/>
        </p:nvPicPr>
        <p:blipFill>
          <a:blip r:embed="rId1"/>
          <a:stretch/>
        </p:blipFill>
        <p:spPr>
          <a:xfrm>
            <a:off x="685800" y="2362320"/>
            <a:ext cx="3629160" cy="270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 rot="19905000">
            <a:off x="2729880" y="34815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worker.gif"/>
          <p:cNvPicPr/>
          <p:nvPr/>
        </p:nvPicPr>
        <p:blipFill>
          <a:blip r:embed="rId2"/>
          <a:stretch/>
        </p:blipFill>
        <p:spPr>
          <a:xfrm>
            <a:off x="5943600" y="685800"/>
            <a:ext cx="270504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32448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т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791320" y="1523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st600_04.jpg"/>
          <p:cNvPicPr/>
          <p:nvPr/>
        </p:nvPicPr>
        <p:blipFill>
          <a:blip r:embed="rId1"/>
          <a:stretch/>
        </p:blipFill>
        <p:spPr>
          <a:xfrm>
            <a:off x="685800" y="1676520"/>
            <a:ext cx="81248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907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</dc:creator>
  <dc:description/>
  <dc:language>en-US</dc:language>
  <cp:lastModifiedBy>User</cp:lastModifiedBy>
  <dcterms:modified xsi:type="dcterms:W3CDTF">2012-10-17T14:38:40Z</dcterms:modified>
  <cp:revision>14</cp:revision>
  <dc:subject/>
  <dc:title>Общественный строй.</dc:title>
</cp:coreProperties>
</file>