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09.%20Who%20Correct.wav" ContentType="audio/x-wav"/>
  <Override PartName="/ppt/media/image5.png" ContentType="image/png"/>
  <Override PartName="/ppt/media/image2.gif" ContentType="image/gif"/>
  <Override PartName="/ppt/media/Tarda.wav" ContentType="audio/x-wav"/>
  <Override PartName="/ppt/media/explode.wav" ContentType="audio/x-wav"/>
  <Override PartName="/ppt/media/image3.png" ContentType="image/png"/>
  <Override PartName="/ppt/media/image4.png" ContentType="image/png"/>
  <Override PartName="/ppt/media/chimes.wav" ContentType="audio/x-wav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13BC-DF33-41CD-B3DF-F154C70B0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C018-DEE3-40D4-A479-43047B911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AA474-A269-49ED-B24A-DD77F3D6E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16AE-E171-400B-8153-B5845E174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19739-77EC-4FA2-801C-22F280B3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C7350-7DE6-44EF-9D0F-2B6941A5C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9450-7930-4D2C-A236-B9086A785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B240B-9072-4F87-93C3-B8008C1A4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15D4-FEC5-45DD-B449-58929140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35D65-5CAF-4203-890D-17FBFF458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23FD9-6957-4D66-B70B-ACCA43749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B1F9-EC42-45F4-95C5-52918DD34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65B0-B92C-407E-8350-7F3E9F65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D8D6E-5693-4C05-B167-B6E9C195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BB47F-9C3F-4108-B4B6-69C99F811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AACB3-D7A2-42CF-80F1-EC1D9621A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C919-AC9B-42A3-AAC1-0F3141D86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E45F-21D5-4F0F-A576-A2A53D5D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093D-ECF1-4D68-94E8-7064A9FDB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09ADB-9551-42B2-B0A9-4E4F481BE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1B671-A79D-49A7-BD4B-5E600339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1BFF-CD33-4C07-887C-EF1F881CC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DCD9-4EEC-484E-AEC8-EEE67D34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0402-26DB-471C-A5AC-2F071B2D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69F2-5BAD-40D4-B8B3-BBFC44C7472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1006-F072-449E-BDEA-704E8194DBE0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" Target="slide3.xml"/><Relationship Id="rId4" Type="http://schemas.openxmlformats.org/officeDocument/2006/relationships/slide" Target="slide14.xml"/><Relationship Id="rId5" Type="http://schemas.openxmlformats.org/officeDocument/2006/relationships/slide" Target=""/><Relationship Id="rId6" Type="http://schemas.openxmlformats.org/officeDocument/2006/relationships/audio" Target="../media/09.%20Who%20Correct.wav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5.xml"/><Relationship Id="rId3" Type="http://schemas.openxmlformats.org/officeDocument/2006/relationships/slide" Target=""/><Relationship Id="rId4" Type="http://schemas.openxmlformats.org/officeDocument/2006/relationships/audio" Target="../media/09.%20Who%20Correct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audio" Target="../media/09.%20Who%20Correct.wav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"/><Relationship Id="rId3" Type="http://schemas.openxmlformats.org/officeDocument/2006/relationships/audio" Target="../media/09.%20Who%20Correct.wav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arda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47280" y="549360"/>
            <a:ext cx="64818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Историческая викторина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68360" y="3068640"/>
            <a:ext cx="63676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Учитель Конищева Н.В.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Краснодарский край</a:t>
            </a:r>
            <a:r>
              <a:rPr b="1" i="1" lang="en-US" sz="32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Тбилисский район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Ст. Нововладимировская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6699"/>
                </a:solidFill>
                <a:latin typeface="Verdana"/>
              </a:rPr>
              <a:t>МОУ «СОШ №10»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>
            <a:hlinkClick r:id="" action="ppaction://hlinkshowjump?jump=nextslide"/>
          </p:cNvPr>
          <p:cNvSpPr/>
          <p:nvPr/>
        </p:nvSpPr>
        <p:spPr>
          <a:xfrm>
            <a:off x="8101080" y="6093000"/>
            <a:ext cx="647640" cy="50472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7712" h="21600">
                <a:moveTo>
                  <a:pt x="0" y="0"/>
                </a:moveTo>
                <a:lnTo>
                  <a:pt x="27712" y="0"/>
                </a:lnTo>
                <a:lnTo>
                  <a:pt x="27712" y="21600"/>
                </a:lnTo>
                <a:lnTo>
                  <a:pt x="0" y="21600"/>
                </a:lnTo>
                <a:close/>
              </a:path>
              <a:path fill="lightenLess" w="27712" h="21600">
                <a:moveTo>
                  <a:pt x="0" y="0"/>
                </a:moveTo>
                <a:lnTo>
                  <a:pt x="27712" y="0"/>
                </a:lnTo>
                <a:lnTo>
                  <a:pt x="26312" y="1400"/>
                </a:lnTo>
                <a:lnTo>
                  <a:pt x="1400" y="1400"/>
                </a:lnTo>
                <a:close/>
              </a:path>
              <a:path fill="darken" w="27712" h="21600">
                <a:moveTo>
                  <a:pt x="27712" y="0"/>
                </a:moveTo>
                <a:lnTo>
                  <a:pt x="27712" y="21600"/>
                </a:lnTo>
                <a:lnTo>
                  <a:pt x="26312" y="20200"/>
                </a:lnTo>
                <a:lnTo>
                  <a:pt x="26312" y="1400"/>
                </a:lnTo>
                <a:close/>
              </a:path>
              <a:path fill="darkenLess" w="27712" h="21600">
                <a:moveTo>
                  <a:pt x="2771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2" y="20200"/>
                </a:lnTo>
                <a:close/>
              </a:path>
              <a:path fill="lighten" w="2771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2" h="21600">
                <a:moveTo>
                  <a:pt x="6850" y="3794"/>
                </a:moveTo>
                <a:lnTo>
                  <a:pt x="20863" y="10800"/>
                </a:lnTo>
                <a:lnTo>
                  <a:pt x="6850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736720" cy="186372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6246720" y="1197000"/>
            <a:ext cx="289728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город в Древней Руси «крестил» огнём и мечом дядя князя Владимира Добрыня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Смолен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38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3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3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ой город в Древней Руси «крестил» огнём и мечом дядя князя Владимира Добрыня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Смолен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6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вали сына Юрия Долгорукого, князя Владимирского, при котором в городе были возведены Успенский собор и церковь Покрова на Нерл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Изя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Яро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Андрей Боголюбск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Мсти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5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3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ак звали сына Юрия Долгорукого, князя Владимирского, при котором в городе были возведены Успенский собор и церковь Покрова на Нерли?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зя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Яро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ru-RU" sz="5400" spc="-1" strike="noStrike">
                <a:solidFill>
                  <a:srgbClr val="990000"/>
                </a:solidFill>
                <a:latin typeface="Arial"/>
              </a:rPr>
              <a:t>Андрей Боголюбск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Мстисла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3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2700360" y="62064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1476360" y="4221000"/>
            <a:ext cx="648036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твет неверный!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6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396" name="">
            <a:hlinkClick r:id="" action="ppaction://hlinkshowjump?jump=previousslide"/>
          </p:cNvPr>
          <p:cNvSpPr/>
          <p:nvPr/>
        </p:nvSpPr>
        <p:spPr>
          <a:xfrm>
            <a:off x="250920" y="5950080"/>
            <a:ext cx="720720" cy="647640"/>
          </a:xfrm>
          <a:custGeom>
            <a:avLst/>
            <a:gdLst>
              <a:gd name="textAreaLeft" fmla="*/ 41760 w 720720"/>
              <a:gd name="textAreaRight" fmla="*/ 678960 w 7207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4036" h="21600">
                <a:moveTo>
                  <a:pt x="0" y="0"/>
                </a:moveTo>
                <a:lnTo>
                  <a:pt x="24036" y="0"/>
                </a:lnTo>
                <a:lnTo>
                  <a:pt x="24036" y="21600"/>
                </a:lnTo>
                <a:lnTo>
                  <a:pt x="0" y="21600"/>
                </a:lnTo>
                <a:close/>
              </a:path>
              <a:path fill="lightenLess" w="24036" h="21600">
                <a:moveTo>
                  <a:pt x="0" y="0"/>
                </a:moveTo>
                <a:lnTo>
                  <a:pt x="24036" y="0"/>
                </a:lnTo>
                <a:lnTo>
                  <a:pt x="22636" y="1400"/>
                </a:lnTo>
                <a:lnTo>
                  <a:pt x="1400" y="1400"/>
                </a:lnTo>
                <a:close/>
              </a:path>
              <a:path fill="darken" w="24036" h="21600">
                <a:moveTo>
                  <a:pt x="24036" y="0"/>
                </a:moveTo>
                <a:lnTo>
                  <a:pt x="24036" y="21600"/>
                </a:lnTo>
                <a:lnTo>
                  <a:pt x="22636" y="20200"/>
                </a:lnTo>
                <a:lnTo>
                  <a:pt x="22636" y="1400"/>
                </a:lnTo>
                <a:close/>
              </a:path>
              <a:path fill="darkenLess" w="24036" h="21600">
                <a:moveTo>
                  <a:pt x="240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36" y="20200"/>
                </a:lnTo>
                <a:close/>
              </a:path>
              <a:path fill="lighten" w="240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36" h="21600">
                <a:moveTo>
                  <a:pt x="5012" y="7493"/>
                </a:moveTo>
                <a:lnTo>
                  <a:pt x="8519" y="7493"/>
                </a:lnTo>
                <a:lnTo>
                  <a:pt x="8519" y="12828"/>
                </a:lnTo>
                <a:cubicBezTo>
                  <a:pt x="8519" y="13751"/>
                  <a:pt x="9320" y="14482"/>
                  <a:pt x="10356" y="14482"/>
                </a:cubicBezTo>
                <a:lnTo>
                  <a:pt x="12018" y="14482"/>
                </a:lnTo>
                <a:cubicBezTo>
                  <a:pt x="13054" y="14482"/>
                  <a:pt x="13854" y="13751"/>
                  <a:pt x="13854" y="12828"/>
                </a:cubicBezTo>
                <a:lnTo>
                  <a:pt x="13854" y="7493"/>
                </a:lnTo>
                <a:lnTo>
                  <a:pt x="12018" y="7493"/>
                </a:lnTo>
                <a:lnTo>
                  <a:pt x="15526" y="3985"/>
                </a:lnTo>
                <a:lnTo>
                  <a:pt x="19199" y="7493"/>
                </a:lnTo>
                <a:lnTo>
                  <a:pt x="17362" y="7493"/>
                </a:lnTo>
                <a:lnTo>
                  <a:pt x="17362" y="12828"/>
                </a:lnTo>
                <a:cubicBezTo>
                  <a:pt x="17362" y="15596"/>
                  <a:pt x="14786" y="18155"/>
                  <a:pt x="12018" y="18155"/>
                </a:cubicBezTo>
                <a:lnTo>
                  <a:pt x="10356" y="18155"/>
                </a:lnTo>
                <a:cubicBezTo>
                  <a:pt x="7588" y="18155"/>
                  <a:pt x="5012" y="15596"/>
                  <a:pt x="5012" y="12828"/>
                </a:cubicBez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148360" y="1341360"/>
            <a:ext cx="3816360" cy="3816360"/>
          </a:xfrm>
          <a:prstGeom prst="wedgeEllipseCallout">
            <a:avLst>
              <a:gd name="adj1" fmla="val -76995"/>
              <a:gd name="adj2" fmla="val 19342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1"/>
          <a:stretch/>
        </p:blipFill>
        <p:spPr>
          <a:xfrm>
            <a:off x="1116000" y="2276640"/>
            <a:ext cx="3308400" cy="408600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5508720" y="2708280"/>
            <a:ext cx="3095640" cy="122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тлично!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какой город был приглашён княжит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яг Рюрик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2852640"/>
            <a:ext cx="7981920" cy="385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Киев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Изборск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3" action="ppaction://hlinksldjump"/>
              </a:rPr>
              <a:t>Новгород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48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4800" spc="-1" strike="noStrike" u="sng">
                <a:solidFill>
                  <a:srgbClr val="cc99ff"/>
                </a:solidFill>
                <a:uFillTx/>
                <a:latin typeface="Arial"/>
                <a:hlinkClick r:id="rId4" action="ppaction://hlinksldjump"/>
              </a:rPr>
              <a:t>Ладога</a:t>
            </a:r>
            <a:endParaRPr b="0" lang="en-US" sz="4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0" name="">
            <a:hlinkClick r:id="rId5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6" name="09.%20Who%20Correct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 какой город был приглашён княжить</a:t>
            </a:r>
            <a:br>
              <a:rPr sz="4400"/>
            </a:b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аряг Рюрик?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Ки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зборск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Новгород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адога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nextslide"/>
          </p:cNvPr>
          <p:cNvSpPr/>
          <p:nvPr/>
        </p:nvSpPr>
        <p:spPr>
          <a:xfrm>
            <a:off x="8317080" y="6165720"/>
            <a:ext cx="647640" cy="503280"/>
          </a:xfrm>
          <a:custGeom>
            <a:avLst/>
            <a:gdLst>
              <a:gd name="textAreaLeft" fmla="*/ 32400 w 647640"/>
              <a:gd name="textAreaRight" fmla="*/ 615240 w 64764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7791" h="21600">
                <a:moveTo>
                  <a:pt x="0" y="0"/>
                </a:moveTo>
                <a:lnTo>
                  <a:pt x="27791" y="0"/>
                </a:lnTo>
                <a:lnTo>
                  <a:pt x="27791" y="21600"/>
                </a:lnTo>
                <a:lnTo>
                  <a:pt x="0" y="21600"/>
                </a:lnTo>
                <a:close/>
              </a:path>
              <a:path fill="lightenLess" w="27791" h="21600">
                <a:moveTo>
                  <a:pt x="0" y="0"/>
                </a:moveTo>
                <a:lnTo>
                  <a:pt x="27791" y="0"/>
                </a:lnTo>
                <a:lnTo>
                  <a:pt x="26391" y="1400"/>
                </a:lnTo>
                <a:lnTo>
                  <a:pt x="1400" y="1400"/>
                </a:lnTo>
                <a:close/>
              </a:path>
              <a:path fill="darken" w="27791" h="21600">
                <a:moveTo>
                  <a:pt x="27791" y="0"/>
                </a:moveTo>
                <a:lnTo>
                  <a:pt x="27791" y="21600"/>
                </a:lnTo>
                <a:lnTo>
                  <a:pt x="26391" y="20200"/>
                </a:lnTo>
                <a:lnTo>
                  <a:pt x="26391" y="1400"/>
                </a:lnTo>
                <a:close/>
              </a:path>
              <a:path fill="darkenLess" w="27791" h="21600">
                <a:moveTo>
                  <a:pt x="277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91" y="20200"/>
                </a:lnTo>
                <a:close/>
              </a:path>
              <a:path fill="lighten" w="277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91" h="21600">
                <a:moveTo>
                  <a:pt x="6889" y="3794"/>
                </a:moveTo>
                <a:lnTo>
                  <a:pt x="20902" y="10800"/>
                </a:lnTo>
                <a:lnTo>
                  <a:pt x="6889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лась столица древлян, сожжённая княгиней Ольгой в качестве мести за убийство её мужа князя Игоря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Переяславл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2" action="ppaction://hlinksldjump"/>
              </a:rPr>
              <a:t>Искоротен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Любеч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4" name="09.%20Who%20Correct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Как называлась столица древлян, сожжённая княгиней Ольгой в качестве мести за убийство её мужа князя Игоря?</a:t>
            </a: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Переяславл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Искоротень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юбеч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Черниго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5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зовите год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снования Москвы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0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1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12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1249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3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4" name="">
            <a:hlinkClick r:id="rId1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2" name="09.%20Who%20Correct.wav"/>
      </p:stSnd>
    </p:sndAc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2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Назовите год</a:t>
            </a:r>
            <a:br>
              <a:rPr sz="4800"/>
            </a:br>
            <a:r>
              <a:rPr b="1" lang="ru-RU" sz="4800" spc="-1" strike="noStrike">
                <a:solidFill>
                  <a:srgbClr val="ffffff"/>
                </a:solidFill>
                <a:latin typeface="Arial"/>
              </a:rPr>
              <a:t>основания Москвы</a:t>
            </a:r>
            <a:endParaRPr b="0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0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1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247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1249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33520" y="373392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3520" y="4724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князя Галицкого, современника Александра Невского, одного из самых блестящих русских князей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 u="sng">
                <a:solidFill>
                  <a:srgbClr val="cc99ff"/>
                </a:solidFill>
                <a:uFillTx/>
                <a:latin typeface="Arial"/>
                <a:hlinkClick r:id="rId1" action="ppaction://hlinksldjump"/>
              </a:rPr>
              <a:t>Дании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Рома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0" lang="ru-RU" sz="5400" spc="-1" strike="noStrike">
                <a:solidFill>
                  <a:srgbClr val="ffffff"/>
                </a:solidFill>
                <a:latin typeface="Arial"/>
              </a:rPr>
              <a:t>Юр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ffffff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686800" y="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1" name="">
            <a:hlinkClick r:id="rId2" action="ppaction://hlinksldjump"/>
          </p:cNvPr>
          <p:cNvSpPr/>
          <p:nvPr/>
        </p:nvSpPr>
        <p:spPr>
          <a:xfrm>
            <a:off x="8686800" y="6324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transition>
    <p:zoom dir="out"/>
    <p:sndAc>
      <p:stSnd>
        <p:snd r:embed="rId3" name="09.%20Who%20Correct.wav"/>
      </p:stSnd>
    </p:sndAc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533520" y="27432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edfad2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33520" y="4751280"/>
            <a:ext cx="8153280" cy="838440"/>
          </a:xfrm>
          <a:prstGeom prst="hexagon">
            <a:avLst>
              <a:gd name="adj" fmla="val 30884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33520" y="374328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228600"/>
            <a:ext cx="8001000" cy="2362320"/>
          </a:xfrm>
          <a:prstGeom prst="hexagon">
            <a:avLst>
              <a:gd name="adj" fmla="val 8279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5715000"/>
            <a:ext cx="8153280" cy="838080"/>
          </a:xfrm>
          <a:prstGeom prst="hexagon">
            <a:avLst>
              <a:gd name="adj" fmla="val 30897"/>
              <a:gd name="vf" fmla="val 115470"/>
            </a:avLst>
          </a:prstGeom>
          <a:solidFill>
            <a:srgbClr val="006699"/>
          </a:solidFill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Как звали князя Галицкого, современника Александра Невского, одного из самых блестящих русских князей?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37720" y="2666520"/>
            <a:ext cx="762012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A </a:t>
            </a:r>
            <a:r>
              <a:rPr b="0" lang="en-US" sz="5400" spc="-1" strike="noStrike">
                <a:solidFill>
                  <a:srgbClr val="006699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Даниил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B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Роман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C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Юрий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baseline="10000">
                <a:solidFill>
                  <a:srgbClr val="ff9900"/>
                </a:solidFill>
                <a:latin typeface="Arial"/>
              </a:rPr>
              <a:t>D </a:t>
            </a:r>
            <a:r>
              <a:rPr b="1" lang="ru-RU" sz="4800" spc="-1" strike="noStrike" baseline="10000">
                <a:solidFill>
                  <a:srgbClr val="ff9900"/>
                </a:solidFill>
                <a:latin typeface="Arial"/>
              </a:rPr>
              <a:t> </a:t>
            </a:r>
            <a:r>
              <a:rPr b="1" lang="ru-RU" sz="5400" spc="-1" strike="noStrike">
                <a:solidFill>
                  <a:srgbClr val="990000"/>
                </a:solidFill>
                <a:latin typeface="Arial"/>
              </a:rPr>
              <a:t>Лев</a:t>
            </a:r>
            <a:endParaRPr b="0" lang="en-US" sz="5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0" y="61722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18148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0" y="41911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0" y="320040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H="1">
            <a:off x="8686800" y="61722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>
            <a:off x="8686800" y="518148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8686800" y="419112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8686800" y="3200400"/>
            <a:ext cx="45720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>
            <a:off x="8610480" y="1447920"/>
            <a:ext cx="53352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-360" y="1447920"/>
            <a:ext cx="609480" cy="0"/>
          </a:xfrm>
          <a:prstGeom prst="line">
            <a:avLst/>
          </a:prstGeom>
          <a:ln w="572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8244000" y="6165720"/>
            <a:ext cx="649080" cy="432000"/>
          </a:xfrm>
          <a:custGeom>
            <a:avLst/>
            <a:gdLst>
              <a:gd name="textAreaLeft" fmla="*/ 27720 w 649080"/>
              <a:gd name="textAreaRight" fmla="*/ 621360 w 649080"/>
              <a:gd name="textAreaTop" fmla="*/ 27720 h 432000"/>
              <a:gd name="textAreaBottom" fmla="*/ 404280 h 432000"/>
            </a:gdLst>
            <a:ahLst/>
            <a:rect l="textAreaLeft" t="textAreaTop" r="textAreaRight" b="textAreaBottom"/>
            <a:pathLst>
              <a:path w="32445" h="21600">
                <a:moveTo>
                  <a:pt x="0" y="0"/>
                </a:moveTo>
                <a:lnTo>
                  <a:pt x="32445" y="0"/>
                </a:lnTo>
                <a:lnTo>
                  <a:pt x="32445" y="21600"/>
                </a:lnTo>
                <a:lnTo>
                  <a:pt x="0" y="21600"/>
                </a:lnTo>
                <a:close/>
              </a:path>
              <a:path fill="lightenLess" w="32445" h="21600">
                <a:moveTo>
                  <a:pt x="0" y="0"/>
                </a:moveTo>
                <a:lnTo>
                  <a:pt x="32445" y="0"/>
                </a:lnTo>
                <a:lnTo>
                  <a:pt x="31045" y="1400"/>
                </a:lnTo>
                <a:lnTo>
                  <a:pt x="1400" y="1400"/>
                </a:lnTo>
                <a:close/>
              </a:path>
              <a:path fill="darken" w="32445" h="21600">
                <a:moveTo>
                  <a:pt x="32445" y="0"/>
                </a:moveTo>
                <a:lnTo>
                  <a:pt x="32445" y="21600"/>
                </a:lnTo>
                <a:lnTo>
                  <a:pt x="31045" y="20200"/>
                </a:lnTo>
                <a:lnTo>
                  <a:pt x="31045" y="1400"/>
                </a:lnTo>
                <a:close/>
              </a:path>
              <a:path fill="darkenLess" w="32445" h="21600">
                <a:moveTo>
                  <a:pt x="324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45" y="20200"/>
                </a:lnTo>
                <a:close/>
              </a:path>
              <a:path fill="lighten" w="324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45" h="21600">
                <a:moveTo>
                  <a:pt x="9216" y="3794"/>
                </a:moveTo>
                <a:lnTo>
                  <a:pt x="23229" y="10800"/>
                </a:lnTo>
                <a:lnTo>
                  <a:pt x="9216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8T19:11:23Z</dcterms:created>
  <dc:creator>Атлон</dc:creator>
  <dc:description/>
  <dc:language>en-US</dc:language>
  <cp:lastModifiedBy>Домашний</cp:lastModifiedBy>
  <dcterms:modified xsi:type="dcterms:W3CDTF">2009-04-22T20:01:23Z</dcterms:modified>
  <cp:revision>26</cp:revision>
  <dc:subject/>
  <dc:title>Past Simple with Pets</dc:title>
</cp:coreProperties>
</file>