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0361-2633-4B59-AAE0-803EED315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759B-4F34-4D61-867D-9CA72E3D1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1B5D-6992-4B61-8BAE-5BFBBDF7E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0685-6AFF-4A7D-8324-5CFFEC0FC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E58D0-8C00-4348-A5FF-352A3DD28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39CFB-2CCE-440C-8D5C-95FDB5A7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75205-4FCE-45BF-B0BE-51B33E38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A3D0-CC64-41A4-B03D-03E74E3B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5C82-4806-4865-A4D9-3E28EAC4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A69C-AE81-424E-9569-C3D96D83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3F6CA-0223-4ADA-8369-84BFF8C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82CF-0969-4595-A0A0-09843753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1F45C-2A26-4D27-BC9A-077F675B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32163-B50A-4849-8A95-472F6F8B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F542-E1B0-4D09-85A9-FB6C4769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7BA6-8150-40B7-AB69-021C0EDC6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E3FB-5B55-4410-BA93-FD03EF0C9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3668-8966-4D11-AB0A-76946F6F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0E7B5-7C8B-41B5-821E-66733D595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AEB8-3345-4303-8231-9D97EC5AE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C6506-9430-4A16-B3C8-94C67947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3AFBF7-BB6B-488A-A2B0-7BB82DF7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A3AF-F5FD-4BBD-80E4-450FF362A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9168-B19C-4CC1-94A3-D290666D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A10B1-4EAA-4A58-B132-6C2BE267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65429-4312-43B2-BA3D-8E391A4E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A9D55-20BE-4300-A6FC-AE40538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F72F1-8B25-4046-A850-F2E4686A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92609-C40E-41BF-9F3E-D994B8A7A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47F85-0BA1-417F-8E93-6C1442C0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67435-AB81-46D3-8814-C20D4203D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775CE-B7DD-4731-8832-EC8FECA1C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F3138-7F04-4F04-A562-8CFBBE665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028F-7EB3-48C7-86D6-727BFBD9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9739D-B8EF-4244-AE9D-66BE32CC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7D729-D55C-48E2-BA1F-60AA8F4A4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98BB7-83B6-4813-84B6-77D3502C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52E74-685F-42F8-A747-A230CE917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84677-AD0A-4EF6-A30C-72BAD8F6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838B-ECB2-46B4-B977-11A0F71B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8C4BB-B4C3-46EF-B315-2978AB02D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99A26A-59BA-4BAF-9EE6-E094C6A3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0E019-0679-4A68-B135-FBE356190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E9144-7268-47F2-8748-2EE2D022E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0D8-CACD-4092-B9A1-93405F6A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464F-177E-41B9-B14F-4DAB837A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0B3465-8F59-4894-A162-8CA8ED39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58F67D-18C6-412D-90FE-04EBDFC7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3AACC-CE9F-404B-99F7-F5BB73BB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A557F1-3441-4512-84A2-E2F185AB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D56F-4D5A-48F5-A8BE-7FA6D858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8E8A44-316F-4AE2-8510-44D4B849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D3A055-21C0-47E1-A8C3-A1EE5CA4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CE62-F31B-4A0B-80ED-21708BE2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C7811-86B5-4DC8-9EA0-FB0E78EB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EAB7-2A79-4E70-9676-F922D785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40028-3337-4F44-A719-6F2A1E64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81D-B09B-487E-8149-13388720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EB7D-4BC1-4FEE-A2E6-91C1E3C5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9B3E-A8DE-4183-A8A9-5C22EA19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4AB5-2B79-4AC5-A414-60C1E5A32E9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FCD5-4426-460D-ADFD-481041C05F5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CAFE-477A-49CB-99A0-1291DAD272D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2C959-86A7-47F7-BF4B-BAB6F54E2D2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C1E8-6149-48FC-83FE-77CF80BEAD7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3"/>
          <p:cNvSpPr/>
          <p:nvPr/>
        </p:nvSpPr>
        <p:spPr>
          <a:xfrm>
            <a:off x="428760" y="1785960"/>
            <a:ext cx="85010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674d26"/>
                </a:solidFill>
                <a:latin typeface="Arial"/>
              </a:rPr>
              <a:t>НИКОЛАЕВСКАЯ РОСС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2428920" y="4857840"/>
            <a:ext cx="63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Учитель истории и обществознания МОУ СОШ №39 гор.Саранска Республики Мордо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45f07"/>
                </a:solidFill>
                <a:latin typeface="Arial"/>
              </a:rPr>
              <a:t>Барашкина Светлан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1"/>
          <p:cNvSpPr/>
          <p:nvPr/>
        </p:nvSpPr>
        <p:spPr>
          <a:xfrm>
            <a:off x="928800" y="785880"/>
            <a:ext cx="7429320" cy="52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СОЦИАЛЬНО-ЭКОНОМИЧЕСКОЕ РАЗВИТИЕ РОССИИ В НАЧАЛЕ </a:t>
            </a: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Российская империя была ….. Страной, так как большую часть населения составляли ….. . В стране существовала сложившаяся ранее феодально-крепостническая система землевладения, при которой собственниками земли являлись ….., а работали ….. крестьяне, находившиеся в полной собственности ….. . За пользование землей крестьяне несли повинности: платили ….. и отрабатывали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районная специализация сельского хозяйства. Появляются крестьяне- ….. , временно уходившие на заработки в город или на сельскохозяйственные работы. Отходничество было более развито в ….. губерниях.  Главной повинностью крепостных крестьян, уходивших на заработки, был ….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это время происходит также расслоение крестьянства. Из крестьянской среды выделяются так называемые ….. крестьяне,  которые занимались предпринимательств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В первой половине </a:t>
            </a:r>
            <a:r>
              <a:rPr b="0" lang="en-US" sz="1600" spc="-1" strike="noStrike">
                <a:solidFill>
                  <a:srgbClr val="674d26"/>
                </a:solidFill>
                <a:latin typeface="Arial"/>
              </a:rPr>
              <a:t>XIX</a:t>
            </a:r>
            <a:r>
              <a:rPr b="0" lang="ru-RU" sz="1600" spc="-1" strike="noStrike">
                <a:solidFill>
                  <a:srgbClr val="674d26"/>
                </a:solidFill>
                <a:latin typeface="Arial"/>
              </a:rPr>
              <a:t> века феодально-крепостническая система вступает в стадию разложения и появляются элементы капиталистической системы. ….. , ….. крестьянства свидетельствуют о разложении феодализм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1785960" y="928800"/>
            <a:ext cx="600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АГРАФЫ 10, 11, ВОПРОСЫ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1"/>
          <p:cNvSpPr/>
          <p:nvPr/>
        </p:nvSpPr>
        <p:spPr>
          <a:xfrm>
            <a:off x="1071720" y="857160"/>
            <a:ext cx="7358040" cy="50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ПЛАН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Личность Николая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Начало нового царствов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Кодификация закон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Строгость политического режима – </a:t>
            </a:r>
            <a:r>
              <a:rPr b="0" lang="en-US" sz="3600" spc="-1" strike="noStrike">
                <a:solidFill>
                  <a:srgbClr val="674d26"/>
                </a:solidFill>
                <a:latin typeface="Arial"/>
              </a:rPr>
              <a:t>III</a:t>
            </a: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 Отделение и цензу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пытка решения крестьянского вопро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N1"/>
          <p:cNvPicPr/>
          <p:nvPr/>
        </p:nvPicPr>
        <p:blipFill>
          <a:blip r:embed="rId1"/>
          <a:stretch/>
        </p:blipFill>
        <p:spPr>
          <a:xfrm>
            <a:off x="755640" y="549360"/>
            <a:ext cx="4191120" cy="5832360"/>
          </a:xfrm>
          <a:prstGeom prst="rect">
            <a:avLst/>
          </a:prstGeom>
          <a:ln w="0">
            <a:noFill/>
          </a:ln>
        </p:spPr>
      </p:pic>
      <p:sp>
        <p:nvSpPr>
          <p:cNvPr id="224" name="TextBox 2"/>
          <p:cNvSpPr/>
          <p:nvPr/>
        </p:nvSpPr>
        <p:spPr>
          <a:xfrm>
            <a:off x="5286240" y="1071720"/>
            <a:ext cx="3500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НИКОЛАЙ </a:t>
            </a:r>
            <a:r>
              <a:rPr b="0" lang="en-US" sz="4000" spc="-1" strike="noStrike">
                <a:solidFill>
                  <a:srgbClr val="674d26"/>
                </a:solidFill>
                <a:latin typeface="Arial"/>
              </a:rPr>
              <a:t>I</a:t>
            </a:r>
            <a:r>
              <a:rPr b="0" lang="ru-RU" sz="4000" spc="-1" strike="noStrike">
                <a:solidFill>
                  <a:srgbClr val="674d26"/>
                </a:solidFill>
                <a:latin typeface="Arial"/>
              </a:rPr>
              <a:t> – 1825 - 18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5286240" y="2786040"/>
            <a:ext cx="3429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743a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674d26"/>
                </a:solidFill>
                <a:latin typeface="Arial"/>
              </a:rPr>
              <a:t>АПОГЕЙ САМОДЕРЖАВИЯ» – наиболее полное проявление абсолютизма, неограниченной власти монарха во всех сферах общественной и политической жизни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071720" y="785880"/>
            <a:ext cx="7286400" cy="51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74d26"/>
                </a:solidFill>
                <a:latin typeface="Arial"/>
              </a:rPr>
              <a:t>ПОРЯДОК, КОТОРЫЙ ДОЛЖЕН БЫТЬ УСТАНОВЛЕН В СТРАН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строгая централизация, т.е. подчинение одному центру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полное единоначалие на всех уровнях упр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безоговорочное подчинение низших высш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642960" y="785880"/>
            <a:ext cx="7929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РОТИВОРЕЧИВОСТЬ В ПОЛИТИКЕ НИКОЛАЯ </a:t>
            </a:r>
            <a:r>
              <a:rPr b="0" lang="en-US" sz="3200" spc="-1" strike="noStrike">
                <a:solidFill>
                  <a:srgbClr val="674d26"/>
                </a:solidFill>
                <a:latin typeface="Calibri"/>
              </a:rPr>
              <a:t>I</a:t>
            </a: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стоянная борьба с революционным движением, гонения на все передовое  и прогрессивное в стран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74d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Calibri"/>
              </a:rPr>
              <a:t>Попытка проведения мероприятий, которые искоренили бы недостатки существующей системы и решили наиболее острые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4"/>
          <p:cNvSpPr/>
          <p:nvPr/>
        </p:nvSpPr>
        <p:spPr>
          <a:xfrm>
            <a:off x="2571840" y="642960"/>
            <a:ext cx="3714840" cy="164304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Собственная Его Императорского Величества Канцеля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рямоугольник 5"/>
          <p:cNvSpPr/>
          <p:nvPr/>
        </p:nvSpPr>
        <p:spPr>
          <a:xfrm flipV="1" rot="10800000">
            <a:off x="857160" y="3143160"/>
            <a:ext cx="1857600" cy="25005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Представляло царю поступающие на его имя бумаги и исполняло его личные поручения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6"/>
          <p:cNvSpPr/>
          <p:nvPr/>
        </p:nvSpPr>
        <p:spPr>
          <a:xfrm>
            <a:off x="3643200" y="3143160"/>
            <a:ext cx="185760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Создано в 1826 г. Во главе – М.М.Сперанский. Занималось кодификацией законов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7"/>
          <p:cNvSpPr/>
          <p:nvPr/>
        </p:nvSpPr>
        <p:spPr>
          <a:xfrm>
            <a:off x="6286680" y="3143160"/>
            <a:ext cx="1857240" cy="2498760"/>
          </a:xfrm>
          <a:prstGeom prst="rect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Отделение (Орган политического сыска и контроля за умонастроениям. Во главе – А.Х.Бенкендорф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Стрелка вниз 9"/>
          <p:cNvSpPr/>
          <p:nvPr/>
        </p:nvSpPr>
        <p:spPr>
          <a:xfrm rot="2473800">
            <a:off x="1934640" y="2168640"/>
            <a:ext cx="484200" cy="1054080"/>
          </a:xfrm>
          <a:prstGeom prst="downArrow">
            <a:avLst>
              <a:gd name="adj1" fmla="val 50000"/>
              <a:gd name="adj2" fmla="val 4999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Стрелка вниз 10"/>
          <p:cNvSpPr/>
          <p:nvPr/>
        </p:nvSpPr>
        <p:spPr>
          <a:xfrm>
            <a:off x="4357800" y="2286000"/>
            <a:ext cx="484200" cy="83520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трелка вниз 11"/>
          <p:cNvSpPr/>
          <p:nvPr/>
        </p:nvSpPr>
        <p:spPr>
          <a:xfrm rot="19457400">
            <a:off x="6357960" y="2214720"/>
            <a:ext cx="484200" cy="977760"/>
          </a:xfrm>
          <a:prstGeom prst="downArrow">
            <a:avLst>
              <a:gd name="adj1" fmla="val 50000"/>
              <a:gd name="adj2" fmla="val 49988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1"/>
          <p:cNvSpPr/>
          <p:nvPr/>
        </p:nvSpPr>
        <p:spPr>
          <a:xfrm>
            <a:off x="571680" y="857160"/>
            <a:ext cx="8072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ЦЕНЗУРА – система государственного надзора за печатью, проверка материалов, готовящихся к публик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74d26"/>
                </a:solidFill>
                <a:latin typeface="Arial"/>
              </a:rPr>
              <a:t>1826 г. – «Устав о цензуре», названный «чугунны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428760" y="642960"/>
            <a:ext cx="850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.Д.КИСЕЛЕВУ поручена подготовка реформы государственной деревни. Для этого было созда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74d26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 Отделение Собственной его императорского величества канцеля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ЦЕЛИ РЕФОРМЫ ГОСУДАРСТВЕННЫХ КРЕСТЬЯН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Повысить уровень жизни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Обеспечить исправную уплату налогов государственных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74d26"/>
                </a:solidFill>
                <a:latin typeface="Arial"/>
              </a:rPr>
              <a:t>Дать помещикам пример возможного улучшения жизни крестья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3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Box 1"/>
          <p:cNvSpPr/>
          <p:nvPr/>
        </p:nvSpPr>
        <p:spPr>
          <a:xfrm>
            <a:off x="571680" y="857160"/>
            <a:ext cx="800100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74d26"/>
                </a:solidFill>
                <a:latin typeface="Arial"/>
              </a:rPr>
              <a:t>РЕФОРМА ГОСУДАРСТВЕННОЙ ДЕРЕВНИ ПРЕДУСМАТРИВА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пределять размеры оброка с учетом доходности крестьянского на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для устранения малоземелья часть крестьян переселили в менее населенные местности; другим давали зем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о избежание голода, на случай неурожая создавалась так называемая «общественная запашка» – участок земли, на котором работали все крестьяне данной общины; урожай с него хранили на случай голо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в государственных деревнях открывались школы; к 1854 г. Было открыто 26 тыс. школ со 110 тыс. учащимис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74d2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74d26"/>
                </a:solidFill>
                <a:latin typeface="Arial"/>
              </a:rPr>
              <a:t>открывались медицинские и ветеринарные пун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09:34:10Z</dcterms:created>
  <dc:creator>Светлана</dc:creator>
  <dc:description/>
  <dc:language>en-US</dc:language>
  <cp:lastModifiedBy>Home</cp:lastModifiedBy>
  <dcterms:modified xsi:type="dcterms:W3CDTF">2012-02-26T07:06:36Z</dcterms:modified>
  <cp:revision>42</cp:revision>
  <dc:subject/>
  <dc:title>Слайд 1</dc:title>
</cp:coreProperties>
</file>