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709-57B6-43A7-8CCF-5789D687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465-217B-4FF4-9868-4A9E96CC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2F2-5221-4F5A-B7A8-948C000B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B7A-269D-4CE0-962F-8CDA9170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FE8B-CCE4-4E8F-8F34-8754B539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73E4-1FB3-4FB1-9A10-4E9D4D7E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1A02-4AED-4822-8675-AE4974D1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76F7-0852-4EA0-A7DA-564CF360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60C3-924C-4780-8422-57269B19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CB56-020F-4700-8CA3-CFDEEB7F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3819-07E3-4E13-BA49-5B9D5870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B0DA-8FFE-4198-AA7D-4BBCDDA9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76B4-D967-468A-A4B8-1C04F8B5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DECB-A766-4519-8FAB-E5D5EA8A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3C52-4D28-446B-8B54-FD589683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A78E-9760-44D3-AFF3-C326E1EB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F50B-FAB9-4E17-9072-B4133034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3A75F-4D54-4EAD-8A02-CDCE47CE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6C5B1-439F-45B3-B470-7A6EDF74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7584-7BEA-478B-9A59-D2578192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B9B49-DEFD-4D8D-9AB9-B6158CB6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FBB9E-2D17-4C84-A13A-86015197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E0B-E69F-48ED-B2D9-0834476F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2BE1-68EA-478D-9FCB-4D17C72A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FCEE5-464E-4F8D-AC2D-723D3369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32426-6733-4131-A7C5-DC362A4E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F626A-F9DB-45D7-A583-4323A680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3046C-62C0-4B4B-823F-CD55C54D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56E9C-C0F1-4242-8755-9B2EA2B6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1A64-75FB-4B4E-AD4C-4DA4AC0A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16289-37E3-4A6C-8B07-ADE43788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3B170-B8BB-4D3B-A65D-BE48A791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7241F-2758-43A0-82F7-0097ECB1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2B8-5265-4856-95A3-13139067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24B77-FDDE-4E8B-BD9C-EFE2D22A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17AF5-2930-467B-BDE4-D21EA4D6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DCA3D-60B0-4108-886A-92700041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9096B-824B-4F98-8C4C-867FC8C7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D0B4-A5C0-4E5D-BB26-B44D6C23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294F7-4594-4D16-8597-5089D693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92860-8B99-46C9-BAE1-085BE9B4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64C4-2407-4152-8508-FBFDBC55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02B19-2917-4246-98BE-CA77208E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1C016-C28E-4EFB-B9B6-23C45AA1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7DF-2767-4B7C-A7CC-2CB99D82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5E7EF-9818-4688-B437-A62D3752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01883-D9EC-423E-A6F4-87744E90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1CC7D-293A-4CE4-B2AA-42AD481C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5F7D1-1D37-4772-B798-3678585E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DD933-78D0-4E77-868C-535CBF01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DE7B8-1A66-403F-9030-60F35946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01EA-1CF7-4431-A9EF-B23008B2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313AD-2396-4A52-BC74-78A218A7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9E6F9-7B6A-4645-9780-CCAC4CF1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85033-02C1-4A91-B5F0-09166441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4AB-82B8-4B50-A6F2-BD0C5ACE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4101D-9B7D-4201-819B-FBD8AB61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53C0B-BC3E-4C3C-AB6A-C429A1C3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F2DC8-9FC4-428A-91D1-6F59287B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0A94C-27A0-41D2-B7AF-99E01EF3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53F5B-83EE-448B-A608-551F5698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DB059-D49B-448D-928E-061C718A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4E356-3709-49EB-8008-4B114555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A0711-A114-4496-873B-74C6A13A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ACC09-AD39-4392-A553-BE29ECF4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D6737-2605-456E-A531-5F9E6BBD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BE7-76C1-425B-9BC9-79B48484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AA001-0FD7-49A6-9D5C-102D1F51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10FDE-B11F-4573-BA01-548E4F9A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E2231-0330-42A9-8115-CB14C8EF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71ACA-7D5A-486C-A248-F85D0A3D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6D6FB-8112-4983-9A74-5CAD64A5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F4B87-F3BD-4CA5-9507-1E75C8D1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6CBD9-5082-4564-8F43-4A79A7E6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3D1B9-9A8D-4518-B6AD-FE7C378D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144C7-EC81-4612-A702-9121A373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ACE6C-790E-407F-BB48-559127EE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572F-7179-4C79-853C-45BE5E4F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257D7-72F5-4A4E-8668-302A3014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BF70B-9603-40B9-A2DA-A7DA8FDF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BE1B8-D799-4A6E-8B4F-1CB500AD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45029-29ED-443F-97CD-4D09B54A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75C44-4DBB-4877-AA4A-7541B9B5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433-D77A-4AF4-8392-5CE86ED2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5888-B045-42FE-A8E6-8F7228C9EF5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14F4-6003-434B-BC13-6F21EF91F62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53E7-CB6D-489B-B73E-9B607726EFA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E5C3-678F-4A86-B4D6-6A058D5326D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B278-F876-4C62-AAEF-E797B5654E0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CBE6-F97E-4290-B5DC-7CFF36E788A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636F-E80B-4AE9-B245-1F7162B2EFA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90480" y="1699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00"/>
                </a:solidFill>
                <a:latin typeface="Times New Roman"/>
                <a:ea typeface="BatangChe"/>
              </a:rPr>
              <a:t>Виды сил</a:t>
            </a:r>
            <a:br>
              <a:rPr sz="8600"/>
            </a:br>
            <a:br>
              <a:rPr sz="86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7 класс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МБОУ Сатламышевская СОШ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Сабирзянов И.Р,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77777777777777Ладанова И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КОУ «В777ерх-Жилинская ООШ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возникающая в результате деформации тела и направленная в сторону смещения частиц тела, называется 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24000" y="24559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4572000" y="98100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560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561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6e7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563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576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0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1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2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AutoShape 96"/>
            <p:cNvCxnSpPr>
              <a:stCxn id="593" idx="0"/>
              <a:endCxn id="588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5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Oval 9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374760" y="2276640"/>
            <a:ext cx="79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ая деформация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6"/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9" descr="book35"/>
          <p:cNvPicPr/>
          <p:nvPr/>
        </p:nvPicPr>
        <p:blipFill>
          <a:blip r:embed="rId1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ело и опора неподвижны или движутся прямолинейно и равномерно, то вес тела по своему численному значению равен силе тяжести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5" name="Oval 41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250920" y="98100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608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609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615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618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619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624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627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632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Oval 55"/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250920" y="981000"/>
            <a:ext cx="85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 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645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649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652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6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657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661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65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666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Oval 6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23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250920" y="981000"/>
            <a:ext cx="857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40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, которая возникает при скольжении одного тела по поверхности другого называется силой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676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680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84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685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689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49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146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150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Oval 3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4" descr="99b"/>
          <p:cNvPicPr/>
          <p:nvPr/>
        </p:nvPicPr>
        <p:blipFill>
          <a:blip r:embed="rId1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michelin_X-Crane_AT"/>
          <p:cNvPicPr/>
          <p:nvPr/>
        </p:nvPicPr>
        <p:blipFill>
          <a:blip r:embed="rId2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706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713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729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730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738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745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750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753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584d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4584d3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756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759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63"/>
          <p:cNvGrpSpPr/>
          <p:nvPr/>
        </p:nvGrpSpPr>
        <p:grpSpPr>
          <a:xfrm>
            <a:off x="2976480" y="2670120"/>
            <a:ext cx="5760720" cy="825480"/>
            <a:chOff x="2976480" y="267012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762" name="Object 59"/>
                <p:cNvSpPr txBox="1"/>
                <p:nvPr/>
              </p:nvSpPr>
              <p:spPr>
                <a:xfrm>
                  <a:off x="2976480" y="267012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Text Box 61"/>
            <p:cNvSpPr/>
            <p:nvPr/>
          </p:nvSpPr>
          <p:spPr>
            <a:xfrm>
              <a:off x="5279760" y="267012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4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Oval 65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44440" y="1197000"/>
            <a:ext cx="496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ресур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250920" y="836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7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348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349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351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6e7fc"/>
                </a:solidFill>
                <a:ln w="9360">
                  <a:solidFill>
                    <a:srgbClr val="c6e7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356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4584d3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4584d3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4584d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360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376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380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382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4584d3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4584d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385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387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391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31b6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393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1b6fd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31b6f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396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399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400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409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410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419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424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428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429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431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жение всех тел во Вселенной друг к другу называется всемирным тягот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437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439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447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450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455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463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466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Text Box 20"/>
          <p:cNvSpPr/>
          <p:nvPr/>
        </p:nvSpPr>
        <p:spPr>
          <a:xfrm>
            <a:off x="250920" y="24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м случаем сил всемирного тяготения является сила тяжести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471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8"/>
          <p:cNvSpPr/>
          <p:nvPr/>
        </p:nvSpPr>
        <p:spPr>
          <a:xfrm>
            <a:off x="3276720" y="81900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481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489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0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6e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495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497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5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506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510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519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524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526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529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531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тламышево</cp:lastModifiedBy>
  <dcterms:modified xsi:type="dcterms:W3CDTF">2013-02-28T15:55:16Z</dcterms:modified>
  <cp:revision>58</cp:revision>
  <dc:subject/>
  <dc:title>PowerPoint Presentation</dc:title>
</cp:coreProperties>
</file>