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39E5-83A2-49E8-AD90-347CD29D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B347-3FA5-47FE-8EE7-604FA424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F941-3D2F-48C2-AE6A-F15848F0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9DE-EB73-43CA-8D9F-8236FDE5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535E-CFC1-4476-9763-D1EBF5E3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2BC9-3BA6-4E27-8FE6-AEC2B50B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90AC-4702-46D0-BF33-813677DB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753B-138A-4A9A-81B7-0B8B64CE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E8DB-5E4A-4668-B2AA-F8FF6F22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261B-7F13-460E-B2C0-02051D1F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D2DE-61D9-4576-8A23-FF34E858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1DE-5BE7-4F78-9AB4-3F7B3839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26E7-B6CE-4DA5-8886-8AE49959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C334-8A06-4FCB-A271-529DE8CB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27EA-39AD-4159-B84D-DF1F3200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EC50-974F-4BFB-BFDC-3941BED6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E346-2987-4970-9EBE-EA4FDA0D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77D-A9CD-44C2-9A6E-4197784F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D1C5-620F-4F82-86DD-273ABBE5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4FAB-8C6E-47E2-98C8-26FD646E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1BD-BEF1-43A7-86FC-6A4B0EB5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38E-70F4-4A03-A403-979EECDE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4B4-2A2F-430B-93A4-51D8DE1C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F894-69DE-4F73-B943-D3F57841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9819-E42C-4A16-B215-B4CC5C6C46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0B11-F7E9-4520-B471-D42F6C0739C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49.radikal.ru/i125/0808/11/03a5b123776c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477/2270477/f_18525994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1191269114_c4120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Сложносокращённые слов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адцать девятое октябр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лассная рабо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" descr="Картинка 23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1360" y="3848040"/>
            <a:ext cx="2163960" cy="298764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1"/>
          <p:cNvSpPr/>
          <p:nvPr/>
        </p:nvSpPr>
        <p:spPr>
          <a:xfrm>
            <a:off x="609480" y="4952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 презент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знецова Татьяна Николаевна, учитель русского языка и литературы Лицея №15 г. Вышнего Волочка Тверской област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ложносокращённые слова (или аббревиатуры) – это слова, образованные путём сложения сокращённых осн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ffff"/>
                </a:solidFill>
                <a:latin typeface="Arial"/>
              </a:rPr>
              <a:t>Знаете ли вы, что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носокращенным словам всего лишь около ста лет. До событий 1917 г. в устной речи они почти не использовались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1920-х гг. в советской республике появляется множество сложносокращенных слов типа “местком”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ссовет”, “ЧК”, “ЦК”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“ 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ЦИК” и т. 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952880" y="3835440"/>
            <a:ext cx="3940200" cy="2879640"/>
          </a:xfrm>
          <a:prstGeom prst="rect">
            <a:avLst/>
          </a:prstGeom>
          <a:ln w="0">
            <a:noFill/>
          </a:ln>
        </p:spPr>
      </p:pic>
      <p:sp>
        <p:nvSpPr>
          <p:cNvPr id="246" name="WordArt 4"/>
          <p:cNvSpPr txBox="1"/>
          <p:nvPr/>
        </p:nvSpPr>
        <p:spPr>
          <a:xfrm>
            <a:off x="7380360" y="0"/>
            <a:ext cx="1763640" cy="35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VivaldiD CL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VivaldiD CL"/>
              <a:ea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акова причина появления в русском языке таких слов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Экономия времени и места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Какие вы знаете способы сокращения слов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. Часть слова + целое сло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рамкруж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. Часть слова + часть сл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вхо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. Аббревиату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ЕГ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6. </a:t>
            </a: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Прочитайте данные слова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Распределите их на три группы по способу сокращения слов.  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мдиректора, универмаг, канцтовары, МГУ,   химчистка, Сбербанк, ЖКХ,   военкомат, ПТУ , совхоз , ГИА, юнко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Блок-схема: несколько документов 3"/>
          <p:cNvSpPr/>
          <p:nvPr/>
        </p:nvSpPr>
        <p:spPr>
          <a:xfrm>
            <a:off x="5791320" y="2971800"/>
            <a:ext cx="3276360" cy="365760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5 мину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2 балла за групп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1600200"/>
          <a:ext cx="8229600" cy="3535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ь слова + сло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ь сл. + часть с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бревиа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амдиректо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ниверма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Г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анцтов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оенко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ЖК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химчист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вхо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Т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бербан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юнко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И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5840" y="990720"/>
            <a:ext cx="9093240" cy="58672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640" y="152280"/>
            <a:ext cx="909468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 определить род сложносокращённых слов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пределите род сложносокращённых сл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Ф – Российская Федерац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Т – Общественное российское телевид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ГУ –Московский государственный университ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ОН – Организация объединенных н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И – Научно-исследовательский институ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ЧС – Министерство чрезвычайных ситу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БДД – Государственная инспекция безопасности дорожного дви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4. Расшифруйте, определите главное слово, определите р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409720" y="3314160"/>
            <a:ext cx="2952720" cy="25927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3 мину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0,5 баллу за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Блок-схема: несколько документов 4"/>
          <p:cNvSpPr/>
          <p:nvPr/>
        </p:nvSpPr>
        <p:spPr>
          <a:xfrm>
            <a:off x="304920" y="1469880"/>
            <a:ext cx="4190760" cy="53881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Ф -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РТ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ГУ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ОН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ИИ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ЧС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5. Допишите глаголы, согласуя их со сложносокращенными словами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82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ТЮЗ показал… новый спектакль для малыш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АЭС начал… вырабатывать энерг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СМИ сообщил.. о победителях конкур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уз предостави…студентам общежит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ПТУ пригласил…  учащихся на День открытых двер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Блок-схема: несколько документов 3"/>
          <p:cNvSpPr/>
          <p:nvPr/>
        </p:nvSpPr>
        <p:spPr>
          <a:xfrm>
            <a:off x="5638680" y="2895480"/>
            <a:ext cx="3353040" cy="39625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7 мину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1 баллу за предлож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ffff"/>
                </a:solidFill>
                <a:latin typeface="Arial"/>
              </a:rPr>
              <a:t>Орфографическая разми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2860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..усадебный, пр..крикнуть, бе..сильный, пр..землился, …десь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е..звучный, …гладить, ра..грузить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..мудрый, пр..двинуть, ра..сортировать, земл..тр..с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цените свою работ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читайте набран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ллы и запишите сум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8 – 29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личн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 – 27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хорош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9 – 15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довлетворительн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нее 15 баллов – нужно еще раз повторить матери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Блок-схема: несколько документов 3"/>
          <p:cNvSpPr/>
          <p:nvPr/>
        </p:nvSpPr>
        <p:spPr>
          <a:xfrm>
            <a:off x="5410080" y="228600"/>
            <a:ext cx="3586320" cy="207180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2 мину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дведём ито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повторили на уроке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узнали о сложносокращенных словах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 каким новым термином познакомились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В каких речевых ситуациях могут использоваться сложносокращенные сло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Приходится ли вам в разговорной речи использовать такие слова? Какие имен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Какие задания вам особенно понравилис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Какие задания вызвали затрудн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думаете, что нужно дома повторить перед выполнением домашнего зада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9ffff"/>
                </a:solidFill>
                <a:latin typeface="Arial"/>
              </a:rPr>
              <a:t>ДЗ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Теория параграфа № 2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Упражнения 199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Понаблюдайте за окружающим миром. Найдите сложносокращенные слова, встречающиеся в названии магазинов, фирм, организаций и т.д. Составьте с ними небольшой рассказ по теме “Сложносокращенные слова живут рядом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Картинка 7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190440"/>
            <a:ext cx="19731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презента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знецова Татьяна Николаевна, учитель русского языка и литературы Лицея №15 г. Вышнего Волочка Тверской област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кончи фразу… (устно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0880" y="1066680"/>
            <a:ext cx="83059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ожными называются слова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ни образуются в результате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 образовании сложных слов чаще используются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2. Работа с текстами.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(текст на бумажных листах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876920" y="2732760"/>
            <a:ext cx="3412080" cy="3011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Время выполнения –    3 мину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Оценить себя – по 0,5 балла за каждое найденное сло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457200" y="1905120"/>
            <a:ext cx="441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йти в тексте и выписать в тетрадь все сложные сло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29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уйте сложные существительные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значьте в них корни 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черкните соединительные гласные о и 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: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80880" y="1600200"/>
          <a:ext cx="8382240" cy="4888080"/>
        </p:xfrm>
        <a:graphic>
          <a:graphicData uri="http://schemas.openxmlformats.org/drawingml/2006/table">
            <a:tbl>
              <a:tblPr/>
              <a:tblGrid>
                <a:gridCol w="2793960"/>
                <a:gridCol w="2794320"/>
                <a:gridCol w="279396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жное сло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х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рав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у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чист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ар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свали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у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ла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ф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моло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  <p:sp>
        <p:nvSpPr>
          <p:cNvPr id="224" name="Блок-схема: несколько документов 3"/>
          <p:cNvSpPr/>
          <p:nvPr/>
        </p:nvSpPr>
        <p:spPr>
          <a:xfrm>
            <a:off x="5181480" y="2209680"/>
            <a:ext cx="3886200" cy="44197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3 мину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ценить себя – по 0,5 балла за сл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роверь себя!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28600" y="1219320"/>
          <a:ext cx="8610480" cy="510516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жное сло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х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орех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рав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стопр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у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чист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рубочи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ар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талева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свали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амосв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у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ла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оздухоплава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ф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моло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фемол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лководе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Сравните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Чем отличаются слова первого столбика от слов второго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ому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ек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нзоб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ощехран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егопа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х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сес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рттова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у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2" descr="Картинка 79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4267080"/>
            <a:ext cx="1917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Сравните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Чем отличаются слова первого столбика от слов второго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жные сло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ому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ек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нзоб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ощехран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егопа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жносокращён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х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сес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рттова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у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7010280" y="4267080"/>
            <a:ext cx="19209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е, почему сложносокращённые слова получили такое назва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и слова одновременно являются и сложными(т.к. состоят из нескольких основ), и сокращёнными (т.к. эти основы использованы в усечённом виде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1:49:33Z</dcterms:created>
  <dc:creator>1</dc:creator>
  <dc:description/>
  <dc:language>en-US</dc:language>
  <cp:lastModifiedBy>Nata</cp:lastModifiedBy>
  <dcterms:modified xsi:type="dcterms:W3CDTF">2013-11-05T22:33:55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