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4E09-3B9B-4BBB-8F9B-25B989377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1E34-5886-483C-B4CC-96205FC3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2D3A-FB7F-4DAA-A232-9EC9CFF6E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F145-4605-4CCF-962B-19DE7F263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3032-D249-4EF0-915C-83E744D12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A9AC-07EA-4630-A03E-F5FE88FA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F24E-7DD5-41F2-B35E-90AA207E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B277-CB9D-4695-B22A-CC8A8549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9133-3EDC-4A65-BCEC-99B973D5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528F-7B2A-45C7-9A9E-1CE0D8A1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13B6-5EA8-4B89-AE07-4757085A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E933-7B2F-47E3-8F42-9C6EB926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3A8D-8FC1-4BA3-81D8-F795DCB2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BDB6-1D76-4562-8BAD-ACC83DD7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D3B6-F6A1-472B-9618-5F791E45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3F6A-577E-489A-982C-F1645F22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C598-BA1C-43E1-B01A-32352FEB1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D8C1-7B5F-4930-A593-793D1E95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E873-CBFD-453E-97DC-7B477EB8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5AF4-90F7-4E4B-B6A6-C43986F2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9BD5-CC1A-415F-964B-5CCA327B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EBB1-04F8-4F38-830B-1D84244A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21D0-D826-4CD7-8F98-781A8AB0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CEA3-6905-4AC6-99CD-C184E27F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1113-5DFF-441C-A7B0-0F51F84AB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3425-A0A9-49C0-97CC-46BE97FCB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block" TargetMode="External"/><Relationship Id="rId2" Type="http://schemas.openxmlformats.org/officeDocument/2006/relationships/hyperlink" Target="file:///block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СТРОЕНИЕ КЛЕТКИ - ОСНОВНЫЕ </a:t>
            </a:r>
            <a:br>
              <a:rPr sz="4000"/>
            </a:b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ОРГАНОИД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0" y="3789360"/>
            <a:ext cx="4114800" cy="23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читель би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БОУ «Большесосновская СОШ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палева Елена Серге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Экзоцитоз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ПЛАЗМАТИЧЕСКАЯ МЕМБРАН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4043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ислой липидов 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ходящимися в не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лкам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граничивающий клетк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8320" y="126792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Барьерн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отгараживает внутреннюю среду клетки от внеш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итательна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поглащает питательные вещества в виде капель(пиноцитоз), частиц(фагоцитоз) или путем диффуз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 rot="13710600">
            <a:off x="5900400" y="5753880"/>
            <a:ext cx="14288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ЦИТОПЛАЗМ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нутренняя сред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лет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беспечивае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деятельност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летки как едино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исте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ЯДРО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ЯДРО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мкнутый резервуар, окруженный двумя слоями мембран, пронизанных ядерными порами. Внутри находится ядерный сок, хромосомы (состоят из ДНК и белка) и ядрышки ( состоят из РНК и белк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483920"/>
            <a:ext cx="403848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Хранение генетическ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нформации и синте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Н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643280" y="3716280"/>
            <a:ext cx="40323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26d18"/>
                </a:solidFill>
                <a:latin typeface="Times New Roman"/>
              </a:rPr>
              <a:t>МИТОХОНДРИ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МИТОХОНДРИ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вальные тельц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ящие из двух слое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мбраны: внешнег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гладкого) и внутренне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образует складки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сты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5928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интез АТФ п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ыхании, способны 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мостоятельном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еле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27986"/>
          <a:stretch/>
        </p:blipFill>
        <p:spPr>
          <a:xfrm>
            <a:off x="4248000" y="4616280"/>
            <a:ext cx="435636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КОМПЛЕКС ГОЛЬДЖ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КОМПЛЕКС ГОЛЬДЖ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мплекс замкнуты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ембранны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зервуар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сположенный вблиз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яд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интез жиров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лисахарид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ранспорт веществ и 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екреция, образова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изос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6652" t="16206" r="6652" b="20771"/>
          <a:stretch/>
        </p:blipFill>
        <p:spPr>
          <a:xfrm>
            <a:off x="4427640" y="4724280"/>
            <a:ext cx="41767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ЦЕЛЬ УРОКА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4920" y="2349000"/>
            <a:ext cx="8388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ссмотреть стро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рганоидов и определить и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ЛИЗОСОМ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ЛИЗОСОМ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мкнутые мембранны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ельца, содержащ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ерменты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сцепляющ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зличные вещест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лет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00720" y="90792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ереварива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ступающих в клетк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итательных веществ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моразруш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мирающих клет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987640" y="4411800"/>
            <a:ext cx="37450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26d18"/>
                </a:solidFill>
                <a:latin typeface="Times New Roman"/>
              </a:rPr>
              <a:t>ЖИВОТНАЯ И РАСТИТЕЛЬНАЯ  КЛЕТК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140000" cy="5589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451400" y="1268280"/>
            <a:ext cx="44416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ХЛОРОПЛАСТ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Пластиды: хлоропласты, хромопласты, лейкопласт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ембранные органел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зличной окрас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еле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цвет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есцвет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42920" y="11966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отосинтетическ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пас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огут переходить дру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друга, способны 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мостоятельном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еле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042920" y="4653000"/>
            <a:ext cx="331308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ВЫВОД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Функции органоидов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сложны и многообразны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Они играют для клетки ту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же роль, что и органы для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целого организма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ЦЕЛЬ УРОКА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3883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Рассмотреть строение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органоидов и определить их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Домашнее задание</a:t>
            </a: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 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Знать строение органоидов и их функци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Отгадать кроссворд по теме «Строение клетки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исьменно ответить на три вопроса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полнительное задание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Список используемых источников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рытая биология 2.6. ООО «Физикон» 2000-200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54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Итак, с чего же мы начнем, мистер Сайрес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– спросил Пенкроф на следующее утр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 самого начала, - ответил Сайрес Сми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юль Вер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9640" y="1052640"/>
            <a:ext cx="8229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то открыл клет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Роберт Гук 1663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ак называется наука о клет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Цитоло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292720" y="981000"/>
            <a:ext cx="1081080" cy="919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812000" y="2421000"/>
            <a:ext cx="1081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457200" y="-5399280"/>
            <a:ext cx="457200" cy="1045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83628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Органоидами называю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постоянно присутствующие в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клетке структуры, которые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выполняют строго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определенные функции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Органоид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ембранны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ядр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ЭП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омплекс Гольдж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Лизосо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итохондр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емембранн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рибосо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цитоскеле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леточный цент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547280" y="907920"/>
            <a:ext cx="15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47640" y="9079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84720" y="9079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48360" y="90792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СТРОЕНИЕ МЕМБРАН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Эндоцитоз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0" y="0"/>
          <a:ext cx="182520" cy="4947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9477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"/>
                        </a:rPr>
                        <a:t>  </a:t>
                      </a:r>
                      <a:r>
                        <a:rPr b="0" lang="en-US" sz="15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0" y="0"/>
          <a:ext cx="182520" cy="4947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947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2"/>
                        </a:rPr>
                        <a:t>  </a:t>
                      </a:r>
                      <a:r>
                        <a:rPr b="0" lang="en-US" sz="15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0" y="1025640"/>
            <a:ext cx="9144000" cy="60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3T11:17:46Z</dcterms:created>
  <dc:creator>Гуляев Сергей Павлович</dc:creator>
  <dc:description/>
  <dc:language>en-US</dc:language>
  <cp:lastModifiedBy>Горгаз</cp:lastModifiedBy>
  <dcterms:modified xsi:type="dcterms:W3CDTF">2013-11-11T10:10:55Z</dcterms:modified>
  <cp:revision>21</cp:revision>
  <dc:subject/>
  <dc:title>СТРОЕНИЕ КЛЕТКИ:  ОСНОВНЫЕ   ОРГАНОИДЫ</dc:title>
</cp:coreProperties>
</file>