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99CF-57C9-4BC9-8CC6-E2F6B4433F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C9E3-0B1E-42EB-951B-57D91081DC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10D1-78EA-4AAB-855C-9C50B6C3B6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E27D-C7DF-489E-96BA-6167467A0C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F0B7-2AE3-4358-8B4A-313B617FC0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428F-E31B-431E-940A-ED3C3D76CB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A966-516C-4327-8CAF-98F6719C2A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1FC9-289E-43E9-9B80-F5A441BC90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754B-6B01-4677-A71E-140C1BD84C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B755-F72C-4BF7-A92D-9212C8B8D0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E774-064D-4D1A-A0B2-6FF3B3D9C7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ED9D-4E8E-423D-B105-6639DA6468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011D-126A-43F1-9663-E13F8C9BE5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DCD3-BC24-4DD3-AF03-03E69689E7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F675-D01F-4958-A938-A682A2FD00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6DA6-02BA-4C78-B2C0-2A1C3162B7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0BC2-441B-49F5-AD0C-A9BEBD07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2DE-96A0-4E4B-9DCD-D56885B3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1074-136F-4007-B3CF-5B2E1479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0F69-17A1-4343-8445-046AD1E0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E6C0-4819-4000-BB8F-118DCC0B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5BD0-801E-4676-843B-51178DFA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7ED8-8510-483A-95B1-CE855B2B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CCBC-1FDE-491E-B4A6-D6649B10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05C1-8976-43D3-A278-269D3F71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1F1C-2E77-4C23-8DE9-8D6479DA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C2C3-7968-40E2-AC85-ED706FCA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DB2-E947-4F8F-8DBD-24BB3F08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10BD-5525-4946-8191-CA81BA2B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684A-42AB-4052-A454-F3CF023B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EB6A-A2BC-489E-807F-073A37A8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FD76-E484-4F5E-8703-75F1723D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1E7D-06DA-4E40-9D6B-4ABD008C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0BC0C-4DD4-4085-B314-55DFDBCB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46E53-7295-4116-95CC-164B7F27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55E3E-5270-42CA-BF8C-DEB4EB0F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D42B5-6390-4F94-9E08-33C75A40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09815-6ED3-4352-A659-143545C6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B79B-BA2A-4564-B6F1-8B2EF6C8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14571-943A-4E81-97DE-F3AB5B1B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48C0D-633B-4265-AC98-25DE96EC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3F9EE-4E9F-46A0-A025-7B2B826A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B03E9-EAD4-4475-B25C-E2060407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E95AD-69AE-4FBF-A21A-9E195B53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2BD94-573C-49C0-9792-9803B5E4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E65CF-4C6B-49CF-8CEA-A454CFA6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506EA-3E42-45A6-B6F4-9FBE7892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BCCB8-44D3-48D6-A14F-4D61C488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1CF1E-99C3-42EA-B175-10EA49C6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E61F-025D-4848-B7D0-4461FEAA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67232-8FD8-44E1-8E7B-7491668F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E754F-EEBB-440E-BAA7-2D5A359C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769D3-B544-40A6-AF7F-7DFB2754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6A17E-8838-48DC-9C8E-94D1B63B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FF230-D554-40EB-B3C3-7AC56FF2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BCC0B-7CB2-42E1-8F75-C645AE34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5C2C2-DDC2-4AF8-858A-D89F860B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4C9DE-B27D-44C8-BF61-31758BCF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CEB19-8224-46EF-9585-B68FE6C2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0B2F4-2DB4-46A4-AF38-1DB49C8C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6AD4-E917-499E-A52F-DA696EC6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8F638-FD90-4204-BB30-3F22B27A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1C007-9823-4A80-897F-379C7CFE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A1177-0FCD-40C6-B7CE-6D2DD6A5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FC695-6472-4688-9CF6-9BAA3D6D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A35D6-C077-4F85-AA71-42BC20AE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F7E72-AA44-42DC-B66C-EED6BAC1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EDD6D-2E75-49B4-8360-164C2288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AE491-55A2-4E11-AD01-65464B25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FB925-6C13-4C06-BADA-F5EE1994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FC2A9-4436-4C20-B078-EDE152FA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312-08D6-4404-B192-212112B1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4F59E-046E-41DD-BE45-168D627F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11C-9F6F-4A4E-AF50-9131B07C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7BB-2314-4352-AE98-2248520C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CE44-3F70-41DC-9291-296BF94A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FBF5-D540-4645-BE4A-1C06D7AB0C9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BC6C-7686-4F52-820D-32E306C313D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D2D8-EF46-477D-AFEA-38425F8ED2A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3FE2-1523-4D9B-AD44-795CC8ABEF7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DD73-38D2-4D5F-8AE4-D68A3760E0E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4"/>
            </a:gs>
            <a:gs pos="100000">
              <a:srgbClr val="ffe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Губк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9766f"/>
                </a:solidFill>
                <a:latin typeface="Verdana"/>
              </a:rPr>
              <a:t>Тупиковая</a:t>
            </a:r>
            <a:r>
              <a:rPr b="1" lang="en-US" sz="2400" spc="-1" strike="noStrike">
                <a:solidFill>
                  <a:srgbClr val="79766f"/>
                </a:solidFill>
                <a:latin typeface="Verdana"/>
              </a:rPr>
              <a:t> ветвь эволю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одзаголовок 2"/>
          <p:cNvSpPr/>
          <p:nvPr/>
        </p:nvSpPr>
        <p:spPr>
          <a:xfrm>
            <a:off x="357120" y="5786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Учитель высшей категории МОУ СОШ №11 г. Калининг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321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39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ел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Обычен скелет , состоящий из роговых волокон, известковых или кремневых иг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тдельные иглы могут соединяться между собой, а могут оставаться свободны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Греческая губка», используемая в гигиенических целях, на самом деле,  является скелетом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стоящим из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ластичного бел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 большинства гу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орная систем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жесткая и колюча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121280" y="2981160"/>
            <a:ext cx="4674960" cy="3059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2408400" y="4767120"/>
            <a:ext cx="2120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Жизнедеятель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итание и пищева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убки - фильтраторы. Вода поступает сквозь отверстия в стенках, процеживается и выбрасывается фонтаном сверх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68200" y="3340080"/>
            <a:ext cx="86439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летки - поры похожи   на бублик с дыркой - каналом посередин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павшие в губку пищевые частицы захватываются псевдоподиями клеток и перевариваются в их цитоплазме (внутриклеточное пищеварение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Небольшая губка домункула пропускает через себя 200 литров воды в час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Дыхание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клетки попадает растворенный в воде кислород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змножение и развити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ермафродиты и раздельнополые. Половое и бесполое размножение - почковани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ловые клетки образуются из амебоцитов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убка-это организм вывернутый наизнанку! У двухслойного зародыша (бластулы) происходит перераспределение   клеток. Эктодермальные клетки оказываются во внутреннем слое, а  энтодермальные-снаруж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ел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 Из зиготы развиваетс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крытая ресничками личинк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8" descr="Картинка 14 из 1921"/>
          <p:cNvPicPr/>
          <p:nvPr/>
        </p:nvPicPr>
        <p:blipFill>
          <a:blip r:embed="rId1"/>
          <a:stretch/>
        </p:blipFill>
        <p:spPr>
          <a:xfrm>
            <a:off x="6143760" y="3571920"/>
            <a:ext cx="26431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егенерац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сли протереть губку через мелкоячеистое сито, то масса отдельных клеток слипнется и через несколько дней превратиться в маленькую губк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формулируйте определение регенера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начение в природ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Врагов в природе у губок не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ильтратор воды. «Многоквартирный Дом» для многих морских организм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5592600" y="4357800"/>
            <a:ext cx="31467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дача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Губки живут только в чистой воде? Поче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клеточность- эволюционный тупик, т.к. совершенствование организмов в рамках одной клетки имеет пределы, как и размеры самой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дите несколько фактов, ограничивающих увеличение размеров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сказка. С увеличением размеров тела, его объем возрастает в кубе, а площадь поверхности в квадра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никновение многоклеточности -важный этап развития животного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7120" y="2357280"/>
            <a:ext cx="49910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ногоклеточ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71680" y="3429000"/>
          <a:ext cx="8143560" cy="2133720"/>
        </p:xfrm>
        <a:graphic>
          <a:graphicData uri="http://schemas.openxmlformats.org/drawingml/2006/table">
            <a:tbl>
              <a:tblPr/>
              <a:tblGrid>
                <a:gridCol w="4071600"/>
                <a:gridCol w="40719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итив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стоящие многоклеточ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нервной систем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сть нервная систе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Штриховая стрелка вправо 4"/>
          <p:cNvSpPr/>
          <p:nvPr/>
        </p:nvSpPr>
        <p:spPr>
          <a:xfrm rot="8124600">
            <a:off x="2539440" y="2557440"/>
            <a:ext cx="1616040" cy="57168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Штриховая стрелка вправо 5"/>
          <p:cNvSpPr/>
          <p:nvPr/>
        </p:nvSpPr>
        <p:spPr>
          <a:xfrm rot="2523000">
            <a:off x="4770000" y="2539800"/>
            <a:ext cx="1616040" cy="57132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 какой группе многоклеточных относятся губк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чему ты так думаеш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07880" y="3687840"/>
            <a:ext cx="83646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ете ли вы, что губки были признаны животными только в 1825 го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этого их относили к зоофитам- животнорастен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и организац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одиночные, часто живут колония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07880" y="3767040"/>
            <a:ext cx="83217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реда обит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: обитают в моря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ение- пресноводная губка бодяга (водяг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мметрия тела : тело ассиметрич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5" descr="Spongillidae"/>
          <p:cNvPicPr/>
          <p:nvPr/>
        </p:nvPicPr>
        <p:blipFill>
          <a:blip r:embed="rId1"/>
          <a:stretch/>
        </p:blipFill>
        <p:spPr>
          <a:xfrm>
            <a:off x="428760" y="307188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20 из 1921"/>
          <p:cNvPicPr/>
          <p:nvPr/>
        </p:nvPicPr>
        <p:blipFill>
          <a:blip r:embed="rId2"/>
          <a:stretch/>
        </p:blipFill>
        <p:spPr>
          <a:xfrm>
            <a:off x="3143160" y="4357800"/>
            <a:ext cx="3095640" cy="2066760"/>
          </a:xfrm>
          <a:prstGeom prst="rect">
            <a:avLst/>
          </a:prstGeom>
          <a:ln w="25560">
            <a:solidFill>
              <a:srgbClr val="b26b02"/>
            </a:solidFill>
            <a:miter/>
          </a:ln>
        </p:spPr>
      </p:pic>
      <p:pic>
        <p:nvPicPr>
          <p:cNvPr id="250" name="Picture 4" descr="Картинка 18 из 1953"/>
          <p:cNvPicPr/>
          <p:nvPr/>
        </p:nvPicPr>
        <p:blipFill>
          <a:blip r:embed="rId3"/>
          <a:stretch/>
        </p:blipFill>
        <p:spPr>
          <a:xfrm>
            <a:off x="6296040" y="2786040"/>
            <a:ext cx="2847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аз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большие и маленьк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Тихом океане обитает губка «Кубок Нептуна», имеющая вид громадного кубка 1,5 м высотой и 0, 75 м в поперечни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нутая из воды губка напоминает кусок сырой печени  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еважно пах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143680" y="378612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30280"/>
            <a:ext cx="4068720" cy="582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собенности строе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убка напоминает пористую ваз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ло образовано 2 слоями клето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ружный- ЭКТОДЕР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нутренний- МЕЗОДЕРМ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каней н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ежду ними находится студенистое вещество- мезогле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мезоглее есть особые клетки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мебоциты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ни выделяют  вещество мезоглеи , из них образуются половые клетки и клетки  образующие скелет животного. Иглы растут в этих клетках, как снежинки на мороз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86400" y="285840"/>
            <a:ext cx="44146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8:46:27Z</dcterms:created>
  <dc:creator>Archie</dc:creator>
  <dc:description/>
  <dc:language>en-US</dc:language>
  <cp:lastModifiedBy>КарМаН</cp:lastModifiedBy>
  <dcterms:modified xsi:type="dcterms:W3CDTF">2012-04-25T08:17:18Z</dcterms:modified>
  <cp:revision>26</cp:revision>
  <dc:subject/>
  <dc:title>Слайд 1</dc:title>
</cp:coreProperties>
</file>