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AAC1-1F6D-4D82-966C-DE8CF84D9D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B428-73C6-41A1-A503-8B75527246E9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аследственные задатки (гены) Мендель предложил обозначать большими буквами латинского алфавита, например, доминантный — большой — А, рецессивный — маленькой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аждый организм один задаток (ген) получает от материнского организма, а другой — от отцовского, следовательно, они являются парами. Явление парности генов называют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измо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парные ген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ны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каждый ген пар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ю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Например, желтая и зеленая окраска семян гороха являются двумя аллелями (соответственно, доминантный аллель и рецессивный аллель) одного ген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ножественный 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4. Расхождение хромосом при мейоз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едположим, что соматические клетки несут всего одну пару гомологичных хромосом, содержащих гены, определяющие окраску семян у гороха. Обозначим ген, определяющий желтую окраску, буквой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зеленую —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оскольку Мендель работал с чистыми линиями, оба организма — гомозиготны, то есть несут два одинаковых аллеля гена окраски семян (соответственно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Во время мейоза число хромосом уменьшается в два раза и в каждую гамету попадает только одна хромосома. Но так как обе хромосомы несут одинаковые аллели, все гаметы одного организмы будут содержать одну хромосом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другого —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етическая запись осуществляется следующим образом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      Признак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  Зелен.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желт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зелен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 АА х аа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   Аа   х 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Зелен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а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 = ?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АА + 2Аа +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   Желт.      Зеле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оплодотворении гаметы сливаются, и их хромосомы объединяются в одной зиготе. Получившийся от скрещивания гибрид становится гетерозиготным, так как его клетки будут иметь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,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о есть оба аллеля одного и того же гена. У гибридного организма во время мейоза хромосомы расходятся в разные клетки и образуется два типа гамет — 50% гамет будет нести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50% —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Оплодотворение — процесс случайный и равновероятный, то есть любой сперматозоид может оплодотворить любую клетку. А поскольку образовалось два типа сперматозоидов и два типа яйцеклеток, возможно возникновение четырех типов зигот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Половина из них — гетерозиготы (несут гены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, 1/4 — гомозиготы по доминант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1/4 — гомозиготы по рецессив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Причем желтосеменные растения одинаковы по фенотипу, но различны по генотипу: 1/3 являются гомозиготными по доминантному признаку и 2/3 — гетерозигот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аким образом, учитывая цитологические основы, второй закон Менделя можно сформулировать следующим образом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при скрещивании гибридов первого поколения между собой (двух гетерозиготных особей) во втором поколении наблюдается расщепление в определенном числовом соотношении: по фенотипу 3:1, по генотипу 1:2: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7D46-45A6-4C6A-B8CC-EB6653DA066A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D5C-BA36-46A2-8A22-ADD2DCDA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8B1-4C6A-4D3E-B8EB-313FC740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F12-46B5-4282-B4AE-A91C08AC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2610-B5E3-439E-B8D4-FBC78499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3164-E1CF-4363-A442-A213AD47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CF9A-602E-428F-A04F-64B8F62D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0341-2CE8-49EB-BA76-547430FF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7D3B-AAF1-4454-814D-D77F3201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9869-76DA-48E4-B2E7-2A482D60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652B-2F86-45E5-B70A-0E860731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1228-790B-4E82-A5AB-4A2A4701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2DA-0DD5-4A74-A544-1D05BE3D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C47F-A89F-4F97-8814-C4A06F2E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96AF-C4AA-4C8F-B1BB-8C87B8C1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A4FB-2AFF-436D-8AE9-3132F474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61EB-D2CF-4174-8E5C-469B3175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8746-EA6A-4311-9080-756BCD0B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AB7-8263-46E4-ABE3-35B6197C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6002-80A7-4E5C-A916-C4D60D72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163C-9203-48CD-8CC4-92F1C028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AC6-70ED-473E-AFD7-53B78705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DF75-CADC-490D-90E6-70F2F0F8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A1C-5881-490C-9C79-428C7D9C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744-87B3-46B7-897C-57FD77C5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D388-5324-4AE9-B191-458C7283CE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ffb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7B65-0370-44EA-9901-FD23E49DF198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 Black"/>
              </a:rPr>
              <a:t>Моногибридное скрещивание. Раздел 3.11</a:t>
            </a:r>
            <a:endParaRPr b="1" lang="en-US" sz="5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928800" y="4429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ОУ СОШ №11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ельмухаметова Л.И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24000" y="1627200"/>
            <a:ext cx="5473440" cy="51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етика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Наследственн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Изменчив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ом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тер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ибридологический метод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ногибридное скрещивание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Законы Менделя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1640" y="1808280"/>
            <a:ext cx="313200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жет ли быть при одинаковом генотипе разный 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743200" cy="3028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Основные</a:t>
            </a: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понятия генетики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Нашивка 6"/>
          <p:cNvSpPr/>
          <p:nvPr/>
        </p:nvSpPr>
        <p:spPr>
          <a:xfrm>
            <a:off x="64296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Нашивка 7"/>
          <p:cNvSpPr/>
          <p:nvPr/>
        </p:nvSpPr>
        <p:spPr>
          <a:xfrm>
            <a:off x="114300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Нашивка 8"/>
          <p:cNvSpPr/>
          <p:nvPr/>
        </p:nvSpPr>
        <p:spPr>
          <a:xfrm>
            <a:off x="164304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Нашивка 9"/>
          <p:cNvSpPr/>
          <p:nvPr/>
        </p:nvSpPr>
        <p:spPr>
          <a:xfrm>
            <a:off x="214308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Нашивка 10"/>
          <p:cNvSpPr/>
          <p:nvPr/>
        </p:nvSpPr>
        <p:spPr>
          <a:xfrm>
            <a:off x="264312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85840" y="1000080"/>
            <a:ext cx="328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Дать определение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14200" y="3244680"/>
            <a:ext cx="4857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Выучить к следующему уроку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643720" y="1000080"/>
            <a:ext cx="1785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Номер слайда 1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C7C8-58C0-4CB9-AC4D-2D384F135C62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42600" y="1904760"/>
            <a:ext cx="820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ологический метод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изация – скрещивание 2-х организмов, различающихся альтернативными признакам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Метод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5389-4637-4B62-86AD-BA89DB01F12A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93200" y="1428840"/>
            <a:ext cx="800748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родители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потомство, (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первого поколения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второго поколения)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значок скрещивания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♂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мужская особь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♀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женская особь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буквами латинского алфавита обозначаются отдельно взятые наследственные признак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Генетическая символик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0662-C20B-4F2C-A7B5-6DF6DB43F4E7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8080" y="1857240"/>
            <a:ext cx="56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оногибридное скрещивание – скрещивание организмов, анализируемых по одной паре альтернативных признаков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6500880" y="1865160"/>
            <a:ext cx="2357280" cy="2421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Calibri"/>
              </a:rPr>
              <a:t>Моногибридное скрещвание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F1B9-9A1A-4528-B6FF-E497A7A6C79E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00840" y="1643040"/>
            <a:ext cx="2928960" cy="5035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0" name="TextBox 4"/>
          <p:cNvSpPr/>
          <p:nvPr/>
        </p:nvSpPr>
        <p:spPr>
          <a:xfrm>
            <a:off x="142920" y="1500120"/>
            <a:ext cx="54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ервый закон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закон доминирования или закон единообразия гибридов первого поколения (доминантный признак – господствующий, рецессивный - скрытый). Доминирование – явление преобладания одного признака над другим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торой закон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закон расщепления признаков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Законы Менделя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AB9F-EECD-4D59-AC5C-A894F49EBD96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067280" y="71424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оматические клетки диплоидны, в паре гомологичных хромосом находятся пара аллелей генов, контролирующие окраску горошин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одного из родителей это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у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и образовании гамет происходит мейоз, в гаметы попадает только один ген из пары. Все гаметы одного родителя содержат аллель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5" name="Скругленный прямоугольник 4"/>
          <p:cNvSpPr/>
          <p:nvPr/>
        </p:nvSpPr>
        <p:spPr>
          <a:xfrm>
            <a:off x="4214880" y="207180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лел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elon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реч. - друг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– одна из двух альтернативных форм ген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4214880" y="514368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Гипотеза чистоты гамет: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аметы "чисты", содержат только один наследственный признак из па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Номер слайда 7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8001-3683-49AA-9A7A-DBD7AC00CAC7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067280" y="76500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1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–единообразны и по фенотипу и по генотипу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1 поколения гетерозиготны и образуют два типа гамет – 50% гамет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50% -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1/4 зигот содержит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2 -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4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наблюдается расщепление: по фенотипу 3:1, по генотипу 1:2:1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51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CEA8-1E9D-4B19-8864-5EDC1FD4AF7C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9:15:50Z</dcterms:created>
  <dc:creator>Archie</dc:creator>
  <dc:description/>
  <dc:language>en-US</dc:language>
  <cp:lastModifiedBy>КарМаН</cp:lastModifiedBy>
  <dcterms:modified xsi:type="dcterms:W3CDTF">2012-04-24T19:57:43Z</dcterms:modified>
  <cp:revision>42</cp:revision>
  <dc:subject/>
  <dc:title>Моногибридное скрещивание</dc:title>
</cp:coreProperties>
</file>