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235-AEAD-4DF6-9FCA-CA8E0679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8AA-9F10-4735-80FA-B3298B6E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D235F-6818-41E0-8528-EF93D8D7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054FB-7FF2-48E1-96BA-F0BB0971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B9701-F4E7-4700-A54F-7CD19643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B43AA-75E5-4E8D-A94D-D70579D2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82C7C-4BA9-4F55-8146-868D30C5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DA0D0-C279-46C2-973F-1638614A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412C7-A3F1-4547-87B2-9198C085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06A7A-59C0-4C34-B92F-C3B4769F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3A80A-D764-439B-B545-15FB9E98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3224-C4C4-4865-908E-2D112913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D02-A9E5-44AA-A114-3F89DB65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0A9B-98F8-43D7-AE94-9F0D5657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A6D7-0E77-473D-9934-BE0782D3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F79A-D562-43C9-BAF9-0126A05D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FCDB-C222-4282-B324-61699ECB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991B-FFEC-4CE6-BB16-9938D638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BE34-D7FC-4AAE-B438-22CED5AD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1DE8-1385-44F8-98AC-DE7542AD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842-80E2-4AA0-8C64-1EC13439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C848-5A80-4D97-8F50-93AAFB41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9057-52EE-4022-AA8C-5720905C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B4C5-EBF5-4321-92DA-D631BACB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07B2-C849-4F5E-880E-1E8A8EB5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645A-1E05-4331-AF7F-F7453C5B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C25D4-D321-4029-919D-F9AB1BDF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34F4B-9A3F-4F7E-AF61-4EC55CFB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7E2F7-ECA3-4F2E-B906-8CF1D638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91986-C772-4405-AB8F-416DD727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5A25-3F97-47C1-AFBE-9CEF6671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713-08CD-433B-B5E6-1A9C781A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AB728-EAC1-4CA0-9780-C82AB6F6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B9CF7-913C-4FD1-93E2-BE70D8B9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51238-7F45-4A21-8E85-E43ED3F7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2234-7D97-4DF5-ACF5-10A972B1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63E13-0A91-4A78-87ED-724C10A9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6BBA6-77B7-4E32-B662-FF0F9CC3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27723-08FE-4533-820D-71157486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79178-B7E6-40BB-A50A-827DA9A1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2D4B2-DE5C-4250-A38A-7D87B622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8811F-45F8-4294-AA8E-50721BBF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B95-34AA-4261-BA75-58D809AE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D2F55-24E5-4AE8-9CE7-377AF327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20FB3-965A-4B94-AD92-285ED279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E8B73-DFA6-4D25-BF09-261E1EE9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F1D0A-4A1A-4A4F-8028-1627020D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5F135-4440-445F-BF8A-0B8B3E91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A3036-15C7-4C5B-99BD-5FDFD982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6C5DE-833A-48AD-BD0D-F8036C0C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822AD-E09F-4EF8-B0CE-625114BB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948BC-3944-4858-934D-3E53F26A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EB130-34D4-41D7-BA51-F0D22953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682-3EE0-44E8-BC57-FF8AEB72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0AD0C-74D4-44B6-B000-33A11A6D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27C79-5C6D-4FA9-9F87-5BF02986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9A537-6427-4B68-A843-609EBB4B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04F28-D5FD-4D7C-862A-D1C1A8C7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F2617-5709-4AFA-B55F-844263F1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F0340-C2AB-4B9F-A1F1-2E8F6DBA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1F6DB-589C-4090-BE6F-3B32318F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DDE06-6CF3-4750-854D-3E9E722E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7250B-142D-484A-A02F-397BD19A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B9A23-E258-473C-8208-2280114D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BF9-F6D3-419E-B571-E5A9F46B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64726-BAD2-4ECA-88DF-4EA6E63E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05FD3-03C6-486B-8DDC-AA5D736C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B7F4A-B362-4B69-8373-33B33E49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D5A1C-D81E-4EA7-BEAF-E5A47A20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03267-6EBA-44AE-8B99-75C048A3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0B8C1-C4CE-43D7-BF5F-4661EEF3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22A51-4C98-43CA-8F90-785E679C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D61E7-3E9B-405F-AE0B-AFA2F547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BFA4E-7E74-425F-B701-652549D0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C5195-A5E8-4C1A-9332-7CC88B7A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A11-16AA-43F7-8BD5-8A0F8EC0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9CAE7-9DAE-4629-852D-0DDA2AFE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5B2B1-2408-4672-B006-46C0D1F0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7369C-383F-4803-9F73-ACE172E1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8125D-B1C4-4D04-8D3C-08F590EB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8316D-F199-4020-943D-D6905460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6AB96-D2CA-426A-9DB2-994F230E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EC6FD-2C88-4824-8EE5-6BBB35AF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C18FC-77A0-44EC-9A64-67C12E15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3BF69-10B4-4841-BEC8-5C0355A0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A26C2-CE81-4B6B-A605-6FD5BB4E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EE58-4FAC-448C-8596-1FED6D25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FD2EB-993E-4882-A816-4D509A9F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81297-BC09-4DBB-A30E-85ADDE2E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E8E90-65F4-4AD3-8333-AE79A109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110F4-98AB-4C46-9760-F9D76395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8653F-ACAC-45D6-8B2D-9CF26AE6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CB893-5AB3-400B-9573-EFF2A469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AE9E2-FD4D-46F1-8E7A-94789377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6140A-9A45-41F0-BF2B-CC421330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AE971-CE2A-41FA-ADC2-D6C5104D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59409-B76F-4A7C-8B90-E009A88A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567-29FB-44CC-B4BF-4020352C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3BD25-7256-40A6-8B08-D5626374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B18F9-F584-4EE8-8F32-5BC4738F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EF670-5734-45CB-85F8-E7119D4F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304E9-BD71-4030-B1ED-D86A72BF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9AA7D-9E3F-4F3D-908F-1BE685BC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0CF94-DB75-459F-9B80-3C11A6BF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60A25-93B5-4063-A3E9-D5577602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8ECA3-90C2-416F-9A5D-0019C6B9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2A3BC-4C7C-4A8F-B93A-6D82FCC4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4DFD0-5381-481D-888A-C040C567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66DF-8915-4BD0-A638-AD6315CAA80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628C-7900-44BC-A7FA-355EBDAA669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4816-25BD-4EB4-81DC-15D59B9E07E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632A-28DD-40EA-ABDE-78F5E79BAB3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41CA-650A-439E-9246-AC649DE0E1D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013C-29D1-4098-91A0-32E36E2A773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0382-1E31-439F-AF78-429664E7DEA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39C4-2BF1-458A-9053-0C0E8CE6340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0DC6-1605-4BDC-B8E6-A6C4C5469BE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6"/>
          <p:cNvSpPr txBox="1"/>
          <p:nvPr/>
        </p:nvSpPr>
        <p:spPr>
          <a:xfrm>
            <a:off x="2500200" y="571680"/>
            <a:ext cx="3071880" cy="14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 уро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WordArt 7"/>
          <p:cNvSpPr txBox="1"/>
          <p:nvPr/>
        </p:nvSpPr>
        <p:spPr>
          <a:xfrm>
            <a:off x="571680" y="1284120"/>
            <a:ext cx="8100720" cy="18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зитивны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заимоотношения между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измами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Прямоугольник 7"/>
          <p:cNvSpPr/>
          <p:nvPr/>
        </p:nvSpPr>
        <p:spPr>
          <a:xfrm>
            <a:off x="1928880" y="4000680"/>
            <a:ext cx="66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Мишнина  Лидия Александровна, учитель биологии СОШ №3 Акбулакского района Оренбургской  обла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C:\Documents and Settings\User\Мои документы\Мои рисунки\66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92520" y="2573280"/>
            <a:ext cx="4287960" cy="3865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Картинка 1 из 5"/>
          <p:cNvPicPr/>
          <p:nvPr/>
        </p:nvPicPr>
        <p:blipFill>
          <a:blip r:embed="rId2"/>
          <a:stretch/>
        </p:blipFill>
        <p:spPr>
          <a:xfrm>
            <a:off x="222120" y="1409760"/>
            <a:ext cx="4384800" cy="33843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"/>
          <p:cNvSpPr/>
          <p:nvPr/>
        </p:nvSpPr>
        <p:spPr>
          <a:xfrm>
            <a:off x="539640" y="333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римеры  проявления кооперации в живой природе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94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"/>
          <p:cNvSpPr/>
          <p:nvPr/>
        </p:nvSpPr>
        <p:spPr>
          <a:xfrm>
            <a:off x="324000" y="836640"/>
            <a:ext cx="835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утуализм –  взаимополезное сожительство, когда присутствие партнёра становится обязательным условием существования каждого из н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2422440" y="19692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low Solid Italic"/>
              </a:rPr>
              <a:t>Мутуализм(++)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Picture 6" descr=""/>
          <p:cNvPicPr/>
          <p:nvPr/>
        </p:nvPicPr>
        <p:blipFill>
          <a:blip r:embed="rId1"/>
          <a:stretch/>
        </p:blipFill>
        <p:spPr>
          <a:xfrm>
            <a:off x="41400" y="2060640"/>
            <a:ext cx="4205160" cy="4537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Картинка 4 из 37"/>
          <p:cNvPicPr/>
          <p:nvPr/>
        </p:nvPicPr>
        <p:blipFill>
          <a:blip r:embed="rId2"/>
          <a:stretch/>
        </p:blipFill>
        <p:spPr>
          <a:xfrm>
            <a:off x="3805200" y="2060640"/>
            <a:ext cx="5338800" cy="453708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"/>
          <p:cNvSpPr/>
          <p:nvPr/>
        </p:nvSpPr>
        <p:spPr>
          <a:xfrm>
            <a:off x="187200" y="4365720"/>
            <a:ext cx="344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ишайники—это тесное взаимовыгодное сожительство грибов и водорос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Прямоугольник 2"/>
          <p:cNvSpPr/>
          <p:nvPr/>
        </p:nvSpPr>
        <p:spPr>
          <a:xfrm>
            <a:off x="5003640" y="57942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лубеньковые бактерии на корнях бобовых куль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480960" y="243000"/>
            <a:ext cx="8353440" cy="62640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3"/>
          <p:cNvSpPr/>
          <p:nvPr/>
        </p:nvSpPr>
        <p:spPr>
          <a:xfrm>
            <a:off x="755640" y="105264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характеризуйте особенности взаимоотношения некоторых грибов и деревье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611280" y="92160"/>
            <a:ext cx="1512720" cy="100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"/>
          <p:cNvPicPr/>
          <p:nvPr/>
        </p:nvPicPr>
        <p:blipFill>
          <a:blip r:embed="rId3"/>
          <a:stretch/>
        </p:blipFill>
        <p:spPr>
          <a:xfrm>
            <a:off x="2124000" y="10800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"/>
          <p:cNvPicPr/>
          <p:nvPr/>
        </p:nvPicPr>
        <p:blipFill>
          <a:blip r:embed="rId4"/>
          <a:stretch/>
        </p:blipFill>
        <p:spPr>
          <a:xfrm>
            <a:off x="3419640" y="92160"/>
            <a:ext cx="145404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Candara"/>
              </a:rPr>
              <a:t>Докажите, что типичным симбиозом является взаимоотношение термитов и жгутиковых простейших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( Термиты питаются древесиной, однако у них  нет ферментов для переваривания целлюлозы. Жгутиконосцы вырабатывают такие ферменты и переводят клетчатку в простые сахара. Без простейших – симбионтов – термиты погибают от голода)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5056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ахлебниче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Рыба – прилипала прикрепляется к рыбам, черепахам, китам. Они за их счет не питаются, а используют лишь как транспорт и покидают их, оказавшись на месте с подходящим кормом. Для этого у рыб спинной плавник преобразован в присоску. Насытившись, рыбы вновь ищут к кому бы прикрепиться. В дороге они пользуются остатками корма своих возниц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Сотрапезничество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. Это потребление разных частей или веществ одной пищи.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Например: почвенные бактерии и высшие растения. Бактерии перерабатывают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органику до минеральных солей, которые в свою очередь усваиваются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высшими     растениями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Квартиран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реди орхидей много эпифитов. В тропическом лесу дефицит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вета. Прикрепляясь к стволу дерева орхидеи получают необходимый свет, не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принося ни вреда, ни пользы дереву-опоре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Комменсализм.   Один организм извлекает из взаимоотношений пользу, для другого взаимоотношения нейтральны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78920" y="3860280"/>
            <a:ext cx="45370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Что объединяет такие формы  комменсализма как нахлебничество и  квартирантство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( При таких взаимодействиях  один из организмов улучшает свое положение, а другой не испытывает значимых изменений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79" name="Picture 9" descr="C:\Documents and Settings\User\Мои документы\Мои рисунки\66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375160" y="12600"/>
            <a:ext cx="3767400" cy="25527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4861080" y="2770200"/>
            <a:ext cx="4270320" cy="39304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179280" y="0"/>
            <a:ext cx="5184720" cy="362916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7"/>
          <p:cNvSpPr/>
          <p:nvPr/>
        </p:nvSpPr>
        <p:spPr>
          <a:xfrm>
            <a:off x="145800" y="32446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ыба прилипала и акул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Прямоугольник 8"/>
          <p:cNvSpPr/>
          <p:nvPr/>
        </p:nvSpPr>
        <p:spPr>
          <a:xfrm>
            <a:off x="5148360" y="5300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амка горчака откладывает икру в мантийную полость двустворчатого моллюс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Прямоугольник 9"/>
          <p:cNvSpPr/>
          <p:nvPr/>
        </p:nvSpPr>
        <p:spPr>
          <a:xfrm>
            <a:off x="5240160" y="245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татки пищи крупных хищников достаются птица–падальщика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2"/>
          <p:cNvSpPr/>
          <p:nvPr/>
        </p:nvSpPr>
        <p:spPr>
          <a:xfrm>
            <a:off x="395280" y="352440"/>
            <a:ext cx="856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тельная: продолжить формирование знаний о проявлениях биотических факторов среды; раскрыть сущность позитивных отношений между организм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ющая: сформировать умение различать проявление разных форм симбиоза; развивать познавательную активность учащихся, их коммуникативную и информативную компетент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: воспитывать бережное отношение к окружающей сред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с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351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Применяем полученные знани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С1. Объясните, почему для выращивания бобовых растений </a:t>
            </a:r>
            <a:r>
              <a:rPr b="1" i="1" lang="en-US" sz="3600" spc="-1" strike="noStrike" u="sng">
                <a:solidFill>
                  <a:srgbClr val="073e87"/>
                </a:solidFill>
                <a:uFillTx/>
                <a:latin typeface="Arial"/>
              </a:rPr>
              <a:t>не требуется</a:t>
            </a: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 подкормка азотными удобрениями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( САМОЕ ПОЛНОЕ ИЗДАНИЕ ТИПОВЫХ ВАРИАНТОВ ЗАДАНИ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ЕГЭ 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012.</a:t>
            </a: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 БИОЛОГИЯ/  ФИПИ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Авторы-составители: Б.А. Никишова и С.П. Шаталова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  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Элементы ответа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1) у бобовых на корнях поселяются клубеньковые бактер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) они усваивают азот воздуха и обеспечивают растения азотным питанием.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2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Прямоугольник 3"/>
          <p:cNvSpPr/>
          <p:nvPr/>
        </p:nvSpPr>
        <p:spPr>
          <a:xfrm>
            <a:off x="324000" y="333360"/>
            <a:ext cx="8569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1 Почему почву в лесопосадках заселяют микоризными грибам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тличник ЕГЭ. Биология / ФИПИ. Авторы-составите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линова Г.С., Петросова Р.А., Никишова Е.А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Прямоугольник 5"/>
          <p:cNvSpPr/>
          <p:nvPr/>
        </p:nvSpPr>
        <p:spPr>
          <a:xfrm>
            <a:off x="539640" y="3573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Элементы отве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деревья вступают в симбиоз с гриб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корни растений получают дополнительное минеральное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итание, растения легче переносят неблагоприятные условия.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2. Найдите  ошибки в приведенном  тексте, укажите номера предложений в которых они сделаны, исправьте их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ежду организмами в процессе их существования могут возникать разнообразные как внутри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так и межвидовые отношени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всегда   носят обязательный  характер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3.Растения в симбиозе с азотфиксирующими бактериями могут произрастать на почвах, бедных азотом, и обогащать им почв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4. Деревья с микоризой находятся в угнетенном состоянии и плохо растут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5.Биологический смысл прикрепления прилипал заключается в облегчении передвижения и расселения этих рыб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3e87"/>
                </a:solidFill>
                <a:latin typeface="Arial"/>
              </a:rPr>
              <a:t>Ошибки допущены в предложениях-2,4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нося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обязательный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и временный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характер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 Деревья с микориз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ут гораздо лучше, так как через грибницы  дерево обеспечивается  водой и минеральными солями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75452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Грибники знают, что рыжики следует искать в молодом ельнике или под соснами, подосиновики и подберезовики – в лиственных лесах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Объясните почему 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ndara"/>
              </a:rPr>
              <a:t>Домашнее задание.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ndara"/>
              </a:rPr>
              <a:t>Каким  образом  в процессе эволюции могли сформироваться отношения комменсализма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95280" y="148392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1.Что такое симбиоз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 Симбиоз- сожительство от греч.sym –вместе,         bios – жизнь; форма взаимоотношений, при которой оба партнера или один из них извлекает пользу от другого).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2.Между организмами существуют прямые и косвенны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связи, в чем их суть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прямые связи осуществляются при непосредственном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лиянии одного вида на другой, косвенные – через влияни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внешнюю среду или на другие виды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ndara"/>
              </a:rPr>
              <a:t>Актуализация знан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Различают множество типов парных взаимодействий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1. Трофические – связанные с питанием и потоками энерг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 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трофический симбиоз. 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2. Топические – связанные с изменением условий обитания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форические: перенос организмов одного вида организмами другого вида и др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3. Информационно-сигнальные – связанные с передачей информац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 реципрокный альтруизм (взаимопомощь)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"/>
          <p:cNvSpPr/>
          <p:nvPr/>
        </p:nvSpPr>
        <p:spPr>
          <a:xfrm>
            <a:off x="395280" y="189000"/>
            <a:ext cx="8497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учаем новую тем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ые отношения  это форма взаимоотношений при которой об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ёра или один из них извлекае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 от друг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995640" y="2443320"/>
            <a:ext cx="25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(++ или +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Picture 7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635640" cy="3166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738600" cy="3197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"/>
          <p:cNvPicPr/>
          <p:nvPr/>
        </p:nvPicPr>
        <p:blipFill>
          <a:blip r:embed="rId3"/>
          <a:stretch/>
        </p:blipFill>
        <p:spPr>
          <a:xfrm>
            <a:off x="6550200" y="0"/>
            <a:ext cx="25844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Organization Chart 2"/>
          <p:cNvGrpSpPr/>
          <p:nvPr/>
        </p:nvGrpSpPr>
        <p:grpSpPr>
          <a:xfrm>
            <a:off x="457200" y="274680"/>
            <a:ext cx="8228880" cy="5849640"/>
            <a:chOff x="457200" y="274680"/>
            <a:chExt cx="8228880" cy="5849640"/>
          </a:xfrm>
        </p:grpSpPr>
        <p:cxnSp>
          <p:nvCxnSpPr>
            <p:cNvPr id="444" name="_s1028"/>
            <p:cNvCxnSpPr>
              <a:stCxn id="445" idx="0"/>
              <a:endCxn id="446" idx="2"/>
            </p:cNvCxnSpPr>
            <p:nvPr/>
          </p:nvCxnSpPr>
          <p:spPr>
            <a:xfrm flipV="1" rot="16200000">
              <a:off x="5423400" y="175860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7" name="_s1029"/>
            <p:cNvCxnSpPr>
              <a:stCxn id="448" idx="0"/>
              <a:endCxn id="446" idx="2"/>
            </p:cNvCxnSpPr>
            <p:nvPr/>
          </p:nvCxnSpPr>
          <p:spPr>
            <a:xfrm flipV="1">
              <a:off x="4571280" y="2611080"/>
              <a:ext cx="3240" cy="117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9" name="_s1030"/>
            <p:cNvCxnSpPr>
              <a:stCxn id="450" idx="0"/>
              <a:endCxn id="446" idx="2"/>
            </p:cNvCxnSpPr>
            <p:nvPr/>
          </p:nvCxnSpPr>
          <p:spPr>
            <a:xfrm flipH="1" flipV="1" rot="5400000">
              <a:off x="2543040" y="175896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6" name="_s1031"/>
            <p:cNvSpPr/>
            <p:nvPr/>
          </p:nvSpPr>
          <p:spPr>
            <a:xfrm>
              <a:off x="3337200" y="27468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000000"/>
                  </a:solidFill>
                  <a:latin typeface="Arial"/>
                </a:rPr>
                <a:t>симбиоз</a:t>
              </a:r>
              <a:endParaRPr b="0" lang="en-US" sz="4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_s1032"/>
            <p:cNvSpPr/>
            <p:nvPr/>
          </p:nvSpPr>
          <p:spPr>
            <a:xfrm>
              <a:off x="45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ооперация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_s1033"/>
            <p:cNvSpPr/>
            <p:nvPr/>
          </p:nvSpPr>
          <p:spPr>
            <a:xfrm>
              <a:off x="333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мутуализм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_s1034"/>
            <p:cNvSpPr/>
            <p:nvPr/>
          </p:nvSpPr>
          <p:spPr>
            <a:xfrm>
              <a:off x="621756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омменсализм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0560" y="857160"/>
            <a:ext cx="8435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рягся  рак- отшельник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ния  на  нем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шельник  не  досадует,  что  ноша  тяжела,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 часто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шки  падают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нему  с  ее  стола</a:t>
            </a:r>
            <a:r>
              <a:rPr b="1" lang="en-US" sz="4000" spc="-1" strike="noStrike">
                <a:solidFill>
                  <a:srgbClr val="bfbfbf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ndara"/>
              </a:rPr>
              <a:t>Определите тип взаимоотношени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3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5724360" y="3213000"/>
            <a:ext cx="275148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68000" y="476280"/>
            <a:ext cx="8351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жителями рака-отшельника и актинии часто бывают   многощетинковые черви.   Замечательно, что рак-отшельник не трогая "своего" червя, хотя поедает других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м основано   сожительство рака-отшельника, актинии  и многощетинкового червя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46040" y="189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операция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– совместное существование, выгодное для обоих видов, но не являющееся непременным условием выжи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Picture 4" descr="Кривенцева3"/>
          <p:cNvPicPr/>
          <p:nvPr/>
        </p:nvPicPr>
        <p:blipFill>
          <a:blip r:embed="rId1"/>
          <a:stretch/>
        </p:blipFill>
        <p:spPr>
          <a:xfrm>
            <a:off x="446040" y="1670040"/>
            <a:ext cx="3765600" cy="4973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4859280" y="1665360"/>
            <a:ext cx="3816360" cy="4870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6:38:22Z</dcterms:created>
  <dc:creator>User1</dc:creator>
  <dc:description/>
  <dc:language>en-US</dc:language>
  <cp:lastModifiedBy>Василий</cp:lastModifiedBy>
  <dcterms:modified xsi:type="dcterms:W3CDTF">2012-03-16T13:08:13Z</dcterms:modified>
  <cp:revision>85</cp:revision>
  <dc:subject/>
  <dc:title>Слайд 1</dc:title>
</cp:coreProperties>
</file>