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7EE-3392-4EDB-BE89-82B4A103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0E9-CB33-4122-B598-EF09BD01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655C7-A288-4881-A7C1-043D59D0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2C05D-5868-4C45-96A3-926D16E1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4E07E-D16D-4B80-A8E2-A63C8BD2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B6FAD-6FA0-414E-8120-F1260F07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ED089-DE86-4062-ABBA-FCFF4465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47774-E834-4271-B4DC-EB996B78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C9488-5BA1-44CB-B333-DD938265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DD2EF-F860-4F0E-8E32-B6665A5B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700D7-EAD1-415E-B583-DB6CB20E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FCA-FAAB-4F4D-88E3-DECC5D5F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73A-63BE-43D5-A432-B1DC1DE7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96B9-8C97-4608-90C3-70BD6E06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27BC-4459-4C31-9719-14E812EC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7272-E6B2-4E4F-8099-EF42FE04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A2D8-8649-4D69-B712-7C42D602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ACF9-603A-4571-88F5-F17398A2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78B7-CC90-4322-A73C-63BC10F6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F3DF-A513-4F3A-ABBD-69FC16D7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969-009E-4415-A04C-1A821425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1019-C09C-417D-83A4-4708C0FE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828F-BB14-4C4B-8B15-F87DC7E0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209D-3664-44D5-877C-E69E79B3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CA62-B8D5-471D-936F-F0508EE4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A2C3-5976-4BBC-9157-CB87BAD3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1B42B-FCB9-4B65-959F-CA91BBD5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C5D6E-643C-4361-AAB7-E4BF21B3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17702-EC48-40B9-99EA-8900A782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9801-83F5-43DA-B6CB-BADBBD12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ACD44-4E2B-4458-A8E3-FA0EE6C5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505-B5BB-45F5-92DD-95FC9BFC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FE25D-543B-41E1-B510-04CFACD2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579CA-2D18-4BE4-B07F-23D1D72B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A2605-82A7-427D-9C6A-89A2EDD5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D1682-6819-4F40-9B3D-BAA0C1ED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1ACB4-CABE-4266-9CA6-E75BCE2B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8D650-CD4D-4206-B5BC-E6177009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1B229-5DB0-4DAD-844A-47CB4A92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9B488-27EF-47C2-8250-4714C9C4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3FC96-FABA-4936-ACBF-56C7C6A8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BBBF5-9A72-4AF5-8480-19D405EC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F13-D20D-4D3A-BD23-BEE8D20C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7772F-A8D9-4E4E-BC38-4FAAE806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7F119-3B91-478C-A36A-D681850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D5B9-E862-401E-8EA4-7D95B24B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2EEB9-01FF-4729-8CD5-0BDA035C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C6C08-E361-42E3-B478-2AA93967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BE51-835D-4EB3-A8AB-70EDDC77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CB13-D78D-41D9-866A-AA670D0C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FAD52-147A-44FC-8390-C1B33278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47A1B-8233-467E-9F5D-1E34979B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02826-2F3C-454B-9B37-968A0563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A69-9740-4A00-A89D-3A25FA17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2E733-D0D9-4384-A74D-CA8838D5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80680-560C-4054-AF8B-6100A8EE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6F246-D7AD-4F1E-93B5-DBEAC5E6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6F878-A8CF-4914-9CD4-A9E05D76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7373F-0F44-414B-A4D9-5C2F52FF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37C1A-7236-40D3-B005-2DF7CB95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5A00E-F059-49BF-B628-739BB0B9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4617A-86E3-45DF-A40A-22EC0638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FA298-C296-4EDE-AA1B-45AC23F5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4979D-4AA8-4225-9549-E25C74D2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718-EECE-484F-B9EB-B04930C9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9517B-D73B-460F-8631-BA840DB1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22883-E10C-4045-9D15-7106474A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DDCF8-85FD-4F01-8E60-B6799EE1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5D1A3-C1E5-4872-824B-324C6712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8DE81-2054-4CB3-B08A-E59A1921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BB829-CA7D-4486-9A11-C658E195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0B6CD-BF19-4DC3-93A6-892341B5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B987F-E23F-4297-A519-770771A0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EF2D4-7E9E-4B7E-BE7F-13AF0D56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B35EF-897E-4093-884A-A78EA655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E32-0BEE-4A8A-AAF9-21847A79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38778-E534-4CC8-8462-3D8FCB10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04187-464A-4F77-81D7-C0A13E60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89319-57FC-4FA3-9D5E-2FFCCBBE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66147-91CC-47B9-9974-B4FA496E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9F475-22C0-4514-8331-4D0327BD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FDB5F-E2D2-472A-A936-8767F1A9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4DA9B-DD25-4993-B460-258471F4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D935C-DF01-4A73-BE71-9BC9D962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017A1-60CA-4C2B-9FDB-765A3A17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4A7CB-CB06-4388-A62C-29974AB1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E89-ACDA-4339-92B9-4138936B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C8C78-2822-409F-A9D4-832F87C3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42A13-432D-4F2D-BDC8-D883F7F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DFB43-42FD-405C-B7C5-FDDFF0BD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97AC6-2C02-4485-8E89-8F29FA91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16927-526D-4096-B444-ABD2E87C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82D45-2BF4-4847-9877-11CAE14C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FE985-B29D-414D-8C6B-874AE935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78333-A38F-4AD1-9DF2-D0A4F207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C754B-A38E-4F0A-9F9F-93A15096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5C1B6-5468-4555-9FB2-5CB7EAAB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D57-8748-45E4-AD03-AA9266C8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86E09-AA25-4674-AFEE-19585522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14927-8FDA-4DE6-B39F-F73C6B5E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E7966-538F-476E-93C7-F1E507B9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B145D-4BC1-4F5E-A10C-24E04CD7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F5ADD-1BA8-4DE9-A809-267583A1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AFFE2-3DBE-4972-B1E7-202DC740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B2D05-A3A4-4D63-A77E-50EDE580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94AA7-6E38-491C-8C9A-0FA9612B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983B5-D8E6-4682-94D9-9A4CD209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08FB2-18EB-4B60-A756-FD546155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B519-CB0A-457E-A282-0279E080DB3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2AAA-B123-4711-8D85-05A6F0FDD1D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D8CF-64B6-4974-9A63-C0624533AAB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5460-CD17-46A1-B5D5-0CD4BF53118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DA45-479C-4029-BF59-80ECDBFF627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52DE-820C-40B6-B33A-D466D5DB12F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21DE-516A-4AC5-83F5-A7DEEB7D4B5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95E5-A41F-4C81-985A-DB4512D07D6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770F-EFB2-4D6E-B2DE-8EDB7914370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6"/>
          <p:cNvSpPr txBox="1"/>
          <p:nvPr/>
        </p:nvSpPr>
        <p:spPr>
          <a:xfrm>
            <a:off x="2500200" y="571680"/>
            <a:ext cx="3071880" cy="14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уро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WordArt 7"/>
          <p:cNvSpPr txBox="1"/>
          <p:nvPr/>
        </p:nvSpPr>
        <p:spPr>
          <a:xfrm>
            <a:off x="571680" y="1284120"/>
            <a:ext cx="8100720" cy="18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зитивны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заимоотношения между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мами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1928880" y="40006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ишнина  Лидия Александровна, учитель биологии СОШ №3 Акбулакского района Оренбургской  обл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C:\Documents and Settings\User\Мои документы\Мои рисунки\66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92520" y="2573280"/>
            <a:ext cx="4287960" cy="3865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Картинка 1 из 5"/>
          <p:cNvPicPr/>
          <p:nvPr/>
        </p:nvPicPr>
        <p:blipFill>
          <a:blip r:embed="rId2"/>
          <a:stretch/>
        </p:blipFill>
        <p:spPr>
          <a:xfrm>
            <a:off x="222120" y="1409760"/>
            <a:ext cx="4384800" cy="33843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"/>
          <p:cNvSpPr/>
          <p:nvPr/>
        </p:nvSpPr>
        <p:spPr>
          <a:xfrm>
            <a:off x="539640" y="33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  проявления кооперации в живой природе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94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324000" y="836640"/>
            <a:ext cx="835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туализм –  взаимополезное сожительство, когда присутствие партнёра становится обязательным условием существования каждого из н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2422440" y="19692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Мутуализм(++)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6" descr=""/>
          <p:cNvPicPr/>
          <p:nvPr/>
        </p:nvPicPr>
        <p:blipFill>
          <a:blip r:embed="rId1"/>
          <a:stretch/>
        </p:blipFill>
        <p:spPr>
          <a:xfrm>
            <a:off x="41400" y="2060640"/>
            <a:ext cx="4205160" cy="4537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Картинка 4 из 37"/>
          <p:cNvPicPr/>
          <p:nvPr/>
        </p:nvPicPr>
        <p:blipFill>
          <a:blip r:embed="rId2"/>
          <a:stretch/>
        </p:blipFill>
        <p:spPr>
          <a:xfrm>
            <a:off x="3805200" y="2060640"/>
            <a:ext cx="5338800" cy="453708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"/>
          <p:cNvSpPr/>
          <p:nvPr/>
        </p:nvSpPr>
        <p:spPr>
          <a:xfrm>
            <a:off x="187200" y="4365720"/>
            <a:ext cx="34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шайники—это тесное взаимовыгодное сожительство грибов и водорос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Прямоугольник 2"/>
          <p:cNvSpPr/>
          <p:nvPr/>
        </p:nvSpPr>
        <p:spPr>
          <a:xfrm>
            <a:off x="5003640" y="57942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лубеньковые бактерии на корнях бобовых куль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480960" y="243000"/>
            <a:ext cx="8353440" cy="62640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3"/>
          <p:cNvSpPr/>
          <p:nvPr/>
        </p:nvSpPr>
        <p:spPr>
          <a:xfrm>
            <a:off x="755640" y="10526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характеризуйте особенности взаимоотношения некоторых грибов и деревье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611280" y="92160"/>
            <a:ext cx="1512720" cy="100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3"/>
          <a:stretch/>
        </p:blipFill>
        <p:spPr>
          <a:xfrm>
            <a:off x="2124000" y="10800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4"/>
          <a:stretch/>
        </p:blipFill>
        <p:spPr>
          <a:xfrm>
            <a:off x="3419640" y="92160"/>
            <a:ext cx="145404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Candara"/>
              </a:rPr>
              <a:t>Докажите, что типичным симбиозом является взаимоотношение термитов и жгутиковых простейших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( Термиты питаются древесиной, однако у них  нет ферментов для переваривания целлюлозы. Жгутиконосцы вырабатывают такие ферменты и переводят клетчатку в простые сахара. Без простейших – симбионтов – термиты погибают от голода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5056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ахлебниче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Рыба – прилипала прикрепляется к рыбам, черепахам, китам. Они за их счет не питаются, а используют лишь как транспорт и покидают их, оказавшись на месте с подходящим кормом. Для этого у рыб спинной плавник преобразован в присоску. Насытившись, рыбы вновь ищут к кому бы прикрепиться. В дороге они пользуются остатками корма своих возниц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отрапезничество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. Это потребление разных частей или веществ одной пищи.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Например: почвенные бактерии и высшие растения. Бактерии перерабатывают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органику до минеральных солей, которые в свою очередь усваиваются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высшими     растениям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вартиран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реди орхидей много эпифитов. В тропическом лесу дефицит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вета. Прикрепляясь к стволу дерева орхидеи получают необходимый свет, не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принося ни вреда, ни пользы дереву-опоре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Комменсализм.   Один организм извлекает из взаимоотношений пользу, для другого взаимоотношения нейтральны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78920" y="3860280"/>
            <a:ext cx="45370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Что объединяет такие формы  комменсализма как нахлебничество и  квартирантство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( При таких взаимодействиях  один из организмов улучшает свое положение, а другой не испытывает значимых изменений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9" name="Picture 9" descr="C:\Documents and Settings\User\Мои документы\Мои рисунки\66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75160" y="12600"/>
            <a:ext cx="3767400" cy="2552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4861080" y="2770200"/>
            <a:ext cx="4270320" cy="3930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179280" y="0"/>
            <a:ext cx="5184720" cy="362916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7"/>
          <p:cNvSpPr/>
          <p:nvPr/>
        </p:nvSpPr>
        <p:spPr>
          <a:xfrm>
            <a:off x="145800" y="32446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ыба прилипала и аку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Прямоугольник 8"/>
          <p:cNvSpPr/>
          <p:nvPr/>
        </p:nvSpPr>
        <p:spPr>
          <a:xfrm>
            <a:off x="5148360" y="5300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амка горчака откладывает икру в мантийную полость двустворчатого моллюс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240160" y="245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татки пищи крупных хищников достаются птица–падальщика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2"/>
          <p:cNvSpPr/>
          <p:nvPr/>
        </p:nvSpPr>
        <p:spPr>
          <a:xfrm>
            <a:off x="395280" y="352440"/>
            <a:ext cx="856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тельная: продолжить формирование знаний о проявлениях биотических факторов среды; раскрыть сущность позитивных отношений между организм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ющая: сформировать умение различать проявление разных форм симбиоза; развивать познавательную активность учащихся, их коммуникативную и информативную компетент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: воспитывать бережное отношение к окружающей сре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с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Применяем полученные знан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С1. Объясните, почему для выращивания бобовых растений </a:t>
            </a:r>
            <a:r>
              <a:rPr b="1" i="1" lang="en-US" sz="3600" spc="-1" strike="noStrike" u="sng">
                <a:solidFill>
                  <a:srgbClr val="073e87"/>
                </a:solidFill>
                <a:uFillTx/>
                <a:latin typeface="Arial"/>
              </a:rPr>
              <a:t>не требуется</a:t>
            </a: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 подкормка азотными удобрениями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( САМОЕ ПОЛНОЕ ИЗДАНИЕ ТИПОВЫХ ВАРИАНТОВ ЗАДАНИ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ЕГЭ 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012.</a:t>
            </a: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 БИОЛОГИЯ/  ФИП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Авторы-составители: Б.А. Никишова и С.П. Шаталова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  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Элементы ответ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1) у бобовых на корнях поселяются клубеньковые бактер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) они усваивают азот воздуха и обеспечивают растения азотным питанием.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оугольник 3"/>
          <p:cNvSpPr/>
          <p:nvPr/>
        </p:nvSpPr>
        <p:spPr>
          <a:xfrm>
            <a:off x="324000" y="333360"/>
            <a:ext cx="856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1 Почему почву в лесопосадках заселяют микоризными гриба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тличник ЕГЭ. Биология / ФИПИ. Авторы-составите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линова Г.С., Петросова Р.А., Никишова Е.А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Прямоугольник 5"/>
          <p:cNvSpPr/>
          <p:nvPr/>
        </p:nvSpPr>
        <p:spPr>
          <a:xfrm>
            <a:off x="539640" y="3573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Элементы отве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деревья вступают в симбиоз с гриб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орни растений получают дополнительное минеральное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итание, растения легче переносят неблагоприятные условия.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2. Найдите  ошибки в приведенном  тексте, укажите номера предложений в которых они сделаны, исправьте их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ежду организмами в процессе их существования могут возникать разнообразные как вну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так и межвидовые отнош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всегда   носят обязательный  характер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3.Растения в симбиозе с азотфиксирующими бактериями могут произрастать на почвах, бедных азотом, и обогащать им почв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4. Деревья с микоризой находятся в угнетенном состоянии и плохо растут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5.Биологический смысл прикрепления прилипал заключается в облегчении передвижения и расселения этих рыб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3e87"/>
                </a:solidFill>
                <a:latin typeface="Arial"/>
              </a:rPr>
              <a:t>Ошибки допущены в предложениях-2,4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нося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обязательный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и временный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характер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 Деревья с микориз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ут гораздо лучше, так как через грибницы  дерево обеспечивается  водой и минеральными солями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7545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Грибники знают, что рыжики следует искать в молодом ельнике или под соснами, подосиновики и подберезовики – в лиственных лесах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Объясните почему 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ndara"/>
              </a:rPr>
              <a:t>Домашнее задание.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ndara"/>
              </a:rPr>
              <a:t>Каким  образом  в процессе эволюции могли сформироваться отношения комменсализма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95280" y="148392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1.Что такое симбиоз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 Симбиоз- сожительство от греч.sym –вместе,         bios – жизнь; форма взаимоотношений, при которой оба партнера или один из них извлекает пользу от другого).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2.Между организмами существуют прямые и косвенны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связи, в чем их суть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прямые связи осуществляются при непосредственном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лиянии одного вида на другой, косвенные – через влияни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внешнюю среду или на другие виды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ndara"/>
              </a:rPr>
              <a:t>Актуализация зна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Различают множество типов парных взаимодействий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1. Трофические – связанные с питанием и потоками энерг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 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трофический симбиоз.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2. Топические – связанные с изменением условий обитания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форические: перенос организмов одного вида организмами другого вида и др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3. Информационно-сигнальные – связанные с передачей информац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 реципрокный альтруизм (взаимопомощь)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395280" y="189000"/>
            <a:ext cx="8497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аем новую тем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ые отношения  это форма взаимоотношений при которой об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ёра или один из них извлекае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 от друг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995640" y="2443320"/>
            <a:ext cx="25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(++ или +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7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635640" cy="3166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738600" cy="3197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"/>
          <p:cNvPicPr/>
          <p:nvPr/>
        </p:nvPicPr>
        <p:blipFill>
          <a:blip r:embed="rId3"/>
          <a:stretch/>
        </p:blipFill>
        <p:spPr>
          <a:xfrm>
            <a:off x="6550200" y="0"/>
            <a:ext cx="25844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Organization Chart 2"/>
          <p:cNvGrpSpPr/>
          <p:nvPr/>
        </p:nvGrpSpPr>
        <p:grpSpPr>
          <a:xfrm>
            <a:off x="457200" y="274680"/>
            <a:ext cx="8228880" cy="5849640"/>
            <a:chOff x="457200" y="274680"/>
            <a:chExt cx="8228880" cy="5849640"/>
          </a:xfrm>
        </p:grpSpPr>
        <p:cxnSp>
          <p:nvCxnSpPr>
            <p:cNvPr id="444" name="_s1028"/>
            <p:cNvCxnSpPr>
              <a:stCxn id="445" idx="0"/>
              <a:endCxn id="446" idx="2"/>
            </p:cNvCxnSpPr>
            <p:nvPr/>
          </p:nvCxnSpPr>
          <p:spPr>
            <a:xfrm flipV="1" rot="16200000">
              <a:off x="5423400" y="175860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7" name="_s1029"/>
            <p:cNvCxnSpPr>
              <a:stCxn id="448" idx="0"/>
              <a:endCxn id="446" idx="2"/>
            </p:cNvCxnSpPr>
            <p:nvPr/>
          </p:nvCxnSpPr>
          <p:spPr>
            <a:xfrm flipV="1">
              <a:off x="4571280" y="2611080"/>
              <a:ext cx="3240" cy="117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9" name="_s1030"/>
            <p:cNvCxnSpPr>
              <a:stCxn id="450" idx="0"/>
              <a:endCxn id="446" idx="2"/>
            </p:cNvCxnSpPr>
            <p:nvPr/>
          </p:nvCxnSpPr>
          <p:spPr>
            <a:xfrm flipH="1" flipV="1" rot="5400000">
              <a:off x="2543040" y="175896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6" name="_s1031"/>
            <p:cNvSpPr/>
            <p:nvPr/>
          </p:nvSpPr>
          <p:spPr>
            <a:xfrm>
              <a:off x="3337200" y="27468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000000"/>
                  </a:solidFill>
                  <a:latin typeface="Arial"/>
                </a:rPr>
                <a:t>симбиоз</a:t>
              </a:r>
              <a:endParaRPr b="0" lang="en-US" sz="4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_s1032"/>
            <p:cNvSpPr/>
            <p:nvPr/>
          </p:nvSpPr>
          <p:spPr>
            <a:xfrm>
              <a:off x="45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ооперация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_s1033"/>
            <p:cNvSpPr/>
            <p:nvPr/>
          </p:nvSpPr>
          <p:spPr>
            <a:xfrm>
              <a:off x="333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мутуализм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_s1034"/>
            <p:cNvSpPr/>
            <p:nvPr/>
          </p:nvSpPr>
          <p:spPr>
            <a:xfrm>
              <a:off x="621756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омменсализм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0560" y="857160"/>
            <a:ext cx="8435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рягся  рак- отшельник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ния  на  нем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шельник  не  досадует,  что  ноша  тяжела,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 часто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ки  падают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нему  с  ее  стола</a:t>
            </a:r>
            <a:r>
              <a:rPr b="1" lang="en-US" sz="4000" spc="-1" strike="noStrike">
                <a:solidFill>
                  <a:srgbClr val="bfbfbf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ndara"/>
              </a:rPr>
              <a:t>Определите тип взаимоотношени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5724360" y="3213000"/>
            <a:ext cx="275148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68000" y="476280"/>
            <a:ext cx="8351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жителями рака-отшельника и актинии часто бывают   многощетинковые черви.   Замечательно, что рак-отшельник не трогая "своего" червя, хотя поедает других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м основано   сожительство рака-отшельника, актинии  и многощетинкового червя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46040" y="189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операция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– совместное существование, выгодное для обоих видов, но не являющееся непременным условием выжи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4" descr="Кривенцева3"/>
          <p:cNvPicPr/>
          <p:nvPr/>
        </p:nvPicPr>
        <p:blipFill>
          <a:blip r:embed="rId1"/>
          <a:stretch/>
        </p:blipFill>
        <p:spPr>
          <a:xfrm>
            <a:off x="446040" y="1670040"/>
            <a:ext cx="3765600" cy="4973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4859280" y="1665360"/>
            <a:ext cx="381636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6:38:22Z</dcterms:created>
  <dc:creator>User1</dc:creator>
  <dc:description/>
  <dc:language>en-US</dc:language>
  <cp:lastModifiedBy>Василий</cp:lastModifiedBy>
  <dcterms:modified xsi:type="dcterms:W3CDTF">2012-03-16T13:08:13Z</dcterms:modified>
  <cp:revision>85</cp:revision>
  <dc:subject/>
  <dc:title>Слайд 1</dc:title>
</cp:coreProperties>
</file>