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4.jpeg" ContentType="image/jpeg"/>
  <Override PartName="/ppt/media/image45.jpeg" ContentType="image/jpeg"/>
  <Override PartName="/ppt/media/image13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01F-83A1-4282-BEC8-7A6376D0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00F-AE79-48EE-8FA0-E5099DD7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ABF-EC18-4B91-83A0-C907AB0F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23E-2CB0-4685-BB23-3BF0E231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A533-BECB-4486-91C3-35CC372B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37B4-C72D-4749-99F3-2B705CB2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987D-D5C1-492E-AB02-12508598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9E0E-6C62-4200-A59B-67B7BDAE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5B78-E206-4CC0-B449-93816E19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05A6-4D8A-48EB-B734-0BB58075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398B-BB47-4042-8236-E6804AC9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B8F-60FE-4947-AB07-B69CD0F7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CEC4-4076-4383-AEA1-106F844D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9F50-ECB6-405B-B50A-88F418DF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4618-E867-4932-BDAF-64029BF2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3386-6461-46B2-9D70-069EC190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C457-CA02-427F-A80B-E69DA652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461-C5BA-477A-BBE7-E470578A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4DE-DB15-4222-B453-E85DA392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026-C45A-4EAC-800D-3B976976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5AC-0C2D-4F83-AE75-1DDA6F43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B01E-0D9E-4EBF-B3C0-FF2F160D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817-31A7-4920-8847-B2E9BF50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DB5-FB97-49FB-BF9E-AF2A29F6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8D38-AD37-461A-8BDE-ED744FA2D7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EC72-332B-40CD-8291-654434414C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www.nikblo.ru/NOW/now0050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ruklinok.info/_uploads/_pics/2011/004/Article_00003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calorizator.ru/sites/default/files/product/pepper-2.jpg" TargetMode="External"/><Relationship Id="rId8" Type="http://schemas.openxmlformats.org/officeDocument/2006/relationships/image" Target="../media/image14.jpeg"/><Relationship Id="rId9" Type="http://schemas.openxmlformats.org/officeDocument/2006/relationships/slide" Target="slide6.xm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3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hyperlink" Target="http://detivislame.ru/wp-content/uploads/2009/12/vitamin.jpg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st-blog.info/wp-content/uploads/2010/09/b1_11.gif" TargetMode="External"/><Relationship Id="rId3" Type="http://schemas.openxmlformats.org/officeDocument/2006/relationships/image" Target="../media/image16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2/Beriberi_USNLM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viptur.wellnet.me/attachments/Image/Flora/vitamin/B1_s.jpg" TargetMode="External"/><Relationship Id="rId5" Type="http://schemas.openxmlformats.org/officeDocument/2006/relationships/image" Target="../media/image18.jpeg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op.med-post.ru/img/products/product_846_img_1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geo.1september.ru/2001/19/4_4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.lady.ru/images/assets/site/2009/08/Vkusno/18/bobovie_main.jpg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www.foragro.ru/images/krupa/1_pchenichnaya/krupa_1_pchenichnaya_1_h_orig.jpeg" TargetMode="External"/><Relationship Id="rId9" Type="http://schemas.openxmlformats.org/officeDocument/2006/relationships/image" Target="../media/image22.jpeg"/><Relationship Id="rId10" Type="http://schemas.openxmlformats.org/officeDocument/2006/relationships/slide" Target="slide12.xm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hyperlink" Target="http://www.your-eye.ru/wp-content/uploads/2009/11/vitamin-A-i-zdorovje-glaz.jpg" TargetMode="External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nbeauty.ru/imager.php/getnews/158/1360151891_104988_jpg" TargetMode="External"/><Relationship Id="rId3" Type="http://schemas.openxmlformats.org/officeDocument/2006/relationships/image" Target="../media/image24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taminn.ru/wp-content/themes/vitamin/images/header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ri.ru/wp-content/uploads/2010/12/a1-300x225.jpg" TargetMode="External"/><Relationship Id="rId3" Type="http://schemas.openxmlformats.org/officeDocument/2006/relationships/image" Target="../media/image25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ri.ru/wp-content/uploads/2010/12/a1-300x225.jpg" TargetMode="External"/><Relationship Id="rId3" Type="http://schemas.openxmlformats.org/officeDocument/2006/relationships/image" Target="../media/image26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36on.ru/uploads/Image/livestyle/0000094.jpg" TargetMode="External"/><Relationship Id="rId3" Type="http://schemas.openxmlformats.org/officeDocument/2006/relationships/image" Target="../media/image27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ady.ua/storage/images/kulinariya/kulinarnye-recepty/2010-01-17-recepty-moleculiarnoi-kuhni/kurinoe-yajco-kulinarnoe-chudo/584-1-rus-RU/Kurinoe-yajco-kulinarnoe-chudo_full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ovochi.com/admin/bindata/_0000741_foto.ico2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nmoment.ru/img/properties-parsley1.jpg" TargetMode="External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" Target="slide18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25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hyperlink" Target="http://mirsovetov.ru/images/1391/4.jpg" TargetMode="External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hivie-recepti.ru/wp-content/uploads/2011/04/vitamin-d-500x300.jpg" TargetMode="External"/><Relationship Id="rId3" Type="http://schemas.openxmlformats.org/officeDocument/2006/relationships/image" Target="../media/image34.jpeg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tivislame.ru/wp-content/uploads/2010/01/rahit_priznak.jpg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www.medikforum.ru/news/uploads/posts/2010-11/thumbs/1289649750_1.jpg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endocrinolog.narod.ru/images/osteoporosis_04.jpg" TargetMode="External"/><Relationship Id="rId7" Type="http://schemas.openxmlformats.org/officeDocument/2006/relationships/image" Target="../media/image37.jpeg"/><Relationship Id="rId8" Type="http://schemas.openxmlformats.org/officeDocument/2006/relationships/slide" Target="slide24.xml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rsovetov.ru/images/1391/3.jpg" TargetMode="External"/><Relationship Id="rId3" Type="http://schemas.openxmlformats.org/officeDocument/2006/relationships/image" Target="../media/image38.png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-woman.ru/wp-content/uploads/2010/04/vitamin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hyperlink" Target="http://www.jv.ru/i/indoc/90/enc_entry_26260_1273070301.jpg" TargetMode="External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40.png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sseva.ru/wp-content/uploads/2010/09/suhaya-kozha-litsa-foto.jpg" TargetMode="External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hyperlink" Target="http://www.cosmomir.ru/imgr/lt-facial-pigmentation-before-l.jpg" TargetMode="External"/><Relationship Id="rId6" Type="http://schemas.openxmlformats.org/officeDocument/2006/relationships/image" Target="../media/image44.jpeg"/><Relationship Id="rId7" Type="http://schemas.openxmlformats.org/officeDocument/2006/relationships/slide" Target="slide30.xml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st-blog.info/wp-content/uploads/2010/09/vitamine1.jpg" TargetMode="External"/><Relationship Id="rId3" Type="http://schemas.openxmlformats.org/officeDocument/2006/relationships/image" Target="../media/image45.jpeg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" Target="slide30.xm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-pitanie.ru/pic/vitamini/vitamini.gif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getway.info/uploads/vitamini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http://www.travniku.ru/store/image/zdch/vitamin_c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100vitaminov.ru/pic/cinga.jpg" TargetMode="External"/><Relationship Id="rId3" Type="http://schemas.openxmlformats.org/officeDocument/2006/relationships/image" Target="../media/image10.jpe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32000" y="2492280"/>
            <a:ext cx="648180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ВИТАМИНЫ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04000" y="4724280"/>
            <a:ext cx="234000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35120" y="33336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ТИТОВА МАРИНА СЕРГ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УЧИТЕЛЬ БИОЛОГИИ МКОУ СОШ № 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ар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теор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ли в области жив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шн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в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чные кам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шиповник (сухой) 1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черная смородина 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етрушка 19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перец зеленый 100 м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Экстракт шиповника с содержанием аскорбиновой кислоты не менее 5%"/>
          <p:cNvPicPr/>
          <p:nvPr/>
        </p:nvPicPr>
        <p:blipFill>
          <a:blip r:embed="rId2"/>
          <a:stretch/>
        </p:blipFill>
        <p:spPr>
          <a:xfrm>
            <a:off x="250920" y="4941720"/>
            <a:ext cx="1619280" cy="158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465300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65300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32720" y="2133720"/>
            <a:ext cx="2233440" cy="223344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9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ИТАМИН В</a:t>
            </a:r>
            <a:r>
              <a:rPr b="0" lang="en-US" sz="4400" spc="-1" strike="noStrike" u="sng" baseline="-25000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1 </a:t>
            </a:r>
            <a:r>
              <a:rPr b="0" lang="en-US" sz="4400" spc="-1" strike="noStrike" u="sng" baseline="-25000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(тиамин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6160" y="2997360"/>
            <a:ext cx="48578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 5 – 2, 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ышенные дозы витамина необходимы во время болезней и в период выздоровления, при высоких физических нагрузках, людям с гиперфункцией щитовидной железы, а также детям и пожилым людя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аствует в углеводном,  энергетическом, жировом, белковом и водно-солевом обме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казывает регулирующее воздействие на деятельность нервной систем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учшает умственные способности и настро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тимизирует работу моз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казывает положительное воздействие на ро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рмализует аппет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учшает способность к обучен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47840" cy="228600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и – бери (полиневри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Файл:Beriberi USNL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852640"/>
            <a:ext cx="3038400" cy="3791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зможны аллергические реакции, спаз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жение артериального дав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огда бывает индивидуальная непереносимость витамина В1 – появляется крапивница и кожный зу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ительное применение в больших дозах может привести к нарушению работы печени и поч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рожжи пивные 10000 – 170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рахис 7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хие стручковые овощи – 4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упа пшеничная  4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24280"/>
            <a:ext cx="2124000" cy="1857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24000" y="4365720"/>
            <a:ext cx="2425680" cy="2055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00720" y="4892760"/>
            <a:ext cx="2085840" cy="1965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20040" y="4149720"/>
            <a:ext cx="2523960" cy="168588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10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итамин А (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ретинол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56000" y="2492280"/>
            <a:ext cx="4211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точная потребность в ретиноле составляет  1 мг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нормального усвоения витамина необходимо употребление достаточного количества жир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3357720"/>
            <a:ext cx="4489200" cy="299232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7360" y="981000"/>
            <a:ext cx="9026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ИТАМИН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лат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ita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«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min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й азот)  - это органические соединения, которые в небольших количествах постоянно требуются для протекания биохимических реакций в организ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0920" y="2060640"/>
            <a:ext cx="5186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азывает влияние на рост человека улучшает состояние ко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ствует сопротивлению организма инфе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ивает рост и развитие эпителиальных кле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ходит в состав зрительного пигмента палочек сетчатки глаза - родопсина и зрительного пигмента колбочек - йодопсина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0"/>
            <a:ext cx="2266920" cy="170028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Сухость во рту и сухость кожи могут говорить о дефиците витамина 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Самое яркое проявление авитаминоза А – проявление «куриной слепоты», то есть невозможность видеть в темнот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&quot;Куриная слепота&quot; - самое яркое проявление авитаминоза 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28464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збыток витамина А у беременных приводит к врожденным уродствам у новорожденных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Передозировка витаминных комплексов с витамином А может привести к печеночной недостаточности и даже смерти. </a:t>
            </a:r>
            <a:br>
              <a:rPr sz="24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3933720"/>
            <a:ext cx="228780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чен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ру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Фрукты и овощи красного, или оранжевого цвета (Например, морковь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й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789360"/>
            <a:ext cx="2525760" cy="1682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4724280"/>
            <a:ext cx="216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24000" y="328464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Печень"/>
          <p:cNvPicPr/>
          <p:nvPr/>
        </p:nvPicPr>
        <p:blipFill>
          <a:blip r:embed="rId8"/>
          <a:stretch/>
        </p:blipFill>
        <p:spPr>
          <a:xfrm>
            <a:off x="250920" y="4724280"/>
            <a:ext cx="2303280" cy="180036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тамин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(кальциферол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4437000"/>
            <a:ext cx="23810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ен для усвоения  кальция в организме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могает поддерживать кости и зубы в здоровом состоян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ен для иммунной сис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Для чего нужен витамин Д?"/>
          <p:cNvPicPr/>
          <p:nvPr/>
        </p:nvPicPr>
        <p:blipFill>
          <a:blip r:embed="rId2"/>
          <a:stretch/>
        </p:blipFill>
        <p:spPr>
          <a:xfrm>
            <a:off x="4140360" y="4734000"/>
            <a:ext cx="2628720" cy="212400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взрослых 2,5 - 5,0 мкг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детей, в зависимости от возраста и пола 2,5 - 10,0 мк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грудных детей 7,5 - 10,0 мк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вышена потребность в витамине D выше у людей, испытывающих недостаток ультрафиолетового облуч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живающих в высоких широта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телей регионов с повышенной загрязненностью атмосфер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ботающих в ночную смену или просто ведущих ночной образ жиз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жачим больных, не бывающим на открытом воздух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 людей с темной кожей (негроидная раса, загорелые люди) синтез витамина D в коже снижа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692280"/>
            <a:ext cx="1547640" cy="131760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852640"/>
            <a:ext cx="2481480" cy="2665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2924280"/>
            <a:ext cx="2160360" cy="2663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96000" y="2852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1916280"/>
            <a:ext cx="47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детей рахит, деформация позвоночни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ержка в росте и разви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15400" y="198900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взрослых развитие остеопор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rId8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быточное потребление витамин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ожет привести к избыточной концентрации кальция. При этом кальций может проникать в стенки сосудов и провоцировать образование атеросклеротических бляш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сновной источник получения Витамина D – это  непосредственное нахождение под солнцем. Наша кожа производит данный витамин, когда солнце воздействует на не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ирная рыб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ичный желт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ыбий жи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843360"/>
            <a:ext cx="4464000" cy="30146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125360"/>
            <a:ext cx="374508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700280"/>
            <a:ext cx="129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125360"/>
            <a:ext cx="302436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ФЕРМЕ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АТАЛИЗАТОР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80" y="3068640"/>
            <a:ext cx="91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ФЕРМЕНТ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ТО БЕЛКОВЫЕ КАТАЛИЗАТОРЫ БИОХИМИЧЕСКИХ 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3645000"/>
            <a:ext cx="28800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тамин Е (токоферол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3933720"/>
            <a:ext cx="3024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зрослый человек в день должен потреблять около 10 мг витамина Е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ребность в витамине Е возрастает при беременности, интенсивной физической работе и в пожилом возра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80000" y="4724280"/>
            <a:ext cx="2232000" cy="181476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тамин E является антиоксидантом, который помогает защитить клетки от повреждения свободными радикалами кислоро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лико значение витамина для половой системы, поэтому его часто называют «витамином размножения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81200" cy="3333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сновные признаки его недостатка – апатия, сухость кожи и ломкость волос. Кроме того, на коже появляются мелкие морщины и пигментные пятна, могут появиться и обостриться кожные заболевания, например, экзема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500280"/>
            <a:ext cx="2828880" cy="2981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203640" y="364500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86680" y="3500280"/>
            <a:ext cx="2857320" cy="214344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rId7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тамин Е практически безопасен и нетоксичен. Но прием больших доз витамина может вызвать тошноту, расстройство желуд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005360"/>
            <a:ext cx="3810240" cy="24764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тительные мас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рехи и зер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ичный желто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которые  сорта жирной  ры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348000" y="4362480"/>
            <a:ext cx="3333960" cy="249552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640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ЛИТЕРАТУР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545640" y="3151440"/>
            <a:ext cx="601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3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70028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ru.wikipedia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hnb.com.ua/articles/s-zdorovie-vitamin_c_askorbinovaya_kislota-3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medfox.ru/archives/146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sunduk.ru/encycl/chemfood/c015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ladytoday.ru/gde-soderzhitsya-vitamin-d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59280" y="692280"/>
            <a:ext cx="3600360" cy="158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Broadway"/>
              </a:rPr>
              <a:t>ВИТАМ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56000" y="2133720"/>
            <a:ext cx="1224000" cy="158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060640"/>
            <a:ext cx="9352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3860640"/>
            <a:ext cx="3095640" cy="244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ВОДОРАСТВОР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ТАМИНЫ ГРУППЫ 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С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, РР, 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08720" y="3789360"/>
            <a:ext cx="3024000" cy="259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ЖИРОРАСТВОР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ТАМИНЫ А, Д, Е, 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53368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04000" y="189000"/>
            <a:ext cx="2340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аполните таблиц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1628640"/>
          <a:ext cx="8208720" cy="5043600"/>
        </p:xfrm>
        <a:graphic>
          <a:graphicData uri="http://schemas.openxmlformats.org/drawingml/2006/table">
            <a:tbl>
              <a:tblPr/>
              <a:tblGrid>
                <a:gridCol w="1800000"/>
                <a:gridCol w="1440000"/>
                <a:gridCol w="1800360"/>
                <a:gridCol w="1728720"/>
                <a:gridCol w="1439640"/>
              </a:tblGrid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витам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Суточ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до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заболевания, вызванного авитамино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заболевания, вызванного гипервитамино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Продукты, богатые витамин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 Black"/>
                <a:hlinkClick r:id="rId2" action="ppaction://hlinksldjump"/>
              </a:rPr>
              <a:t>ВИТАМИН С</a:t>
            </a: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 Black"/>
                <a:hlinkClick r:id="rId3" action="ppaction://hlinksldjump"/>
              </a:rPr>
              <a:t>_x000b_</a:t>
            </a: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(аскорбиновая кислот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СУТОЧНАЯ ПОТРЕБ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2781360"/>
            <a:ext cx="3635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 - 1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 ВРЕМЯ ПРОСТУДЫ ИЛИ БОЛЕЗНИ  150 – 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рильщики и престарелые люди имеют повышенную потребность в витамине С (одна выкуренная сигарета разрушает 25 мг С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00360" y="5191200"/>
            <a:ext cx="2303280" cy="166680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Способствует заживлению р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ротиводействует инфекц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овышает усвоение желе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Обладает ярко выраженными антиоксидантными свойств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Играет важную роль в поддержании нормального формирования сердечно – сосудистой системы, печени и других орг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Витамин C"/>
          <p:cNvPicPr/>
          <p:nvPr/>
        </p:nvPicPr>
        <p:blipFill>
          <a:blip r:embed="rId2"/>
          <a:stretch/>
        </p:blipFill>
        <p:spPr>
          <a:xfrm>
            <a:off x="0" y="115920"/>
            <a:ext cx="1195560" cy="148428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ЦИНГА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-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Болезнь , вызываемая недостатком витамина  С в организме и проявляющаяся в разрыхлении и кровоточности слизистой оболочки десен, в мышечно-сосудистых болях, слаб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3141720"/>
            <a:ext cx="271476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4:44:50Z</dcterms:created>
  <dc:creator>User</dc:creator>
  <dc:description/>
  <dc:language>en-US</dc:language>
  <cp:lastModifiedBy>Василий</cp:lastModifiedBy>
  <dcterms:modified xsi:type="dcterms:W3CDTF">2012-03-14T17:26:50Z</dcterms:modified>
  <cp:revision>13</cp:revision>
  <dc:subject/>
  <dc:title>Слайд 1</dc:title>
</cp:coreProperties>
</file>